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9.wmf" ContentType="image/x-wmf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41E-E39E-4BEF-8740-E5C870D3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A2B-E272-4F9C-8E07-F9E634E8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8EA-8E09-40D6-A62B-77C498B2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A22-978F-44B3-A809-F4FBA243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12EC-0C7F-49D6-A245-AD4FB6B7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9C91-C85D-42D0-A459-E5ECCC13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B020-12D8-4FF3-B3BA-0FAA9403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61A0-28A3-4E30-977E-5B8CA695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04F1-B70E-4072-AB57-1E8B86E6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0200-2E5F-45EF-9760-E9967D87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C3A3-C5C6-4843-812B-032BB703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483-90A5-4F4B-A124-7B612E22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A93C-3571-458A-9536-727BBC35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CC11-9510-4ADA-B17E-CED690E2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6CAF-99F9-411E-B8CE-ACE3C162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FD4F-58CA-4BE1-905A-5B97CF73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35A7-0EB6-4068-BCBC-389EEDD2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51E6-40C7-44CE-AD88-5F24825B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A1BA-0567-4615-8B5A-9F9463A4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9D84-41B7-4409-A031-0725E514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1299-686B-434D-A8A6-004D95E6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B585-6660-4446-9FE5-A6C47586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7D6-379A-496A-8479-0A8C6BFA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F18A-5EE6-4C5F-A146-A7B8F30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61AE-55FE-41A5-9398-4CA42BB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4D09-02B8-4E0E-90AA-DCE6DA01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D0E2-5A68-44F6-9A97-BCE60F81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BFBC-25AE-496E-8EE3-CCDFB70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58DD-B9E6-4448-9AB8-CF979799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A16A-464A-4D68-812E-BBFD5064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5BB-3667-4E70-9AB9-F50308A9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EF1-D0BF-48BD-BB2A-E9947D21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FA2-B7A0-45AF-9ED3-47C59179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173-3686-424C-B70B-38E55E19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5EC-8090-435E-A17E-F7EBFF4B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786-54E7-4597-8084-577EBB91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CEE9-B581-47DA-9C0C-532B90699B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7A5E-FB32-417B-87D5-F3899E7C8C1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D7BE-4E75-4697-938E-07682888A7A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img_url=http://cs421619.userapi.com/v421619535/2e6/LlcqLNFF3ho.jpg&amp;p=21&amp;text=&#1087;&#1088;&#1080;&#1085;&#1094;&#1080;&#1087;&#1099;%20%20&#1076;&#1077;&#1083;&#1086;&#1074;&#1086;&#1075;&#1086;%20&#1101;&#1090;&#1080;&#1082;&#1077;&#1090;&#1072;&amp;noreask=1&amp;pos=642&amp;lr=74&amp;rpt=simage&amp;noj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8;&#1080;&#1085;&#1094;&#1080;&#1087;&#1099;%20%20&#1076;&#1077;&#1083;&#1086;&#1074;&#1086;&#1075;&#1086;%20&#1101;&#1090;&#1080;&#1082;&#1077;&#1090;&#1072;&amp;noreask=1&amp;img_url=http://cs10647.userapi.com/u36541813/143530103/s_94c29b4b.jpg&amp;pos=27&amp;rpt=simage&amp;lr=74&amp;noj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8;&#1080;&#1085;&#1094;&#1080;&#1087;&#1099;%20%20&#1076;&#1077;&#1083;&#1086;&#1074;&#1086;&#1075;&#1086;%20&#1101;&#1090;&#1080;&#1082;&#1077;&#1090;&#1072;&amp;noreask=1&amp;img_url=http://www.etoya.ru/files/images/pub/part_0/14672/src/wst_045.jpg?400_603&amp;pos=0&amp;rpt=simage&amp;lr=74&amp;noj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a29e"/>
                </a:solidFill>
                <a:latin typeface="Arial"/>
              </a:rPr>
              <a:t>Открытый кураторский  час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Умеем ли мы общаться?»</a:t>
            </a:r>
            <a:br>
              <a:rPr sz="4000"/>
            </a:b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90760" y="4876920"/>
            <a:ext cx="4338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оставитель: социальный педагог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онстантинова М.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ahoma"/>
              </a:rPr>
              <a:t>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452960" y="304920"/>
            <a:ext cx="729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Министерство образования и науки Республики Саха (Якутия)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Государственное бюджетное профессиона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Республики Саха (Якутия) «Якутский  медицинский колледж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28" descr="untitle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657600"/>
            <a:ext cx="3581280" cy="2759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52320" y="60199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Якутск – 2017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9" descr="F:\Documents and Settings\Admin\Рабочий стол\Герб ЯМК.jpg"/>
          <p:cNvPicPr/>
          <p:nvPr/>
        </p:nvPicPr>
        <p:blipFill>
          <a:blip r:embed="rId2"/>
          <a:stretch/>
        </p:blipFill>
        <p:spPr>
          <a:xfrm>
            <a:off x="380880" y="3049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1600200" y="1143000"/>
            <a:ext cx="6095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ние для  команды II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2" name="Picture 7" descr="iCAL9CDAG"/>
          <p:cNvPicPr/>
          <p:nvPr/>
        </p:nvPicPr>
        <p:blipFill>
          <a:blip r:embed="rId1"/>
          <a:stretch/>
        </p:blipFill>
        <p:spPr>
          <a:xfrm>
            <a:off x="3352680" y="4267080"/>
            <a:ext cx="2524320" cy="1683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iCA68POXY"/>
          <p:cNvPicPr/>
          <p:nvPr/>
        </p:nvPicPr>
        <p:blipFill>
          <a:blip r:embed="rId2"/>
          <a:stretch/>
        </p:blipFill>
        <p:spPr>
          <a:xfrm>
            <a:off x="5943600" y="5029200"/>
            <a:ext cx="2371680" cy="1581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663480" y="3805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В характере, в манере, в стиле, во всем самое прекрасное – это просто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Г. Лонгфел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Навстречу идет «сладкая парочка», молодой человек прихлебывает на ходу пиво из банки, его спутница смачно грызет семечки. Что вы подумаете об их поведен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Нормальное поведение, мы сами так дела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Вообще-то это неправильно, но позволительно, сейчас все так себя ведут, я думаю,  у каждого голова на плеч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Это дурной тон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763200" y="30492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a29e"/>
                </a:solidFill>
                <a:latin typeface="Times New Roman"/>
              </a:rPr>
              <a:t>Вопрос 1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Times New Roman"/>
              </a:rPr>
              <a:t>Вопрос 2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 переполненный автобус входит пожилой человек. Ваша реакц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Останусь сидеть. Неизвестно, кто из нас больше устал за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Если рядом сидит крепкий мужчина или парень, попрошу его уступить мест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редложу свое место.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7" descr="iCA4E0MIW"/>
          <p:cNvPicPr/>
          <p:nvPr/>
        </p:nvPicPr>
        <p:blipFill>
          <a:blip r:embed="rId1"/>
          <a:stretch/>
        </p:blipFill>
        <p:spPr>
          <a:xfrm>
            <a:off x="5867280" y="4724280"/>
            <a:ext cx="175284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O02252_"/>
          <p:cNvPicPr/>
          <p:nvPr/>
        </p:nvPicPr>
        <p:blipFill>
          <a:blip r:embed="rId1"/>
          <a:stretch/>
        </p:blipFill>
        <p:spPr>
          <a:xfrm rot="21252000">
            <a:off x="2362320" y="990360"/>
            <a:ext cx="1066680" cy="1311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SO02055_"/>
          <p:cNvPicPr/>
          <p:nvPr/>
        </p:nvPicPr>
        <p:blipFill>
          <a:blip r:embed="rId2"/>
          <a:stretch/>
        </p:blipFill>
        <p:spPr>
          <a:xfrm>
            <a:off x="1447920" y="4495680"/>
            <a:ext cx="2170080" cy="16002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9"/>
          <p:cNvSpPr txBox="1"/>
          <p:nvPr/>
        </p:nvSpPr>
        <p:spPr>
          <a:xfrm>
            <a:off x="914400" y="1371600"/>
            <a:ext cx="784872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 этап: «Этикет в гостях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словиц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«В гости ходит – надо и к себе водить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«В чужом доме не будь приметным, а будь приветлив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6" descr="iCA5J5AJ9"/>
          <p:cNvPicPr/>
          <p:nvPr/>
        </p:nvPicPr>
        <p:blipFill>
          <a:blip r:embed="rId1"/>
          <a:stretch/>
        </p:blipFill>
        <p:spPr>
          <a:xfrm>
            <a:off x="4114800" y="3429000"/>
            <a:ext cx="1481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Содержание самостоятельной работы командам дается на компьютерах. Вам дается 2 вопроса и один сюжет фильм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Один из правильных вариантов ответов одного вопроса вы должны будит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разыгрывать как ситуативный момент.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Вам нужно готовить эту ситуац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о сюжету фильма вы должны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твечать на   вопрос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- Какие правила, этикета были соблюдены и какие ошибки допущены в показанном сюжете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ля защиты самостоятельной работы вам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нужно выбрать одного человека.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Работу защитите у экрана перед всеми. Сначала отвечаете на вопросы после будите разыгрывать ситуативный вариан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ам дается время на подготовку пока проводиться викторина для зрител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2057400" y="1143000"/>
            <a:ext cx="6400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cc0066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уждение ситуаци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50000">
                    <a:srgbClr val="cc0066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" y="297180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еосюжеты из фильма «Спеши любить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осле показа видеосюжетов каждая команда отвечает на   вопро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Какие правила этикета были соблюдены и какие ошибки допущены в показанном сюжете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447920" y="152388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для зрителе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1" name="Рисунок 22" descr="http://im2-tub-ru.yandex.net/i?id=349393261-70-72&amp;n=21">
            <a:hlinkClick r:id="rId1"/>
          </p:cNvPr>
          <p:cNvPicPr/>
          <p:nvPr/>
        </p:nvPicPr>
        <p:blipFill>
          <a:blip r:embed="rId2"/>
          <a:srcRect l="6221" t="0" r="9848" b="0"/>
          <a:stretch/>
        </p:blipFill>
        <p:spPr>
          <a:xfrm>
            <a:off x="2057400" y="4952880"/>
            <a:ext cx="1676520" cy="1163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1" descr="http://im3-tub-ru.yandex.net/i?id=124663378-45-72&amp;n=21"/>
          <p:cNvPicPr/>
          <p:nvPr/>
        </p:nvPicPr>
        <p:blipFill>
          <a:blip r:embed="rId3"/>
          <a:stretch/>
        </p:blipFill>
        <p:spPr>
          <a:xfrm>
            <a:off x="609480" y="144792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5" descr="http://im8-tub-ru.yandex.net/i?id=179977268-09-72&amp;n=21"/>
          <p:cNvPicPr/>
          <p:nvPr/>
        </p:nvPicPr>
        <p:blipFill>
          <a:blip r:embed="rId4"/>
          <a:stretch/>
        </p:blipFill>
        <p:spPr>
          <a:xfrm>
            <a:off x="5562720" y="5029200"/>
            <a:ext cx="19555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29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230976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WordArt 7"/>
          <p:cNvSpPr txBox="1"/>
          <p:nvPr/>
        </p:nvSpPr>
        <p:spPr>
          <a:xfrm>
            <a:off x="1905120" y="1371600"/>
            <a:ext cx="49528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е для команды I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3566880" y="456840"/>
            <a:ext cx="47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Не по цене подарок ценен, а по дарящему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Ови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Ты пришел к приятелю в гости, а он празднует день рождение. Как вы поступи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Извиняюсь и уй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оздравлю именинника, извинюсь и,  если пригласят, остану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Сделаю приятелям выговор, что не известили меня за ранее и пообещаю купить подарок, прежде чем принять приглаш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a29e"/>
                </a:solidFill>
                <a:latin typeface="Times New Roman"/>
              </a:rPr>
              <a:t>Вопрос 1.</a:t>
            </a: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 современном рынке труда все больше ст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ценить не только профессиональные компетенции, но этические аспекты профессиональной деятельности челове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Речь идет о  личностных, человеческих, гражданских и нравственных качествах личности, потому что в нашем мире все строится и созидается  взаимоотношениях между людь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едь всегда приятно иметь дело с вежливыми, воспитанными людьми. Человек своим поведением и внешним видом не должен доставлять неудобства окружающим людя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12" descr="http://im3-tub-ru.yandex.net/i?id=451156591-5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558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1676520" y="685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Делайте так, чтобы людям, которые окружают вас, было хорош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К тебе в гости пришел приятель, который не нравится к твоим родителям. Как следует поступ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Честно скажу, что родители против его посещ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Не пущу его дальше порога, скорее попрощаю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редложу сходить куда - нибудь – где можно пообщатьс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39160" y="189000"/>
            <a:ext cx="22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Times New Roman"/>
              </a:rPr>
              <a:t>Вопрос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5"/>
          <p:cNvSpPr txBox="1"/>
          <p:nvPr/>
        </p:nvSpPr>
        <p:spPr>
          <a:xfrm>
            <a:off x="1981080" y="1295280"/>
            <a:ext cx="513396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е для команды II:</a:t>
            </a:r>
            <a:endParaRPr b="1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2" name="Picture 9" descr="iCA0TDL5Z"/>
          <p:cNvPicPr/>
          <p:nvPr/>
        </p:nvPicPr>
        <p:blipFill>
          <a:blip r:embed="rId1"/>
          <a:stretch/>
        </p:blipFill>
        <p:spPr>
          <a:xfrm>
            <a:off x="3429000" y="3276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0"/>
          <p:cNvSpPr/>
          <p:nvPr/>
        </p:nvSpPr>
        <p:spPr>
          <a:xfrm>
            <a:off x="609480" y="3808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Times New Roman"/>
              </a:rPr>
              <a:t>«Учтивость и скромность свидетельствуют о подлинной просвещенности челове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cc0000"/>
                </a:solidFill>
                <a:latin typeface="Times New Roman"/>
              </a:rPr>
              <a:t>О. Бальзак</a:t>
            </a:r>
            <a:r>
              <a:rPr b="0" i="1" lang="ru-RU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2. Представь себе, что в компании товарищей, ты рассказываешь какую – либо историю, а тебя не слушают, и перебивают. Как ты поступишь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Попрошу, не мешать мне рассказыват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Спрошу, продолжать ли мне рассказ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Перестану рассказыват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ригинальный способ сервировки стола был в ходу при королевских дворах. В наши дни вилка, ложка и нож при еде необходимы.  А в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VI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веке это было новомодным изобретением. Вилки делались из золота или слоновой кости. Встретить их было только очень богатых дом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Так что нам повезло, у нас есть салфетки, вилки, ложки и нож, остается только уметь использовать этим богатств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ледующий наш конкурс называется 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«Где блины, там и мы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Times New Roman"/>
              </a:rPr>
              <a:t>Игра: «Где блины, там и мы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cc0000"/>
                </a:solidFill>
                <a:latin typeface="Times New Roman"/>
              </a:rPr>
              <a:t>Каждому из игроков выдается вилки и ложки. Ведущий называет кушанья, игроки поднимают тот прибор, которым нужно есть это блю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Monotype Corsiva"/>
              </a:rPr>
              <a:t>Этап:</a:t>
            </a: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 «Позвони, мне позвони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iCAUKHB6N"/>
          <p:cNvPicPr/>
          <p:nvPr/>
        </p:nvPicPr>
        <p:blipFill>
          <a:blip r:embed="rId1"/>
          <a:stretch/>
        </p:blipFill>
        <p:spPr>
          <a:xfrm>
            <a:off x="3429000" y="2438280"/>
            <a:ext cx="2448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 современном мире: очень удобным и распространенным средством связи ста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товый телефон.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 древние времена, когда  телефона не было, но еще тогда существовали правила вежливого общения, которые не потеряли своей актуальности до нашего врем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мобил"/>
          <p:cNvPicPr/>
          <p:nvPr/>
        </p:nvPicPr>
        <p:blipFill>
          <a:blip r:embed="rId1"/>
          <a:stretch/>
        </p:blipFill>
        <p:spPr>
          <a:xfrm rot="20376000">
            <a:off x="3352320" y="48006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Послови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Говори да, не проговарив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Не из чести переносят ве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iCAH12R6Q"/>
          <p:cNvPicPr/>
          <p:nvPr/>
        </p:nvPicPr>
        <p:blipFill>
          <a:blip r:embed="rId1"/>
          <a:srcRect l="0" t="0" r="0" b="3956"/>
          <a:stretch/>
        </p:blipFill>
        <p:spPr>
          <a:xfrm>
            <a:off x="2895480" y="3200400"/>
            <a:ext cx="31244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iCA30EQP5"/>
          <p:cNvPicPr/>
          <p:nvPr/>
        </p:nvPicPr>
        <p:blipFill>
          <a:blip r:embed="rId1"/>
          <a:stretch/>
        </p:blipFill>
        <p:spPr>
          <a:xfrm>
            <a:off x="3352680" y="3505320"/>
            <a:ext cx="2886120" cy="20127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7"/>
          <p:cNvSpPr txBox="1"/>
          <p:nvPr/>
        </p:nvSpPr>
        <p:spPr>
          <a:xfrm>
            <a:off x="990720" y="1295280"/>
            <a:ext cx="7467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ние для команды II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33520" y="9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Юных лет приучайся прощать проступки близких и никогда не прощ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своих собстве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А. В. Суворов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Если вы звоните к знакомой, а к телефону подходит кто-либо из ее семьи, что следует сказ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33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тикет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– это совокупность правил поведения, регулирующих внешние проявления человеческих взаимоотношений (обхождение с окружающими, формы общения и приветствия, поведение в общественных местах, манеры и одежда) в той социальной среде, в которой живет человек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03" name="Picture 5" descr="i[7]"/>
          <p:cNvPicPr/>
          <p:nvPr/>
        </p:nvPicPr>
        <p:blipFill>
          <a:blip r:embed="rId1"/>
          <a:stretch/>
        </p:blipFill>
        <p:spPr>
          <a:xfrm>
            <a:off x="5410080" y="4343400"/>
            <a:ext cx="1387440" cy="160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iCAP6FH1C"/>
          <p:cNvPicPr/>
          <p:nvPr/>
        </p:nvPicPr>
        <p:blipFill>
          <a:blip r:embed="rId2"/>
          <a:stretch/>
        </p:blipFill>
        <p:spPr>
          <a:xfrm>
            <a:off x="1905120" y="4191120"/>
            <a:ext cx="2286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Вопрос 2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бязательно ли здороваться и прощаться при телефонном звонк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Вопрос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Можно ли по телефону поздравлять с праздником и выражать свое соболезновани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8"/>
          <p:cNvSpPr txBox="1"/>
          <p:nvPr/>
        </p:nvSpPr>
        <p:spPr>
          <a:xfrm>
            <a:off x="914400" y="1676520"/>
            <a:ext cx="7467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ние для команды I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5" name="Picture 9" descr="iCAZSYAFL"/>
          <p:cNvPicPr/>
          <p:nvPr/>
        </p:nvPicPr>
        <p:blipFill>
          <a:blip r:embed="rId1"/>
          <a:stretch/>
        </p:blipFill>
        <p:spPr>
          <a:xfrm>
            <a:off x="3352680" y="3460680"/>
            <a:ext cx="2667240" cy="17780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454320" y="304200"/>
            <a:ext cx="81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Единственная настоящая роскошь – это роскошь человеческого общ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А. Сент-Экзюп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80"/>
                </a:solidFill>
                <a:latin typeface="Times New Roman"/>
              </a:rPr>
              <a:t>Вопрос 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бязательно ли представляться, позвонив по телефону?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80"/>
                </a:solidFill>
                <a:latin typeface="Times New Roman"/>
              </a:rPr>
              <a:t>Вопрос 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ожно ли по телефону, спрашивать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Кто говорит?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А кто это?» и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Кто у телефона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80"/>
                </a:solidFill>
                <a:latin typeface="Times New Roman"/>
              </a:rPr>
              <a:t>Вопрос 3.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Как следует поступить, если вам позвонили по телефону, а у вас гости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Times New Roman"/>
              </a:rPr>
              <a:t>Блицтурн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Цель: закрепление правил повед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Инструкц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 блицтурнире участвуют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Нужно отвечать на вопросы сразу, то есть быст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Times New Roman"/>
              </a:rPr>
              <a:t>До свидания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j0341499"/>
          <p:cNvPicPr/>
          <p:nvPr/>
        </p:nvPicPr>
        <p:blipFill>
          <a:blip r:embed="rId1"/>
          <a:stretch/>
        </p:blipFill>
        <p:spPr>
          <a:xfrm>
            <a:off x="457200" y="457200"/>
            <a:ext cx="1676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ыделяют следующие  принципы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делового этикета:</a:t>
            </a:r>
            <a:br>
              <a:rPr sz="3200"/>
            </a:b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нцип разумного эгоизма (выполняя свои рабочие функции, не мешай другим выполнять сво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нцип позитивности (если нечего сказать приятного или положительного, лучше промолчать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нцип предсказуемости поведения в различных ситуациях (следуя правилам делового этикета, вы должны быть постоянным и надежным, всегда выполнять свои обязательства, и знать, как себя вести)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а работе нет мужчин и женщин, есть только статусные различия (базисные правила гражданского этикета не переносятся в деловой этикет, например, деловые женщины должны при необходимости не только открывать двери сами, но и пропускать вперед других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нцип уместности – определенные правила  в определенное время, в определенном месте, с определенными людьми (например, на деловой ужин с лицом противоположного пола женщине не следует надевать вечерний наряд, чтобы не создавать впечатления, что у нее к партнеру не деловой, а личный интерес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rcRect l="3940" t="0" r="0" b="5244"/>
          <a:stretch/>
        </p:blipFill>
        <p:spPr>
          <a:xfrm>
            <a:off x="6477120" y="4343400"/>
            <a:ext cx="214632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imagesCA97EJRP"/>
          <p:cNvPicPr/>
          <p:nvPr/>
        </p:nvPicPr>
        <p:blipFill>
          <a:blip r:embed="rId2"/>
          <a:srcRect l="2702" t="0" r="0" b="6797"/>
          <a:stretch/>
        </p:blipFill>
        <p:spPr>
          <a:xfrm>
            <a:off x="533520" y="4724280"/>
            <a:ext cx="2747880" cy="18288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/>
          <p:cNvSpPr/>
          <p:nvPr/>
        </p:nvSpPr>
        <p:spPr>
          <a:xfrm>
            <a:off x="1066680" y="457200"/>
            <a:ext cx="5715000" cy="4038480"/>
          </a:xfrm>
          <a:prstGeom prst="wedgeRectCallout">
            <a:avLst>
              <a:gd name="adj1" fmla="val 48833"/>
              <a:gd name="adj2" fmla="val 87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48520" y="571500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Этап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«Этикет улицы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«Этикет в гостях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кторина для зр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гра – разми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«Позвони мне, позвони!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лицтурни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тог деловой иг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Times New Roman"/>
              </a:rPr>
              <a:t>Пословицы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«Худое дело обидеть соседа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«От учтивых слов, язык не отсохнет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4" descr="iCA8D3DNV"/>
          <p:cNvPicPr/>
          <p:nvPr/>
        </p:nvPicPr>
        <p:blipFill>
          <a:blip r:embed="rId1"/>
          <a:stretch/>
        </p:blipFill>
        <p:spPr>
          <a:xfrm>
            <a:off x="3124080" y="34290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5"/>
          <p:cNvSpPr txBox="1"/>
          <p:nvPr/>
        </p:nvSpPr>
        <p:spPr>
          <a:xfrm>
            <a:off x="1295280" y="1600200"/>
            <a:ext cx="6400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ние для  команды I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6" name="Рисунок 13" descr="http://im8-tub-ru.yandex.net/i?id=58044131-3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426708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9"/>
          <p:cNvSpPr/>
          <p:nvPr/>
        </p:nvSpPr>
        <p:spPr>
          <a:xfrm>
            <a:off x="225360" y="532800"/>
            <a:ext cx="86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Истинная вежливость заключается в благожелательном отношении к людя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Жан –Жак Ру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Times New Roman"/>
              </a:rPr>
              <a:t>Вопрос 1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Как вы поведете себя при встрече на улице со своими знакомы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На ходу крикну «привет!» или помашу рукой. Захочу пообщаться - остановлю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оздороваюсь. В большой толпе или в общественном транспорте просто улыбнусь и кивн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осле приветствие слегка замедлю шаг, представляя знакомым самим проявлять инициатив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Times New Roman"/>
              </a:rPr>
              <a:t>Вопрос 2.</a:t>
            </a:r>
            <a:br>
              <a:rPr sz="4000"/>
            </a:b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72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ы стоите перед дверями  магазина или учреждения. Люди входят и выходят.  Кто кого должен про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Всем уступать дорогу – до вечера прожде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раво первенства принадлежит входящему с у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Если я снаружи, пропущу выходящих – преимущество за ним.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04-24T03:13:3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