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4.wmf" ContentType="image/x-wmf"/>
  <Override PartName="/ppt/media/image5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9.wmf" ContentType="image/x-wmf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778-9794-4011-A44B-E7E59D90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B39-9183-4BA8-BB52-B5A5355F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45D-B509-48EA-AE37-D0A0ED02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10E-36F0-4348-B0FE-77B294BA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FCFD-D240-4FD7-9DC8-44796DA4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18D4-F578-4B2C-B31F-C29808E9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9B79-6FA8-4DD3-81A7-453B29D2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9E92-29EF-49E3-BEDB-E7602DCC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DB4D-C016-46DC-8677-37219D7C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27E7-C5D8-4ACD-9903-34F676BB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7C0F-F00A-43EC-BB23-3F3DEBDA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CA7-C8FE-4FF4-B486-F115949C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9E04-EB03-4DC8-851E-0822B3EC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44A9-30CA-4B03-B8EA-BF794808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B895-78AF-48BB-AD40-B564DBE1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7B3C-2A0A-482A-9A92-BB320FDA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2FAF-33DB-42BC-987D-EAE13D5B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28B3-1799-4CF4-ACC3-8EEBD3EA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30A2-6FF5-4782-A62C-535C63F2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97AF8-D464-4991-8B65-51599B74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0A42-2CE5-483B-AEDD-E90FCB58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68D70-0C23-4267-A9F0-AAE4A752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2B9-44F7-45C9-AF69-D1D167FE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BE8F-83A0-4C64-90D9-A49F6847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C4701-1E26-41C6-8942-774EEEC9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B3EF6-38FF-4148-952B-6F0BC2F3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3C189-B98A-4FDF-91DB-7D06F531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E1C04-86AD-4A94-8565-D2DD684A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B2658-BEA9-44E9-9D63-1666C705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8DD08-A2BC-41BD-9381-98EAD3A3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F69-7B5E-479A-B754-C3736BE9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E16-13BF-4E30-952A-D2157C73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154-9509-4C69-9817-7288EB4C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1E3-BCC0-413F-A0FF-01A93701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3C1-AD6A-417B-B9AF-25CBA052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E86-52FF-4A14-949C-3D8998F3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D565-1709-49C8-B53A-5A30A20709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2E69-3E0D-4699-9E06-4BF4F75FF58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6A34-D982-4C79-8B2F-756C875852D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img_url=http://cs421619.userapi.com/v421619535/2e6/LlcqLNFF3ho.jpg&amp;p=21&amp;text=&#1087;&#1088;&#1080;&#1085;&#1094;&#1080;&#1087;&#1099;%20%20&#1076;&#1077;&#1083;&#1086;&#1074;&#1086;&#1075;&#1086;%20&#1101;&#1090;&#1080;&#1082;&#1077;&#1090;&#1072;&amp;noreask=1&amp;pos=642&amp;lr=74&amp;rpt=simage&amp;noj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8;&#1080;&#1085;&#1094;&#1080;&#1087;&#1099;%20%20&#1076;&#1077;&#1083;&#1086;&#1074;&#1086;&#1075;&#1086;%20&#1101;&#1090;&#1080;&#1082;&#1077;&#1090;&#1072;&amp;noreask=1&amp;img_url=http://cs10647.userapi.com/u36541813/143530103/s_94c29b4b.jpg&amp;pos=27&amp;rpt=simage&amp;lr=74&amp;noj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8;&#1080;&#1085;&#1094;&#1080;&#1087;&#1099;%20%20&#1076;&#1077;&#1083;&#1086;&#1074;&#1086;&#1075;&#1086;%20&#1101;&#1090;&#1080;&#1082;&#1077;&#1090;&#1072;&amp;noreask=1&amp;img_url=http://www.etoya.ru/files/images/pub/part_0/14672/src/wst_045.jpg?400_603&amp;pos=0&amp;rpt=simage&amp;lr=74&amp;noj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a29e"/>
                </a:solidFill>
                <a:latin typeface="Arial"/>
              </a:rPr>
              <a:t>Открытый кураторский  час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Умеем ли мы общаться?»</a:t>
            </a:r>
            <a:br>
              <a:rPr sz="4000"/>
            </a:b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90760" y="4876920"/>
            <a:ext cx="4338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оставитель: социальный педагог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            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Константинова М.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ahoma"/>
              </a:rPr>
              <a:t>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1452960" y="304920"/>
            <a:ext cx="729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Министерство образования и науки Республики Саха (Якутия)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Государственное бюджетное профессиона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Республики Саха (Якутия) «Якутский  медицинский колледж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28" descr="untitle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3657600"/>
            <a:ext cx="3581280" cy="2759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52320" y="60199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Якутск – 2017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9" descr="F:\Documents and Settings\Admin\Рабочий стол\Герб ЯМК.jpg"/>
          <p:cNvPicPr/>
          <p:nvPr/>
        </p:nvPicPr>
        <p:blipFill>
          <a:blip r:embed="rId2"/>
          <a:stretch/>
        </p:blipFill>
        <p:spPr>
          <a:xfrm>
            <a:off x="380880" y="3049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>
            <a:off x="1600200" y="1143000"/>
            <a:ext cx="6095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дание для  команды II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2" name="Picture 7" descr="iCAL9CDAG"/>
          <p:cNvPicPr/>
          <p:nvPr/>
        </p:nvPicPr>
        <p:blipFill>
          <a:blip r:embed="rId1"/>
          <a:stretch/>
        </p:blipFill>
        <p:spPr>
          <a:xfrm>
            <a:off x="3352680" y="4267080"/>
            <a:ext cx="2524320" cy="1683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iCA68POXY"/>
          <p:cNvPicPr/>
          <p:nvPr/>
        </p:nvPicPr>
        <p:blipFill>
          <a:blip r:embed="rId2"/>
          <a:stretch/>
        </p:blipFill>
        <p:spPr>
          <a:xfrm>
            <a:off x="5943600" y="5029200"/>
            <a:ext cx="2371680" cy="15811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9"/>
          <p:cNvSpPr/>
          <p:nvPr/>
        </p:nvSpPr>
        <p:spPr>
          <a:xfrm>
            <a:off x="663480" y="3805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«В характере, в манере, в стиле, во всем самое прекрасное – это просто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Г. Лонгфел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Навстречу идет «сладкая парочка», молодой человек прихлебывает на ходу пиво из банки, его спутница смачно грызет семечки. Что вы подумаете об их поведен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Нормальное поведение, мы сами так дела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Вообще-то это неправильно, но позволительно, сейчас все так себя ведут, я думаю,  у каждого голова на плеч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Это дурной тон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763200" y="304920"/>
            <a:ext cx="25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a29e"/>
                </a:solidFill>
                <a:latin typeface="Times New Roman"/>
              </a:rPr>
              <a:t>Вопрос 1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Times New Roman"/>
              </a:rPr>
              <a:t>Вопрос 2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 переполненный автобус входит пожилой человек. Ваша реакц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Останусь сидеть. Неизвестно, кто из нас больше устал за д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Если рядом сидит крепкий мужчина или парень, попрошу его уступить мест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Предложу свое место.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7" descr="iCA4E0MIW"/>
          <p:cNvPicPr/>
          <p:nvPr/>
        </p:nvPicPr>
        <p:blipFill>
          <a:blip r:embed="rId1"/>
          <a:stretch/>
        </p:blipFill>
        <p:spPr>
          <a:xfrm>
            <a:off x="5867280" y="4724280"/>
            <a:ext cx="175284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SO02252_"/>
          <p:cNvPicPr/>
          <p:nvPr/>
        </p:nvPicPr>
        <p:blipFill>
          <a:blip r:embed="rId1"/>
          <a:stretch/>
        </p:blipFill>
        <p:spPr>
          <a:xfrm rot="21252000">
            <a:off x="2362320" y="990360"/>
            <a:ext cx="1066680" cy="1311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SO02055_"/>
          <p:cNvPicPr/>
          <p:nvPr/>
        </p:nvPicPr>
        <p:blipFill>
          <a:blip r:embed="rId2"/>
          <a:stretch/>
        </p:blipFill>
        <p:spPr>
          <a:xfrm>
            <a:off x="1447920" y="4495680"/>
            <a:ext cx="2170080" cy="1600200"/>
          </a:xfrm>
          <a:prstGeom prst="rect">
            <a:avLst/>
          </a:prstGeom>
          <a:ln w="0">
            <a:noFill/>
          </a:ln>
        </p:spPr>
      </p:pic>
      <p:sp>
        <p:nvSpPr>
          <p:cNvPr id="232" name="WordArt 9"/>
          <p:cNvSpPr txBox="1"/>
          <p:nvPr/>
        </p:nvSpPr>
        <p:spPr>
          <a:xfrm>
            <a:off x="914400" y="1371600"/>
            <a:ext cx="784872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 этап: «Этикет в гостях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словицы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«В гости ходит – надо и к себе водить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«В чужом доме не будь приметным, а будь приветлив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6" descr="iCA5J5AJ9"/>
          <p:cNvPicPr/>
          <p:nvPr/>
        </p:nvPicPr>
        <p:blipFill>
          <a:blip r:embed="rId1"/>
          <a:stretch/>
        </p:blipFill>
        <p:spPr>
          <a:xfrm>
            <a:off x="4114800" y="3429000"/>
            <a:ext cx="1481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Содержание самостоятельной работы командам дается на компьютерах. Вам дается 2 вопроса и один сюжет фильм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Один из правильных вариантов ответов одного вопроса вы должны будит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разыгрывать как ситуативный момент.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 Вам нужно готовить эту ситуаци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о сюжету фильма вы должны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твечать на   вопрос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- Какие правила, этикета были соблюдены и какие ошибки допущены в показанном сюжете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Для защиты самостоятельной работы вам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нужно выбрать одного человека.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 Работу защитите у экрана перед всеми. Сначала отвечаете на вопросы после будите разыгрывать ситуативный вариан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Вам дается время на подготовку пока проводиться викторина для зрител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2057400" y="1143000"/>
            <a:ext cx="6400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50000">
                      <a:srgbClr val="cc0066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уждение ситуаций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50000">
                    <a:srgbClr val="cc0066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57200" y="297180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деосюжеты из фильма «Спеши любить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После показа видеосюжетов каждая команда отвечает на   вопро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Какие правила этикета были соблюдены и какие ошибки допущены в показанном сюжете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1447920" y="1523880"/>
            <a:ext cx="5943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Виктори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для зрителе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1" name="Рисунок 22" descr="http://im2-tub-ru.yandex.net/i?id=349393261-70-72&amp;n=21">
            <a:hlinkClick r:id="rId1"/>
          </p:cNvPr>
          <p:cNvPicPr/>
          <p:nvPr/>
        </p:nvPicPr>
        <p:blipFill>
          <a:blip r:embed="rId2"/>
          <a:srcRect l="6221" t="0" r="9848" b="0"/>
          <a:stretch/>
        </p:blipFill>
        <p:spPr>
          <a:xfrm>
            <a:off x="2057400" y="4952880"/>
            <a:ext cx="1676520" cy="11638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1" descr="http://im3-tub-ru.yandex.net/i?id=124663378-45-72&amp;n=21"/>
          <p:cNvPicPr/>
          <p:nvPr/>
        </p:nvPicPr>
        <p:blipFill>
          <a:blip r:embed="rId3"/>
          <a:stretch/>
        </p:blipFill>
        <p:spPr>
          <a:xfrm>
            <a:off x="609480" y="144792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5" descr="http://im8-tub-ru.yandex.net/i?id=179977268-09-72&amp;n=21"/>
          <p:cNvPicPr/>
          <p:nvPr/>
        </p:nvPicPr>
        <p:blipFill>
          <a:blip r:embed="rId4"/>
          <a:stretch/>
        </p:blipFill>
        <p:spPr>
          <a:xfrm>
            <a:off x="5562720" y="5029200"/>
            <a:ext cx="19555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29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2309760" cy="2362320"/>
          </a:xfrm>
          <a:prstGeom prst="rect">
            <a:avLst/>
          </a:prstGeom>
          <a:ln w="0">
            <a:noFill/>
          </a:ln>
        </p:spPr>
      </p:pic>
      <p:sp>
        <p:nvSpPr>
          <p:cNvPr id="245" name="WordArt 7"/>
          <p:cNvSpPr txBox="1"/>
          <p:nvPr/>
        </p:nvSpPr>
        <p:spPr>
          <a:xfrm>
            <a:off x="1905120" y="1371600"/>
            <a:ext cx="495288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е для команды I: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3566880" y="456840"/>
            <a:ext cx="47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«Не по цене подарок ценен, а по дарящему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Ови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Ты пришел к приятелю в гости, а он празднует день рождение. Как вы поступит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Извиняюсь и уйд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Поздравлю именинника, извинюсь и,  если пригласят, останус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Сделаю приятелям выговор, что не известили меня за ранее и пообещаю купить подарок, прежде чем принять приглаш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a29e"/>
                </a:solidFill>
                <a:latin typeface="Times New Roman"/>
              </a:rPr>
              <a:t>Вопрос 1.</a:t>
            </a: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В современном рынке труда все больше ста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ценить не только профессиональные компетенции, но этические аспекты профессиональной деятельности челове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Речь идет о  личностных, человеческих, гражданских и нравственных качествах личности, потому что в нашем мире все строится и созидается  взаимоотношениях между людь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Ведь всегда приятно иметь дело с вежливыми, воспитанными людьми. Человек своим поведением и внешним видом не должен доставлять неудобства окружающим людя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12" descr="http://im3-tub-ru.yandex.net/i?id=451156591-5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5588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1676520" y="6858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«Делайте так, чтобы людям, которые окружают вас, было хорош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</a:t>
            </a: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В.А. 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К тебе в гости пришел приятель, который не нравится к твоим родителям. Как следует поступ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Честно скажу, что родители против его посеще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Не пущу его дальше порога, скорее попрощаюс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Предложу сходить куда - нибудь – где можно пообщатьс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39160" y="189000"/>
            <a:ext cx="22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Times New Roman"/>
              </a:rPr>
              <a:t>Вопрос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5"/>
          <p:cNvSpPr txBox="1"/>
          <p:nvPr/>
        </p:nvSpPr>
        <p:spPr>
          <a:xfrm>
            <a:off x="1981080" y="1295280"/>
            <a:ext cx="513396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е для команды II:</a:t>
            </a:r>
            <a:endParaRPr b="1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2" name="Picture 9" descr="iCA0TDL5Z"/>
          <p:cNvPicPr/>
          <p:nvPr/>
        </p:nvPicPr>
        <p:blipFill>
          <a:blip r:embed="rId1"/>
          <a:stretch/>
        </p:blipFill>
        <p:spPr>
          <a:xfrm>
            <a:off x="3429000" y="327672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0"/>
          <p:cNvSpPr/>
          <p:nvPr/>
        </p:nvSpPr>
        <p:spPr>
          <a:xfrm>
            <a:off x="609480" y="3808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00"/>
                </a:solidFill>
                <a:latin typeface="Times New Roman"/>
              </a:rPr>
              <a:t>«Учтивость и скромность свидетельствуют о подлинной просвещенности человек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cc0000"/>
                </a:solidFill>
                <a:latin typeface="Times New Roman"/>
              </a:rPr>
              <a:t>О. Бальзак</a:t>
            </a:r>
            <a:r>
              <a:rPr b="0" i="1" lang="ru-RU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2. Представь себе, что в компании товарищей, ты рассказываешь какую – либо историю, а тебя не слушают, и перебивают. Как ты поступишь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 Попрошу, не мешать мне рассказывать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Б.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 Спрошу, продолжать ли мне рассказ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 Перестану рассказывать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ригинальный способ сервировки стола был в ходу при королевских дворах. В наши дни вилка, ложка и нож при еде необходимы.  А в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VI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веке это было новомодным изобретением. Вилки делались из золота или слоновой кости. Встретить их было только очень богатых дома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Так что нам повезло, у нас есть салфетки, вилки, ложки и нож, остается только уметь использовать этим богатство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ледующий наш конкурс называется  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«Где блины, там и мы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Times New Roman"/>
              </a:rPr>
              <a:t>Игра: «Где блины, там и мы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i="1" lang="ru-RU" sz="4000" spc="-1" strike="noStrike">
                <a:solidFill>
                  <a:srgbClr val="cc0000"/>
                </a:solidFill>
                <a:latin typeface="Times New Roman"/>
              </a:rPr>
              <a:t>Каждому из игроков выдается вилки и ложки. Ведущий называет кушанья, игроки поднимают тот прибор, которым нужно есть это блю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3452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Monotype Corsiva"/>
              </a:rPr>
              <a:t>Этап:</a:t>
            </a:r>
            <a:r>
              <a:rPr b="1" lang="ru-RU" sz="5400" spc="-1" strike="noStrike">
                <a:solidFill>
                  <a:srgbClr val="cc0000"/>
                </a:solidFill>
                <a:latin typeface="Monotype Corsiva"/>
              </a:rPr>
              <a:t> «Позвони, мне позвони!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iCAUKHB6N"/>
          <p:cNvPicPr/>
          <p:nvPr/>
        </p:nvPicPr>
        <p:blipFill>
          <a:blip r:embed="rId1"/>
          <a:stretch/>
        </p:blipFill>
        <p:spPr>
          <a:xfrm>
            <a:off x="3429000" y="2438280"/>
            <a:ext cx="24480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 современном мире: очень удобным и распространенным средством связи стал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отовый телефон.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 древние времена, когда  телефона не было, но еще тогда существовали правила вежливого общения, которые не потеряли своей актуальности до нашего време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мобил"/>
          <p:cNvPicPr/>
          <p:nvPr/>
        </p:nvPicPr>
        <p:blipFill>
          <a:blip r:embed="rId1"/>
          <a:stretch/>
        </p:blipFill>
        <p:spPr>
          <a:xfrm rot="20376000">
            <a:off x="3352320" y="48006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Пословиц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Говори да, не проговарив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Не из чести переносят ве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iCAH12R6Q"/>
          <p:cNvPicPr/>
          <p:nvPr/>
        </p:nvPicPr>
        <p:blipFill>
          <a:blip r:embed="rId1"/>
          <a:srcRect l="0" t="0" r="0" b="3956"/>
          <a:stretch/>
        </p:blipFill>
        <p:spPr>
          <a:xfrm>
            <a:off x="2895480" y="3200400"/>
            <a:ext cx="31244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iCA30EQP5"/>
          <p:cNvPicPr/>
          <p:nvPr/>
        </p:nvPicPr>
        <p:blipFill>
          <a:blip r:embed="rId1"/>
          <a:stretch/>
        </p:blipFill>
        <p:spPr>
          <a:xfrm>
            <a:off x="3352680" y="3505320"/>
            <a:ext cx="2886120" cy="2012760"/>
          </a:xfrm>
          <a:prstGeom prst="rect">
            <a:avLst/>
          </a:prstGeom>
          <a:ln w="0">
            <a:noFill/>
          </a:ln>
        </p:spPr>
      </p:pic>
      <p:sp>
        <p:nvSpPr>
          <p:cNvPr id="266" name="WordArt 7"/>
          <p:cNvSpPr txBox="1"/>
          <p:nvPr/>
        </p:nvSpPr>
        <p:spPr>
          <a:xfrm>
            <a:off x="990720" y="1295280"/>
            <a:ext cx="74674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адание для команды II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33520" y="91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Юных лет приучайся прощать проступки близких и никогда не прощ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своих собстве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А. В. Суворов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Если вы звоните к знакомой, а к телефону подходит кто-либо из ее семьи, что следует сказ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33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Этикет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– это совокупность правил поведения, регулирующих внешние проявления человеческих взаимоотношений (обхождение с окружающими, формы общения и приветствия, поведение в общественных местах, манеры и одежда) в той социальной среде, в которой живет человек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203" name="Picture 5" descr="i[7]"/>
          <p:cNvPicPr/>
          <p:nvPr/>
        </p:nvPicPr>
        <p:blipFill>
          <a:blip r:embed="rId1"/>
          <a:stretch/>
        </p:blipFill>
        <p:spPr>
          <a:xfrm>
            <a:off x="5410080" y="4343400"/>
            <a:ext cx="1387440" cy="1600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iCAP6FH1C"/>
          <p:cNvPicPr/>
          <p:nvPr/>
        </p:nvPicPr>
        <p:blipFill>
          <a:blip r:embed="rId2"/>
          <a:stretch/>
        </p:blipFill>
        <p:spPr>
          <a:xfrm>
            <a:off x="1905120" y="4191120"/>
            <a:ext cx="22860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Вопрос 2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Обязательно ли здороваться и прощаться при телефонном звонке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Вопрос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Можно ли по телефону поздравлять с праздником и выражать свое соболезнование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8"/>
          <p:cNvSpPr txBox="1"/>
          <p:nvPr/>
        </p:nvSpPr>
        <p:spPr>
          <a:xfrm>
            <a:off x="914400" y="1676520"/>
            <a:ext cx="7467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адание для команды I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5" name="Picture 9" descr="iCAZSYAFL"/>
          <p:cNvPicPr/>
          <p:nvPr/>
        </p:nvPicPr>
        <p:blipFill>
          <a:blip r:embed="rId1"/>
          <a:stretch/>
        </p:blipFill>
        <p:spPr>
          <a:xfrm>
            <a:off x="3352680" y="3460680"/>
            <a:ext cx="2667240" cy="177804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1"/>
          <p:cNvSpPr/>
          <p:nvPr/>
        </p:nvSpPr>
        <p:spPr>
          <a:xfrm>
            <a:off x="454320" y="304200"/>
            <a:ext cx="81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«Единственная настоящая роскошь – это роскошь человеческого обще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</a:t>
            </a: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А. Сент-Экзюп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80"/>
                </a:solidFill>
                <a:latin typeface="Times New Roman"/>
              </a:rPr>
              <a:t>Вопрос 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Обязательно ли представляться, позвонив по телефону?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80"/>
                </a:solidFill>
                <a:latin typeface="Times New Roman"/>
              </a:rPr>
              <a:t>Вопрос 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Можно ли по телефону, спрашивать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«Кто говорит?»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«А кто это?» и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«Кто у телефона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80"/>
                </a:solidFill>
                <a:latin typeface="Times New Roman"/>
              </a:rPr>
              <a:t>Вопрос 3.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Как следует поступить, если вам позвонили по телефону, а у вас гости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80"/>
                </a:solidFill>
                <a:latin typeface="Times New Roman"/>
              </a:rPr>
              <a:t>Блицтурни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Цель: закрепление правил повед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Инструкц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В блицтурнире участвуют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Нужно отвечать на вопросы сразу, то есть быст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80"/>
                </a:solidFill>
                <a:latin typeface="Times New Roman"/>
              </a:rPr>
              <a:t>До свидания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j0341499"/>
          <p:cNvPicPr/>
          <p:nvPr/>
        </p:nvPicPr>
        <p:blipFill>
          <a:blip r:embed="rId1"/>
          <a:stretch/>
        </p:blipFill>
        <p:spPr>
          <a:xfrm>
            <a:off x="457200" y="457200"/>
            <a:ext cx="1676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Выделяют следующие  принципы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делового этикета:</a:t>
            </a:r>
            <a:br>
              <a:rPr sz="3200"/>
            </a:b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нцип разумного эгоизма (выполняя свои рабочие функции, не мешай другим выполнять сво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нцип позитивности (если нечего сказать приятного или положительного, лучше промолчать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нцип предсказуемости поведения в различных ситуациях (следуя правилам делового этикета, вы должны быть постоянным и надежным, всегда выполнять свои обязательства, и знать, как себя вести).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На работе нет мужчин и женщин, есть только статусные различия (базисные правила гражданского этикета не переносятся в деловой этикет, например, деловые женщины должны при необходимости не только открывать двери сами, но и пропускать вперед других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нцип уместности – определенные правила  в определенное время, в определенном месте, с определенными людьми (например, на деловой ужин с лицом противоположного пола женщине не следует надевать вечерний наряд, чтобы не создавать впечатления, что у нее к партнеру не деловой, а личный интерес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rcRect l="3940" t="0" r="0" b="5244"/>
          <a:stretch/>
        </p:blipFill>
        <p:spPr>
          <a:xfrm>
            <a:off x="6477120" y="4343400"/>
            <a:ext cx="2146320" cy="2286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imagesCA97EJRP"/>
          <p:cNvPicPr/>
          <p:nvPr/>
        </p:nvPicPr>
        <p:blipFill>
          <a:blip r:embed="rId2"/>
          <a:srcRect l="2702" t="0" r="0" b="6797"/>
          <a:stretch/>
        </p:blipFill>
        <p:spPr>
          <a:xfrm>
            <a:off x="533520" y="4724280"/>
            <a:ext cx="2747880" cy="18288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5"/>
          <p:cNvSpPr/>
          <p:nvPr/>
        </p:nvSpPr>
        <p:spPr>
          <a:xfrm>
            <a:off x="1066680" y="457200"/>
            <a:ext cx="5715000" cy="4038480"/>
          </a:xfrm>
          <a:prstGeom prst="wedgeRectCallout">
            <a:avLst>
              <a:gd name="adj1" fmla="val 48833"/>
              <a:gd name="adj2" fmla="val 878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48520" y="5715000"/>
            <a:ext cx="182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Этапы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«Этикет улицы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«Этикет в гостях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кторина для зр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гра – разми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«Позвони мне, позвони!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Блицтурни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тог деловой иг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Times New Roman"/>
              </a:rPr>
              <a:t>Пословицы: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«Худое дело обидеть соседа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«От учтивых слов, язык не отсохнет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4" descr="iCA8D3DNV"/>
          <p:cNvPicPr/>
          <p:nvPr/>
        </p:nvPicPr>
        <p:blipFill>
          <a:blip r:embed="rId1"/>
          <a:stretch/>
        </p:blipFill>
        <p:spPr>
          <a:xfrm>
            <a:off x="3124080" y="342900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5"/>
          <p:cNvSpPr txBox="1"/>
          <p:nvPr/>
        </p:nvSpPr>
        <p:spPr>
          <a:xfrm>
            <a:off x="1295280" y="1600200"/>
            <a:ext cx="6400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дание для  команды I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6" name="Рисунок 13" descr="http://im8-tub-ru.yandex.net/i?id=58044131-3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4267080"/>
            <a:ext cx="1371600" cy="20574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9"/>
          <p:cNvSpPr/>
          <p:nvPr/>
        </p:nvSpPr>
        <p:spPr>
          <a:xfrm>
            <a:off x="225360" y="532800"/>
            <a:ext cx="86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«Истинная вежливость заключается в благожелательном отношении к людя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</a:t>
            </a: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Жан –Жак Ру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Times New Roman"/>
              </a:rPr>
              <a:t>Вопрос 1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</a:rPr>
              <a:t>Как вы поведете себя при встрече на улице со своими знакомым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На ходу крикну «привет!» или помашу рукой. Захочу пообщаться - остановлюс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Поздороваюсь. В большой толпе или в общественном транспорте просто улыбнусь и кивн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После приветствие слегка замедлю шаг, представляя знакомым самим проявлять инициатив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Times New Roman"/>
              </a:rPr>
              <a:t>Вопрос 2.</a:t>
            </a:r>
            <a:br>
              <a:rPr sz="4000"/>
            </a:b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72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ы стоите перед дверями  магазина или учреждения. Люди входят и выходят.  Кто кого должен пропуск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Всем уступать дорогу – до вечера прождеш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Право первенства принадлежит входящему с у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Если я снаружи, пропущу выходящих – преимущество за ним.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8-04-24T03:13:3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