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8.png" ContentType="image/png"/>
  <Override PartName="/ppt/media/image15.gif" ContentType="image/gif"/>
  <Override PartName="/ppt/media/image1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A88D-29A6-41D4-8FAA-E94E2751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759B-7E27-445B-BDEB-A82C8E50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989F-8ED9-4726-A63A-4C2F3AF6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0C8B-FDEA-4B76-B534-D944A2B3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4AC0-823C-4889-874A-607438F4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1B2D-8EC5-413B-8278-5F181045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ABE5-04E4-4CB4-811F-E2A99A69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5400-93FF-4557-B238-C5E98A0F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5071-8797-48EE-9396-4702AE5A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6713-9D19-4737-BC31-1A856C0E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4FD7-26C0-459F-AA17-52171E95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04F7-3386-4A1A-87A5-25143283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33C7-106A-4766-AC4A-32B67910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999F-22BD-444E-B273-4F266278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044D-FF40-4127-A896-88B761E0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13C5-19B8-4969-964C-2C7462C5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F030-09B4-42CB-AEA0-BDF3BBC0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B1ED-B6DE-4C8C-A171-1CB984A0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C44E-86A7-4200-B76D-4617393C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F920-4EA9-4B24-B98F-7EF9226A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9748-74C0-4B06-B6E1-5E1D2443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8557-E330-4ACC-AC6F-DB1C127B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85D4-8E70-415F-8DD4-A043BC00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EC5F-FD96-4309-814C-BBF5C9BF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CF85-F061-406E-A93D-32382954DE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B727-4DAE-4A66-A349-C28A3C7D38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МБОУ СОШ № 5 </a:t>
            </a:r>
            <a:br>
              <a:rPr sz="4000"/>
            </a:b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города Кузнецка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«Ре</a:t>
            </a: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@</a:t>
            </a: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л – это круто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WordArt 4"/>
          <p:cNvSpPr txBox="1"/>
          <p:nvPr/>
        </p:nvSpPr>
        <p:spPr>
          <a:xfrm>
            <a:off x="826920" y="1484280"/>
            <a:ext cx="7345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5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Агитбрига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«РЕ@Л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516" name="Vyhod-komand-Festivali(muzofon.com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реп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48" name="WordArt 5"/>
          <p:cNvSpPr txBox="1"/>
          <p:nvPr/>
        </p:nvSpPr>
        <p:spPr>
          <a:xfrm>
            <a:off x="0" y="549360"/>
            <a:ext cx="853272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Зависимости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нтерНЕТ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2106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"/>
          <p:cNvPicPr/>
          <p:nvPr/>
        </p:nvPicPr>
        <p:blipFill>
          <a:blip r:embed="rId1"/>
          <a:stretch/>
        </p:blipFill>
        <p:spPr>
          <a:xfrm>
            <a:off x="395280" y="585720"/>
            <a:ext cx="8137440" cy="4938840"/>
          </a:xfrm>
          <a:prstGeom prst="rect">
            <a:avLst/>
          </a:prstGeom>
          <a:ln w="0">
            <a:noFill/>
          </a:ln>
        </p:spPr>
      </p:pic>
      <p:pic>
        <p:nvPicPr>
          <p:cNvPr id="550" name="нарезка - флешмоб на день город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284183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Новости Украины NEWSru.ua :: Зависимость от интернета действует как абстинентный синдром"/>
          <p:cNvPicPr/>
          <p:nvPr/>
        </p:nvPicPr>
        <p:blipFill>
          <a:blip r:embed="rId1"/>
          <a:stretch/>
        </p:blipFill>
        <p:spPr>
          <a:xfrm rot="20835600">
            <a:off x="1763640" y="836280"/>
            <a:ext cx="5351400" cy="5351400"/>
          </a:xfrm>
          <a:prstGeom prst="rect">
            <a:avLst/>
          </a:prstGeom>
          <a:ln w="0">
            <a:noFill/>
          </a:ln>
        </p:spPr>
      </p:pic>
      <p:pic>
        <p:nvPicPr>
          <p:cNvPr id="518" name="реп.mp3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5" descr="DataLife Engine Версия для печати Wallpaper Abyss - Space Wallpaper - part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Oval 7"/>
          <p:cNvSpPr/>
          <p:nvPr/>
        </p:nvSpPr>
        <p:spPr>
          <a:xfrm>
            <a:off x="4284720" y="3141720"/>
            <a:ext cx="647640" cy="57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8"/>
          <p:cNvSpPr/>
          <p:nvPr/>
        </p:nvSpPr>
        <p:spPr>
          <a:xfrm>
            <a:off x="6084720" y="3860640"/>
            <a:ext cx="648000" cy="574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9"/>
          <p:cNvSpPr/>
          <p:nvPr/>
        </p:nvSpPr>
        <p:spPr>
          <a:xfrm>
            <a:off x="7812000" y="4581360"/>
            <a:ext cx="647640" cy="574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10"/>
          <p:cNvSpPr/>
          <p:nvPr/>
        </p:nvSpPr>
        <p:spPr>
          <a:xfrm>
            <a:off x="6948360" y="4149720"/>
            <a:ext cx="648000" cy="57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11"/>
          <p:cNvSpPr/>
          <p:nvPr/>
        </p:nvSpPr>
        <p:spPr>
          <a:xfrm>
            <a:off x="5148360" y="3573360"/>
            <a:ext cx="647640" cy="57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032903333-beautiful-view-satellite-orbit.mp4" descr=""/>
          <p:cNvPicPr/>
          <p:nvPr/>
        </p:nvPicPr>
        <p:blipFill>
          <a:blip r:embed="rId2"/>
          <a:stretch/>
        </p:blipFill>
        <p:spPr>
          <a:xfrm>
            <a:off x="3419640" y="0"/>
            <a:ext cx="5724360" cy="38131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4" descr="Space. Часть 5. Planets. &quot; Фэнтези, фантастика, игры."/>
          <p:cNvPicPr/>
          <p:nvPr/>
        </p:nvPicPr>
        <p:blipFill>
          <a:blip r:embed="rId3"/>
          <a:stretch/>
        </p:blipFill>
        <p:spPr>
          <a:xfrm>
            <a:off x="0" y="4680000"/>
            <a:ext cx="29034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915 -0.22022 C -0.02257 -0.22022 0.0335 -0.1455 0.0335 -0.05366 C 0.0335 0.03817 -0.02257 0.11289 -0.0915 0.11289 C -0.16042 0.11289 -0.2165 0.03817 -0.2165 -0.05366 C -0.2165 -0.1455 -0.16042 -0.22022 -0.0915 -0.22022 Z">
                                      <p:cBhvr>
                                        <p:cTn id="24" dur="5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39774 -0.10294 C -0.39774 -0.26602 -0.30712 -0.39856 -0.19618 -0.39856 C -0.0849 -0.39856 0.00538 -0.26602 0.00538 -0.10294 C 0.00538 0.06014 -0.0849 0.19269 -0.19618 0.19269 C -0.30712 0.19269 -0.39774 0.06014 -0.39774 -0.10294 Z">
                                      <p:cBhvr>
                                        <p:cTn id="26" dur="5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8264 -0.39509 C 0.02778 -0.24635 0.03021 -0.00994999999999999 -0.07743 0.13209 C -0.18507 0.27389 -0.36267 0.26833 -0.47326 0.11936 C -0.58385 -0.02961 -0.58593 -0.26579 -0.4783 -0.40782 C -0.37048 -0.54962 -0.19323 -0.5443 -0.08264 -0.39509 Z">
                                      <p:cBhvr>
                                        <p:cTn id="28" dur="5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45452 0.26232 C -0.68195 0.195 -0.83229 -0.06893 -0.78924 -0.32639 C -0.74618 -0.58339 -0.52587 -0.73814 -0.29844 -0.6706 C -0.07101 -0.60305 0.07899 -0.33842 0.03593 -0.08119 C -0.00712 0.17604 -0.22709 0.32986 -0.45452 0.26232 Z">
                                      <p:cBhvr>
                                        <p:cTn id="30" dur="5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12" descr="Экскурсия-прогулка по Красной площади"/>
          <p:cNvPicPr/>
          <p:nvPr/>
        </p:nvPicPr>
        <p:blipFill>
          <a:blip r:embed="rId1"/>
          <a:stretch/>
        </p:blipFill>
        <p:spPr>
          <a:xfrm>
            <a:off x="0" y="3645000"/>
            <a:ext cx="4140360" cy="3105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4" descr="Турция. . И купол необъятный Статьи о Турции"/>
          <p:cNvPicPr/>
          <p:nvPr/>
        </p:nvPicPr>
        <p:blipFill>
          <a:blip r:embed="rId2"/>
          <a:stretch/>
        </p:blipFill>
        <p:spPr>
          <a:xfrm>
            <a:off x="5789520" y="0"/>
            <a:ext cx="3354480" cy="41497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6" descr="Отзывы туристов о путешествиях во все страны мира."/>
          <p:cNvPicPr/>
          <p:nvPr/>
        </p:nvPicPr>
        <p:blipFill>
          <a:blip r:embed="rId3"/>
          <a:stretch/>
        </p:blipFill>
        <p:spPr>
          <a:xfrm>
            <a:off x="0" y="0"/>
            <a:ext cx="5724360" cy="35416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8" descr="Международная славянская академия"/>
          <p:cNvPicPr/>
          <p:nvPr/>
        </p:nvPicPr>
        <p:blipFill>
          <a:blip r:embed="rId4"/>
          <a:stretch/>
        </p:blipFill>
        <p:spPr>
          <a:xfrm>
            <a:off x="3708360" y="2852640"/>
            <a:ext cx="5435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5" descr="Тема для роздумів: Вход - только для титульных &quot; ОКО ПЛАНЕТЫ информационно-аналитический портал"/>
          <p:cNvPicPr/>
          <p:nvPr/>
        </p:nvPicPr>
        <p:blipFill>
          <a:blip r:embed="rId1"/>
          <a:stretch/>
        </p:blipFill>
        <p:spPr>
          <a:xfrm>
            <a:off x="3765600" y="1623960"/>
            <a:ext cx="5256000" cy="5256360"/>
          </a:xfrm>
          <a:prstGeom prst="rect">
            <a:avLst/>
          </a:prstGeom>
          <a:ln w="0">
            <a:noFill/>
          </a:ln>
        </p:spPr>
      </p:pic>
      <p:sp>
        <p:nvSpPr>
          <p:cNvPr id="533" name="WordArt 7"/>
          <p:cNvSpPr txBox="1"/>
          <p:nvPr/>
        </p:nvSpPr>
        <p:spPr>
          <a:xfrm>
            <a:off x="250920" y="115920"/>
            <a:ext cx="35812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онная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зопасность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    угрозой!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4" name="Zvuk_sireny_vozdushnoy_trevogi_-_Bez_nazvaniya_muzofon.com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5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27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65" dur="250" autoRev="1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66" dur="250" autoRev="1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7713" fill="hold"/>
                                        <p:tgtEl>
                                          <p:spTgt spid="5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4" descr="Интернет &quot; Russify.ru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1" descr="23"/>
          <p:cNvPicPr/>
          <p:nvPr/>
        </p:nvPicPr>
        <p:blipFill>
          <a:blip r:embed="rId1"/>
          <a:stretch/>
        </p:blipFill>
        <p:spPr>
          <a:xfrm>
            <a:off x="3419640" y="1484280"/>
            <a:ext cx="4390920" cy="4248360"/>
          </a:xfrm>
          <a:prstGeom prst="rect">
            <a:avLst/>
          </a:prstGeom>
          <a:ln w="0">
            <a:noFill/>
          </a:ln>
        </p:spPr>
      </p:pic>
      <p:pic>
        <p:nvPicPr>
          <p:cNvPr id="539" name="metronom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Новости за день"/>
          <p:cNvPicPr/>
          <p:nvPr/>
        </p:nvPicPr>
        <p:blipFill>
          <a:blip r:embed="rId3"/>
          <a:stretch/>
        </p:blipFill>
        <p:spPr>
          <a:xfrm rot="20079000">
            <a:off x="323640" y="620280"/>
            <a:ext cx="29718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22653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5" descr="Кибератаки становятся все более распространенными (за последний год число компьютерных угроз, циркулирующих в интернете, удвоило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749920"/>
          </a:xfrm>
          <a:prstGeom prst="rect">
            <a:avLst/>
          </a:prstGeom>
          <a:ln w="0">
            <a:noFill/>
          </a:ln>
        </p:spPr>
      </p:pic>
      <p:pic>
        <p:nvPicPr>
          <p:cNvPr id="542" name="Большой Секрет Для Маленькой Компании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91290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«В жизни больше интересного! А всё-таки реальная жизнь красочнее!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«Твоя жизнь не ограничена компьютером. А жизнь за окном проходит мимо. Компьютер не заменит тебе друзей, семью и чувство реального счастья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Забудь пароль, сотри свой НИК, нажми Esc, и на турник! В дом ворвался кибернет  - лучше спорта защиты нет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«Сделай свой выбо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«Выбери себе жизнь в реальности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«Не убивай свое время!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Nickelback-Burn-it-to-the-ground-Vyhod-komand-I(muzofon.com).mp3" descr=""/>
          <p:cNvPicPr/>
          <p:nvPr/>
        </p:nvPicPr>
        <p:blipFill>
          <a:blip r:embed="rId4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402420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19:45:07Z</dcterms:created>
  <dc:creator>WiZaRd</dc:creator>
  <dc:description/>
  <dc:language>en-US</dc:language>
  <cp:lastModifiedBy>Пользователь Windows</cp:lastModifiedBy>
  <dcterms:modified xsi:type="dcterms:W3CDTF">2020-10-19T12:01:51Z</dcterms:modified>
  <cp:revision>18</cp:revision>
  <dc:subject/>
  <dc:title>Слайд 1</dc:title>
</cp:coreProperties>
</file>