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C37-F1A8-4C4D-8853-A41861A2A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2FD-8B2A-42EF-818D-F66EB63E0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ая социальная роль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ение дошкольной и школь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ебенка в процессе обучения (ученик-ученик, ученик-учите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ка на самостоятельную деятельность в процессе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660-91E2-43EF-987B-CC5149F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96B-BAB4-47E2-90C5-722B7B25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E4F-DF1A-4F4E-BE80-04EC89CA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D34-98ED-453F-8574-B7A1F7B0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757-F9AD-4B66-A8F5-A8B5A3A3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902-E3F9-4623-B995-CF48EDED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DE8-1D9B-42A3-84B8-6F241C5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179-AF0C-4873-BE82-2F721251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D73-9CDE-43B6-8078-8593597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4C9-158D-4EFA-9619-EADBB29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124-A151-4959-A30D-F5A41D0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854-8A3C-401C-A7B0-BDE8F87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0F0-D8A2-439B-BFA9-73EDEA67E1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-front.info/2016/03/29/aleksandr-proxorenko-geroj-rossii-vyzvavshij-ogon-na-sebya-pri-vzyatii-palmiry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629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Один из на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освящается подвигу Александра Прохоренк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 марта 201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Перейти к зеленой линии, снова перейти к зеленой ли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Они здесь. Запрашиваю атаку с воздуха. Пожалуйста. Спешите, это конец. Передайте моей семье - я люблю их и умираю, сражаясь за свою Родин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Ответ отрицательный, возвращайтесь к зеленой ли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Я не могу. Командир, я окружен. Они здесь. Я не хочу, чтобы они взяли меня и утащили в плен. Запрашиваю атаку с воздуха. Они будут издеваться надо мной и над униформой (России – прим.ред.). Я хочу умереть с достоинством, хочу, чтобы все эти ублюдки погибли вместе со мной. Пожалуйста, исполните мою последнюю волю – запросите атаку с воздуха. В любом случае, они убьют мен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Пожалуйста, подтвердите свой запро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Они здесь. Это конец, товарищ командир, спасибо. Расскажите моей семье и моей стране, которую я люблю. Скажите им, что я был храбр и я сражался, но я не смогу больше ничего сделать. Пожалуйста, позаботьтесь о моей семье, отомстите за мою смерть. Товарищ командир, прощайте. Скажите моей семье – я очень люблю и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7720" y="4647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погиб российский офицер, спецназов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 Прохоренк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у посмертно присвоено звание героя России, а родную школу назвали  его име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609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5924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льмира, город который спасал офиц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6048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9342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60488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7720" y="5409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колоннада в исторической части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6048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38080" y="5410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66680" y="54864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алины взорванного храма Баал-Шам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160488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066680" y="510552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ив Пальмиру, древние руины которой являются одним из шести объектов Всемирного наследия ЮНЕСКО в Сирии, террористы ИГИЛ разрушили множество древних построек и храм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990720" y="76212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ренко, оказавшись в окружении, сделал то, чему его нигде никогда не учили: ни на полигоне, ни в учебных классах. Такому не научишь. Он вызвал огонь на себя. Принял решение, которое в той ситуации показалось ему единственно верным. Сохранить честь, выполнив долг до конца. Такое в истории российской армии бывало уже не раз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офицер Прохоренко доказал, что воинская доблесть не ушла в прошло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90720" y="1066680"/>
            <a:ext cx="77724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renday.ru/novosti/novostnaya-lenta/news29031609474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renday.ru/novosti/novostnaya-lenta/news2903161108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news-front.info/2016/03/29/aleksandr-proxorenko-geroj-rossii-vyzvavshij-ogon-na-sebya-pri-vzyatii-palmiry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ю подготовила учитель начальных классов Банникова С.С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 Сорочинск-2018 г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4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152280" y="3200400"/>
            <a:ext cx="3353040" cy="1676520"/>
          </a:xfrm>
          <a:prstGeom prst="rect">
            <a:avLst/>
          </a:prstGeom>
          <a:solidFill>
            <a:srgbClr val="ffda8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чал: оглушило взрывом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те, как я сказа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ерю, свои снаря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тронуть мен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цы бегут, нажмите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море огня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6"/>
          <p:cNvSpPr/>
          <p:nvPr/>
        </p:nvSpPr>
        <p:spPr>
          <a:xfrm flipH="1">
            <a:off x="4876200" y="3200400"/>
            <a:ext cx="3809880" cy="1676520"/>
          </a:xfrm>
          <a:prstGeom prst="rect">
            <a:avLst/>
          </a:prstGeom>
          <a:solidFill>
            <a:srgbClr val="ffda8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мандном пункте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в последний сигнал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р в оглохшее радио,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держав, закричал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7"/>
          <p:cNvSpPr/>
          <p:nvPr/>
        </p:nvSpPr>
        <p:spPr>
          <a:xfrm>
            <a:off x="304920" y="380880"/>
            <a:ext cx="7848360" cy="838440"/>
          </a:xfrm>
          <a:prstGeom prst="rect">
            <a:avLst/>
          </a:prstGeom>
          <a:solidFill>
            <a:srgbClr val="ffda8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тантин Симонов «Сын Артиллериста»(отрывок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1 го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2438280" y="1447920"/>
            <a:ext cx="4496040" cy="1752480"/>
          </a:xfrm>
          <a:prstGeom prst="rect">
            <a:avLst/>
          </a:prstGeom>
          <a:solidFill>
            <a:srgbClr val="ffda8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нь!»— летели снаряд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нь!»— заряжай скорей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вадрату четыре, деся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 шесть батар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 час молчало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донесся сигнал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2286000" y="4876920"/>
            <a:ext cx="4876920" cy="1981080"/>
          </a:xfrm>
          <a:prstGeom prst="rect">
            <a:avLst/>
          </a:prstGeom>
          <a:solidFill>
            <a:srgbClr val="ffda8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лышишь меня, я верю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ю таких не взят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сь, мой мальчик: на свет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раза не умират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ас в жизни не мож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бить из седла!—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уж поговорк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йора был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09720" y="609480"/>
            <a:ext cx="3429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6 го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оша из оренбург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убинки повторил подви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роев Вели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ечественной вой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нный врагами, он выз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онь на себя и геройски погиб, но враги были уничтожены, а город Пальмира освобожд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было только 25 л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52578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144792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76212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Прохоренк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867280" y="990720"/>
            <a:ext cx="3048120" cy="55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Прохоренко родился 22 июня 1990 года в селе Городки Тюльганского района Оренбургской области в рабочей семье.  В 2007 году юноша с серебряной медалью окончил Городецкую среднюю общеобразовательную школу, поступил в Оренбургское высшее зенитн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етное училище, проходил службу в Силах специальных операций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6956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0" y="1447920"/>
            <a:ext cx="57531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5880" y="609480"/>
            <a:ext cx="2819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ександр с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етства занимался спортом, много читал. Благодаря Саше ребята побеждали в соревнованиях. Они с теплотой звали его Прохо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стремились брать с него приме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35148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200560" y="40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 rot="20483400">
            <a:off x="2627280" y="3156120"/>
            <a:ext cx="23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6048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9" descr=""/>
          <p:cNvPicPr/>
          <p:nvPr/>
        </p:nvPicPr>
        <p:blipFill>
          <a:blip r:embed="rId1"/>
          <a:stretch/>
        </p:blipFill>
        <p:spPr>
          <a:xfrm>
            <a:off x="0" y="1295280"/>
            <a:ext cx="59342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мье Александра много военных и он мечтал стать офице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604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43240" y="68544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Прохоренко успешно выполнял боевое задание исключительной сложности целую неделю, чем обеспечил не только освобождение горо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альми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и его спасение. Когда успех штурма был уже предрешен, лейтенант Прохоренко попал в окружение. Когда его уже вот-вот должны были схватить дикари ИГИЛ, вызвал огонь на себя, дабы покончить  с враг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6048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0" y="1219320"/>
            <a:ext cx="59342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е минуты жизни  спецназовца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оворы по рации с команди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09480" y="228600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04920" y="2133720"/>
            <a:ext cx="83818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Командир, я в ловушке, я в ловушке снова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Пожалуйста, повторите и подтвердите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Они видели меня. Здесь вокруг перестрелка, я застрял. Я требую немедленной эвакуации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Запрашиваю эвакуацию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Пожалуйста, поторопитесь, у меня осталось мало патронов. Они лезут отовсюду, я не продержусь долго, пожалуйста, поторопитесь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Подтверждена эвакуация. Удерживайте их, продолжайте вести ответный огонь. Перейдите в безопасное место, поддержка с воздуха уже в пути. Дайте вашу контактную информацию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&lt;дает координаты&gt;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&lt;повторил координаты&gt;. Подтвердить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1"/>
          <p:cNvSpPr/>
          <p:nvPr/>
        </p:nvSpPr>
        <p:spPr>
          <a:xfrm>
            <a:off x="1143000" y="106668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0" y="5335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Подтверждена. Пожалуйста, поторопитесь, у меня осталось мало боеприпасов. Они окружают меня, гад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Двенадцать минут до эвакуации, вернитесь в укрытие. Повторяю, вернуться в укрытие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Они близко. Я окружен. Может быть, уже поздно. Передайте моей семье, что я люблю и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Вернитесь к зеленой линии, держите огонь, помощь в пути. Ждите поддержки с воздух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Не могу, я окружен, здесь очень много этих ублюдков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: Через десять минут, возвращайтесь к зеленой лин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ер: Я не могу. Они окружили меня, они уже близко. Пожалуйста, поторопитесь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1:20:00Z</dcterms:created>
  <dc:creator>New</dc:creator>
  <dc:description/>
  <dc:language>en-US</dc:language>
  <cp:lastModifiedBy>home-39</cp:lastModifiedBy>
  <dcterms:modified xsi:type="dcterms:W3CDTF">2018-04-23T13:26:57Z</dcterms:modified>
  <cp:revision>29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43100207f6000400038000</vt:lpwstr>
  </property>
</Properties>
</file>