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74A-0D85-49C7-9D20-DAC67FBF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96B-6076-4CD6-9E85-CCB79A5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443-FB43-4650-AA67-F2562DF0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9C5-FC49-4FCE-B8B8-86AAF565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B0B0-027E-42A3-A242-371864F0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D0C2-CB7B-45E3-A016-8AC7B872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61C3-ADF2-4DC4-BB50-FCCD8515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543B-8918-4CAA-852F-8065BC38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9431-03B5-4FAE-8A61-84E15F7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D5B5-613D-4671-85F8-4D4B969A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ABB3-9922-44EB-8DFA-2CDD127A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532-72AA-4CF6-B73D-D67B909B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AE73-E73C-465E-B86D-D5920F72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FDC5-AB30-408A-B0EF-361F839B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07DA-7B42-43AE-AC3F-BA34EFA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2B32-8204-49C0-B5B1-314795B3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A835-00BC-4E8F-B244-58248C27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3506-6E75-4327-AA10-6C3EC816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298F-F89A-4190-A5C3-D602E1A3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6453-6F68-466B-B92A-56D04E7A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0334-3252-40C2-B629-E8CD0CC8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1170-0FD3-483C-9540-D5D153C8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A55-CEE7-4604-9F8B-65172768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F9CE-40B7-44B1-A5D5-A6C38EC0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61A5-043C-439D-88B6-6D1CB290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38C9-244B-42F6-BAC6-33AF7C7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EB85-2983-45CD-A288-B3813457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CAC9-A144-47E7-A86C-9F030EAB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E940-7190-4228-8559-9C5B9045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1B58-428F-44A3-9552-41D0B139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5A20-EE9B-430E-9D3F-EB6382D2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E5E3-F9A9-4B6E-AA9D-9223DDA7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298B-25BE-42BB-ADF6-65B685C7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128-F655-49A4-96D9-77CF3701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FA8A-0B10-4711-B277-4CB6EA1B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E7FF-CC30-44ED-A0F4-FCE5E52D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BCF32-EF47-48A4-AAFE-D2EDFDC9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7D0F-E5FB-414C-BC5B-DBCAAD9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320A5-8182-41BE-B8EF-D7AC3153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55FF4-11CC-4C4B-AC7C-26546A6C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9810-E96B-4FF3-80A5-B68131CA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7E58-78EF-4DE6-9CC8-D36322E4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B792-F12E-4D7D-A7CC-A9177ED2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0F6B2-A8BE-43D1-9BC4-FE95B60B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6F3-7A43-441E-ABFF-4BCCF9C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9A87B-6C4F-40B4-87A2-0555F95A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B8A46-DC02-4A6A-9BF4-78BCB4D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FC5E2-31B7-4E03-8BA9-1FF5AF2F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CA026-C4C4-4D1A-8B01-1A1E35AC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FF9A1-E8E3-40BA-86E0-78F54E15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797B-A473-46BB-9599-63031B36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E2701-5EE9-4053-986D-1F2FF74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53B4-39B3-4F8D-85BE-3B32FD9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9251-F4E8-4565-9180-8EEF448B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7AFF5-AE08-4674-8684-2854FBBC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E21-DA97-4FEB-B085-CF444190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A33CD-E874-421A-93CB-F8D333B0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F32EA-E949-4C70-BDA8-4235D2F0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2EE1D-600F-4981-8CCA-B8EF2BA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7D12-6210-4610-8A69-70718B68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455FE-5818-4677-8FDA-463A21E7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137AB-4167-4409-B5D9-E8B7F247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08D31-3C5B-4DDC-AF09-07E99F07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C041-C5E1-421E-A8AF-58F7F7C6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6F838-19B4-499A-A29D-E7AED27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468D4-02BC-4A19-B67F-426B69D6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246-D095-40A7-A2AF-FD0B249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BFCA7-6FCD-4EC9-AA87-8F8549DA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C523-A9D7-48B8-8D11-070B9255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7A051-0BAE-4BC2-B5CD-468DB682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6A3-E29E-497A-9F00-5C133B0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F84-96FA-432D-AD4A-E92B3149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5BF8-FE92-4C4E-9B86-E42B8BFEE84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0D9C-1BD8-459F-9182-B4299281044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874F-0B34-4DF4-BF92-6F0C55BCAE1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E69-5753-4C4E-92EE-0097365CB2A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EDF-A1C0-47AD-92B2-2746291E1E9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C448-FE62-4328-8D80-5C5A75BE66F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324000" y="333360"/>
            <a:ext cx="8135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атематика уступает  свои крепости лишь сильным и смелым.       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             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А.П. Конфорови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5" descr="DSC05469555"/>
          <p:cNvPicPr/>
          <p:nvPr/>
        </p:nvPicPr>
        <p:blipFill>
          <a:blip r:embed="rId1"/>
          <a:stretch/>
        </p:blipFill>
        <p:spPr>
          <a:xfrm>
            <a:off x="324000" y="2637000"/>
            <a:ext cx="3527280" cy="28796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6"/>
          <p:cNvSpPr/>
          <p:nvPr/>
        </p:nvSpPr>
        <p:spPr>
          <a:xfrm>
            <a:off x="3924360" y="263700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Результат учения раве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произведению способ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на старательнос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Если старательность равна нулю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То и все произведение равно нулю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А способности есть у каждого</a:t>
            </a: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!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39640" y="4653000"/>
            <a:ext cx="784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“…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обенную важность имеют те методы науки, которые позволяют решать задачу, общую для всей практической деятельности человека: как располагать своими средствами для достижения наибольшей выгоды”.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фото ЧЕБЫШЕВ Пафнутий Львович"/>
          <p:cNvPicPr/>
          <p:nvPr/>
        </p:nvPicPr>
        <p:blipFill>
          <a:blip r:embed="rId2"/>
          <a:stretch/>
        </p:blipFill>
        <p:spPr>
          <a:xfrm>
            <a:off x="539640" y="333360"/>
            <a:ext cx="3497400" cy="403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56" name="Text Box 7"/>
          <p:cNvSpPr/>
          <p:nvPr/>
        </p:nvSpPr>
        <p:spPr>
          <a:xfrm>
            <a:off x="4427640" y="1052640"/>
            <a:ext cx="3887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бышев Пафнутий Львович (1821-1894), знаменитый русский математик, основатель Петербуржской математической школы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Плетенка"/>
          <p:cNvPicPr/>
          <p:nvPr/>
        </p:nvPicPr>
        <p:blipFill>
          <a:blip r:embed="rId2"/>
          <a:stretch/>
        </p:blipFill>
        <p:spPr>
          <a:xfrm>
            <a:off x="468360" y="1125360"/>
            <a:ext cx="3457440" cy="38102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395280" y="5229360"/>
            <a:ext cx="36734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йерштрасс Карл Теодор Вильгельм (1815-1897 гг.) - немецкий математи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24000" y="260280"/>
            <a:ext cx="504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Теорема Вейерштра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716360" y="1268280"/>
            <a:ext cx="3745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прерывная на отрезке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a;b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функция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f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инимает на этом отрезке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аибольшее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аименьшее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знач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99"/>
          <p:cNvPicPr/>
          <p:nvPr/>
        </p:nvPicPr>
        <p:blipFill>
          <a:blip r:embed="rId3"/>
          <a:stretch/>
        </p:blipFill>
        <p:spPr>
          <a:xfrm>
            <a:off x="5435640" y="5013360"/>
            <a:ext cx="2592360" cy="161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222"/>
          <p:cNvPicPr/>
          <p:nvPr/>
        </p:nvPicPr>
        <p:blipFill>
          <a:blip r:embed="rId2"/>
          <a:stretch/>
        </p:blipFill>
        <p:spPr>
          <a:xfrm>
            <a:off x="324000" y="985680"/>
            <a:ext cx="3887640" cy="35467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1"/>
          <p:cNvSpPr/>
          <p:nvPr/>
        </p:nvSpPr>
        <p:spPr>
          <a:xfrm>
            <a:off x="684360" y="4869000"/>
            <a:ext cx="77752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ли функци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(x)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возрастает (убывает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н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a;b]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то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наибольшег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наименьшег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значения она достигает на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нцах этого отрез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2" descr="2345"/>
          <p:cNvPicPr/>
          <p:nvPr/>
        </p:nvPicPr>
        <p:blipFill>
          <a:blip r:embed="rId3"/>
          <a:stretch/>
        </p:blipFill>
        <p:spPr>
          <a:xfrm>
            <a:off x="4859280" y="990720"/>
            <a:ext cx="37450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4"/>
          <p:cNvPicPr/>
          <p:nvPr/>
        </p:nvPicPr>
        <p:blipFill>
          <a:blip r:embed="rId2"/>
          <a:stretch/>
        </p:blipFill>
        <p:spPr>
          <a:xfrm>
            <a:off x="611280" y="925560"/>
            <a:ext cx="3960720" cy="3405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Копия шаблон"/>
          <p:cNvPicPr/>
          <p:nvPr/>
        </p:nvPicPr>
        <p:blipFill>
          <a:blip r:embed="rId3"/>
          <a:stretch/>
        </p:blipFill>
        <p:spPr>
          <a:xfrm>
            <a:off x="4859280" y="981000"/>
            <a:ext cx="4033800" cy="3362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9"/>
          <p:cNvSpPr/>
          <p:nvPr/>
        </p:nvSpPr>
        <p:spPr>
          <a:xfrm>
            <a:off x="611280" y="4797360"/>
            <a:ext cx="8208720" cy="17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f(х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отрезке [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лишь одну критическую точку и она является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точкой максимума (минимума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в этой точке функция принимает наибольшее (наименьшее) знач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max = f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иб. 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min = f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им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55"/>
          <p:cNvPicPr/>
          <p:nvPr/>
        </p:nvPicPr>
        <p:blipFill>
          <a:blip r:embed="rId2"/>
          <a:stretch/>
        </p:blipFill>
        <p:spPr>
          <a:xfrm>
            <a:off x="755640" y="333360"/>
            <a:ext cx="7415280" cy="4411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539640" y="5157720"/>
            <a:ext cx="784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ибольшего (наименьшего) значения непрерывная на </a:t>
            </a:r>
            <a:r>
              <a:rPr b="1" lang="ru-RU" sz="2000" spc="-1" strike="noStrike">
                <a:solidFill>
                  <a:srgbClr val="00cc00"/>
                </a:solidFill>
                <a:latin typeface="Verdana"/>
              </a:rPr>
              <a:t>[</a:t>
            </a:r>
            <a:r>
              <a:rPr b="1" i="1" lang="ru-RU" sz="2000" spc="-1" strike="noStrike">
                <a:solidFill>
                  <a:srgbClr val="00cc00"/>
                </a:solidFill>
                <a:latin typeface="Verdana"/>
              </a:rPr>
              <a:t>а</a:t>
            </a:r>
            <a:r>
              <a:rPr b="1" lang="ru-RU" sz="2000" spc="-1" strike="noStrike">
                <a:solidFill>
                  <a:srgbClr val="00cc00"/>
                </a:solidFill>
                <a:latin typeface="Verdana"/>
              </a:rPr>
              <a:t>; </a:t>
            </a:r>
            <a:r>
              <a:rPr b="1" i="1" lang="ru-RU" sz="2000" spc="-1" strike="noStrike">
                <a:solidFill>
                  <a:srgbClr val="00cc00"/>
                </a:solidFill>
                <a:latin typeface="Verdana"/>
              </a:rPr>
              <a:t>b</a:t>
            </a:r>
            <a:r>
              <a:rPr b="1" lang="ru-RU" sz="2000" spc="-1" strike="noStrike">
                <a:solidFill>
                  <a:srgbClr val="00cc00"/>
                </a:solidFill>
                <a:latin typeface="Verdana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ункция достигает либо на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концах отрезк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либо в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критических точках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лежащих на этом отрезк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222"/>
          <p:cNvPicPr/>
          <p:nvPr/>
        </p:nvPicPr>
        <p:blipFill>
          <a:blip r:embed="rId2"/>
          <a:stretch/>
        </p:blipFill>
        <p:spPr>
          <a:xfrm>
            <a:off x="250920" y="4508640"/>
            <a:ext cx="1944720" cy="1726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4"/>
          <p:cNvPicPr/>
          <p:nvPr/>
        </p:nvPicPr>
        <p:blipFill>
          <a:blip r:embed="rId3"/>
          <a:stretch/>
        </p:blipFill>
        <p:spPr>
          <a:xfrm>
            <a:off x="2484360" y="2565360"/>
            <a:ext cx="2160720" cy="1785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Копия шаблон"/>
          <p:cNvPicPr/>
          <p:nvPr/>
        </p:nvPicPr>
        <p:blipFill>
          <a:blip r:embed="rId4"/>
          <a:stretch/>
        </p:blipFill>
        <p:spPr>
          <a:xfrm>
            <a:off x="2484360" y="4508640"/>
            <a:ext cx="2125800" cy="1800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55"/>
          <p:cNvPicPr/>
          <p:nvPr/>
        </p:nvPicPr>
        <p:blipFill>
          <a:blip r:embed="rId5"/>
          <a:stretch/>
        </p:blipFill>
        <p:spPr>
          <a:xfrm>
            <a:off x="4859280" y="2637000"/>
            <a:ext cx="4032360" cy="3614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2345"/>
          <p:cNvPicPr/>
          <p:nvPr/>
        </p:nvPicPr>
        <p:blipFill>
          <a:blip r:embed="rId6"/>
          <a:stretch/>
        </p:blipFill>
        <p:spPr>
          <a:xfrm>
            <a:off x="250920" y="2492280"/>
            <a:ext cx="1944720" cy="18003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"/>
          <p:cNvSpPr/>
          <p:nvPr/>
        </p:nvSpPr>
        <p:spPr>
          <a:xfrm>
            <a:off x="684360" y="620640"/>
            <a:ext cx="7848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нализируйте все рассмотренные случаи. В каких точках функция достиг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большего (наименьшего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начени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95280" y="260280"/>
            <a:ext cx="806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лгоритм нахождения наибольшего и наименьшего значения функции н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[a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68360" y="1916280"/>
            <a:ext cx="8064360" cy="271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ритические то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ункции на                                интервале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ычислить значения функ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найденных критических точках и на концах отрезка,   т. е. в точках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х = а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и всех вычисленных значениях функции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ыбрать наибольшее и наименьше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539640" y="5516640"/>
            <a:ext cx="403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большее знач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1692360" y="6093000"/>
            <a:ext cx="1439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7"/>
              <p:cNvSpPr txBox="1"/>
              <p:nvPr/>
            </p:nvSpPr>
            <p:spPr>
              <a:xfrm>
                <a:off x="1919160" y="6093000"/>
                <a:ext cx="1054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;</m:t>
                            </m:r>
                            <m:r>
                              <m:t xml:space="preserve">b</m:t>
                            </m:r>
                          </m:e>
                        </m:d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Text Box 19"/>
          <p:cNvSpPr/>
          <p:nvPr/>
        </p:nvSpPr>
        <p:spPr>
          <a:xfrm>
            <a:off x="4859280" y="5516640"/>
            <a:ext cx="381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меньшее знач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5559480" y="6111720"/>
            <a:ext cx="1388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1"/>
              <p:cNvSpPr txBox="1"/>
              <p:nvPr/>
            </p:nvSpPr>
            <p:spPr>
              <a:xfrm>
                <a:off x="5508720" y="6093000"/>
                <a:ext cx="15127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;</m:t>
                            </m:r>
                            <m:r>
                              <m:t xml:space="preserve">b</m:t>
                            </m:r>
                          </m:e>
                        </m:d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2340000" y="321300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8"/>
              <p:cNvSpPr txBox="1"/>
              <p:nvPr/>
            </p:nvSpPr>
            <p:spPr>
              <a:xfrm>
                <a:off x="2419200" y="37195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0" name="Text Box 41"/>
          <p:cNvSpPr/>
          <p:nvPr/>
        </p:nvSpPr>
        <p:spPr>
          <a:xfrm>
            <a:off x="684360" y="40464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дач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2700360" y="40464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3" descr="888"/>
          <p:cNvPicPr/>
          <p:nvPr/>
        </p:nvPicPr>
        <p:blipFill>
          <a:blip r:embed="rId2"/>
          <a:stretch/>
        </p:blipFill>
        <p:spPr>
          <a:xfrm>
            <a:off x="2268360" y="189000"/>
            <a:ext cx="5688360" cy="890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4" descr="87"/>
          <p:cNvPicPr/>
          <p:nvPr/>
        </p:nvPicPr>
        <p:blipFill>
          <a:blip r:embed="rId3"/>
          <a:stretch/>
        </p:blipFill>
        <p:spPr>
          <a:xfrm>
            <a:off x="1042920" y="1268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5148360" y="1125360"/>
            <a:ext cx="718920" cy="287640"/>
          </a:xfrm>
          <a:prstGeom prst="rect">
            <a:avLst/>
          </a:prstGeom>
          <a:solidFill>
            <a:srgbClr val="f490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67"/>
          <p:cNvPicPr/>
          <p:nvPr/>
        </p:nvPicPr>
        <p:blipFill>
          <a:blip r:embed="rId2"/>
          <a:stretch/>
        </p:blipFill>
        <p:spPr>
          <a:xfrm>
            <a:off x="1403280" y="260280"/>
            <a:ext cx="6193080" cy="6264360"/>
          </a:xfrm>
          <a:prstGeom prst="rect">
            <a:avLst/>
          </a:prstGeom>
          <a:ln w="0">
            <a:noFill/>
          </a:ln>
        </p:spPr>
      </p:pic>
      <p:sp>
        <p:nvSpPr>
          <p:cNvPr id="407" name="Line 12"/>
          <p:cNvSpPr/>
          <p:nvPr/>
        </p:nvSpPr>
        <p:spPr>
          <a:xfrm>
            <a:off x="5292720" y="148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4572000" y="5877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нек"/>
          <p:cNvPicPr/>
          <p:nvPr/>
        </p:nvPicPr>
        <p:blipFill>
          <a:blip r:embed="rId2"/>
          <a:stretch/>
        </p:blipFill>
        <p:spPr>
          <a:xfrm>
            <a:off x="1042920" y="488880"/>
            <a:ext cx="712944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7"/>
          <p:cNvSpPr txBox="1"/>
          <p:nvPr/>
        </p:nvSpPr>
        <p:spPr>
          <a:xfrm>
            <a:off x="468360" y="260280"/>
            <a:ext cx="806436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8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: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ее и наименьшее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я функции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отрезке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er"/>
          <p:cNvPicPr/>
          <p:nvPr/>
        </p:nvPicPr>
        <p:blipFill>
          <a:blip r:embed="rId2"/>
          <a:stretch/>
        </p:blipFill>
        <p:spPr>
          <a:xfrm>
            <a:off x="179280" y="2421000"/>
            <a:ext cx="4023000" cy="35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ert"/>
          <p:cNvPicPr/>
          <p:nvPr/>
        </p:nvPicPr>
        <p:blipFill>
          <a:blip r:embed="rId3"/>
          <a:stretch/>
        </p:blipFill>
        <p:spPr>
          <a:xfrm>
            <a:off x="4427640" y="2421000"/>
            <a:ext cx="4500360" cy="35290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395280" y="333360"/>
            <a:ext cx="8424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. Можно ли по этому графику найти в какой точке функция достиг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большего  (наименьшего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начений?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твет обоснуйт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наибольшее значение функ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979640" y="692280"/>
            <a:ext cx="518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ГЭ 2018г, задание 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Объект 6"/>
              <p:cNvSpPr txBox="1"/>
              <p:nvPr/>
            </p:nvSpPr>
            <p:spPr>
              <a:xfrm>
                <a:off x="755640" y="4005360"/>
                <a:ext cx="789624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2124000" y="692280"/>
            <a:ext cx="49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мостоятельная рабо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qqq"/>
          <p:cNvPicPr/>
          <p:nvPr/>
        </p:nvPicPr>
        <p:blipFill>
          <a:blip r:embed="rId2"/>
          <a:stretch/>
        </p:blipFill>
        <p:spPr>
          <a:xfrm>
            <a:off x="826920" y="2060640"/>
            <a:ext cx="7653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8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324000" y="5394240"/>
            <a:ext cx="8280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;3]. График её производной изображен на рисунке.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промежутки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зрастания и убывани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функции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f(x)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84" descr="0"/>
          <p:cNvPicPr/>
          <p:nvPr/>
        </p:nvPicPr>
        <p:blipFill>
          <a:blip r:embed="rId2"/>
          <a:stretch/>
        </p:blipFill>
        <p:spPr>
          <a:xfrm>
            <a:off x="755640" y="333360"/>
            <a:ext cx="7416720" cy="4703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86"/>
          <p:cNvSpPr/>
          <p:nvPr/>
        </p:nvSpPr>
        <p:spPr>
          <a:xfrm>
            <a:off x="3851280" y="126828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87"/>
              <p:cNvSpPr txBox="1"/>
              <p:nvPr/>
            </p:nvSpPr>
            <p:spPr>
              <a:xfrm>
                <a:off x="3132000" y="1125360"/>
                <a:ext cx="18003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250920" y="5229360"/>
            <a:ext cx="86421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5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]. График её производной изображен на рисунке.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 точки максимума и минимума функции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f(x)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8" descr="00"/>
          <p:cNvPicPr/>
          <p:nvPr/>
        </p:nvPicPr>
        <p:blipFill>
          <a:blip r:embed="rId2"/>
          <a:stretch/>
        </p:blipFill>
        <p:spPr>
          <a:xfrm>
            <a:off x="1258920" y="333360"/>
            <a:ext cx="6481800" cy="44514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50"/>
              <p:cNvSpPr txBox="1"/>
              <p:nvPr/>
            </p:nvSpPr>
            <p:spPr>
              <a:xfrm>
                <a:off x="2556000" y="1125360"/>
                <a:ext cx="15112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6"/>
          <p:cNvSpPr/>
          <p:nvPr/>
        </p:nvSpPr>
        <p:spPr>
          <a:xfrm>
            <a:off x="539640" y="5084640"/>
            <a:ext cx="8064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;4]. График её производной изображен на рисунке. Определите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сколько существует точек на графике функции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f(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х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)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, касательные в которых параллельны прямой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Verdana"/>
              </a:rPr>
              <a:t>y = 5 – 2x</a:t>
            </a:r>
            <a:r>
              <a:rPr b="1" i="1" lang="ru-RU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8" descr="09"/>
          <p:cNvPicPr/>
          <p:nvPr/>
        </p:nvPicPr>
        <p:blipFill>
          <a:blip r:embed="rId2"/>
          <a:stretch/>
        </p:blipFill>
        <p:spPr>
          <a:xfrm>
            <a:off x="539640" y="260280"/>
            <a:ext cx="8064720" cy="454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4" name="Object 50"/>
              <p:cNvSpPr txBox="1"/>
              <p:nvPr/>
            </p:nvSpPr>
            <p:spPr>
              <a:xfrm>
                <a:off x="1476360" y="549360"/>
                <a:ext cx="1511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1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46087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468360" y="5300640"/>
            <a:ext cx="82090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;6]. Её график  изображен на рисунке.  Найдите точки минимума функции.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 точки в которых её производная равна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1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478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9"/>
          <p:cNvSpPr/>
          <p:nvPr/>
        </p:nvSpPr>
        <p:spPr>
          <a:xfrm>
            <a:off x="539640" y="5229360"/>
            <a:ext cx="82090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;6]. Её график  изображен на рисунке. Найдите точки максимума функции. 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 точки в которых  производная этой функции не существу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1234a"/>
          <p:cNvPicPr/>
          <p:nvPr/>
        </p:nvPicPr>
        <p:blipFill>
          <a:blip r:embed="rId2"/>
          <a:stretch/>
        </p:blipFill>
        <p:spPr>
          <a:xfrm>
            <a:off x="1187280" y="1484280"/>
            <a:ext cx="2880000" cy="2443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1234b"/>
          <p:cNvPicPr/>
          <p:nvPr/>
        </p:nvPicPr>
        <p:blipFill>
          <a:blip r:embed="rId3"/>
          <a:stretch/>
        </p:blipFill>
        <p:spPr>
          <a:xfrm>
            <a:off x="5003640" y="1484280"/>
            <a:ext cx="2880000" cy="244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11234c"/>
          <p:cNvPicPr/>
          <p:nvPr/>
        </p:nvPicPr>
        <p:blipFill>
          <a:blip r:embed="rId4"/>
          <a:stretch/>
        </p:blipFill>
        <p:spPr>
          <a:xfrm>
            <a:off x="1258920" y="4149720"/>
            <a:ext cx="2808360" cy="2382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234"/>
          <p:cNvPicPr/>
          <p:nvPr/>
        </p:nvPicPr>
        <p:blipFill>
          <a:blip r:embed="rId5"/>
          <a:stretch/>
        </p:blipFill>
        <p:spPr>
          <a:xfrm>
            <a:off x="5076720" y="4149720"/>
            <a:ext cx="2808360" cy="23828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9"/>
          <p:cNvSpPr/>
          <p:nvPr/>
        </p:nvSpPr>
        <p:spPr>
          <a:xfrm>
            <a:off x="826920" y="189000"/>
            <a:ext cx="73454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 каком рисунке изображен график фун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395280" y="2492280"/>
            <a:ext cx="50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468360" y="5084640"/>
            <a:ext cx="50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4284720" y="2492280"/>
            <a:ext cx="43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4356000" y="5084640"/>
            <a:ext cx="50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4" descr="1177"/>
          <p:cNvPicPr/>
          <p:nvPr/>
        </p:nvPicPr>
        <p:blipFill>
          <a:blip r:embed="rId6"/>
          <a:stretch/>
        </p:blipFill>
        <p:spPr>
          <a:xfrm>
            <a:off x="2916360" y="549360"/>
            <a:ext cx="23032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755640" y="1197000"/>
            <a:ext cx="7848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timum -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аилучший"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01:39Z</dcterms:created>
  <dc:creator>maks</dc:creator>
  <dc:description/>
  <dc:language>en-US</dc:language>
  <cp:lastModifiedBy>Надежда</cp:lastModifiedBy>
  <dcterms:modified xsi:type="dcterms:W3CDTF">2018-07-15T05:22:13Z</dcterms:modified>
  <cp:revision>37</cp:revision>
  <dc:subject/>
  <dc:title>Слайд 1</dc:title>
</cp:coreProperties>
</file>