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0EB-5C0C-4112-B49F-977456B8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CDA-8A51-435D-A7F2-FCB3311E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89D-A3E1-4373-A689-9459858C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725-2475-47BD-9483-795FCADF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5CF0-8780-4FE1-8A6F-33C666A3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987C-B29D-4782-BAA4-AF6C4DF5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2A8D-2E7F-40E1-A6B2-FC03CA5A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5FD4-41DD-4AA4-B96F-3ED190AB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4039-58EA-413D-80C8-62799698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743E-4400-43B7-B14E-7FFE86A5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A1D5-E1B8-461B-8F40-AD007910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172-0ABA-4545-9B55-3FAFFE92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044C-1870-467A-BB39-455BDB1B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1735-F627-42EE-8DAA-FAD6519B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139C-76EB-4CFE-8A43-5E194AFE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4E77-C516-4A1B-B60F-C51BBF25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9C39-05C8-43AD-8D5F-4856DCDD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B4C7B-38A4-4C29-B1AA-1D7DE71C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02CDC-3A1C-4A10-AC69-DFC28FC0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429CC-1413-450A-B46C-4B8414A1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2D842-F6D6-4A3B-90FB-DA06FD89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AFB2F-3813-40AC-A669-66584314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4D8-04D6-4893-BC92-36AEA4F1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A5BD7-DDAC-4F95-9C1C-E0B1CF94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0A9BA-E653-4FCD-A4E3-68AF912F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11241-2255-4E2E-9437-17C90537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D966-6D81-4623-9DD4-8D7D3673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14A79-7F0C-4DB4-9D4B-F96EAE41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18FE6-3C59-434D-A40D-9B67C813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D7988-DC4D-4E7F-9654-AE477803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950-DE5C-4FA5-A916-656C78EC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D96-F43A-4337-A6CD-57D7355F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93B-CAF8-41C9-A6F3-44483EF5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808-9D00-44C4-A36E-F46F1843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FA2-9419-4D73-9BE9-7993181C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D4C-86B5-4F75-AFE5-3F257A19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DE03-A0A3-4756-8CD7-5D2A641C32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C535-6B75-45BC-B464-7201DEF2CF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15E5-1C0B-4D55-99E1-737B3497C2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02_02а"/>
          <p:cNvPicPr/>
          <p:nvPr/>
        </p:nvPicPr>
        <p:blipFill>
          <a:blip r:embed="rId1"/>
          <a:stretch/>
        </p:blipFill>
        <p:spPr>
          <a:xfrm>
            <a:off x="755640" y="4149720"/>
            <a:ext cx="4392720" cy="2043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4"/>
          <p:cNvSpPr txBox="1"/>
          <p:nvPr/>
        </p:nvSpPr>
        <p:spPr>
          <a:xfrm>
            <a:off x="3276720" y="1484280"/>
            <a:ext cx="5329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6600"/>
                  </a:solidFill>
                  <a:miter/>
                </a:ln>
                <a:solidFill>
                  <a:srgbClr val="4f81bd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"/>
              </a:rPr>
              <a:t>Клеточная </a:t>
            </a:r>
            <a:endParaRPr b="1" lang="en-US" sz="1800" spc="1" strike="noStrike">
              <a:ln w="38160">
                <a:solidFill>
                  <a:srgbClr val="006600"/>
                </a:solidFill>
                <a:miter/>
              </a:ln>
              <a:solidFill>
                <a:srgbClr val="4f81bd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6600"/>
                  </a:solidFill>
                  <a:miter/>
                </a:ln>
                <a:solidFill>
                  <a:srgbClr val="4f81bd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"/>
              </a:rPr>
              <a:t>теория</a:t>
            </a:r>
            <a:endParaRPr b="1" lang="en-US" sz="1800" spc="1" strike="noStrike">
              <a:ln w="38160">
                <a:solidFill>
                  <a:srgbClr val="006600"/>
                </a:solidFill>
                <a:miter/>
              </a:ln>
              <a:solidFill>
                <a:srgbClr val="4f81bd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Дата 1"/>
          <p:cNvSpPr/>
          <p:nvPr/>
        </p:nvSpPr>
        <p:spPr>
          <a:xfrm>
            <a:off x="250920" y="26028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6DF6-2237-4E07-BB24-810CF1FB2BC1}" type="datetime">
              <a:rPr b="1" lang="ru-RU" sz="2000" spc="-1" strike="noStrike">
                <a:solidFill>
                  <a:srgbClr val="00b0f0"/>
                </a:solidFill>
                <a:latin typeface="Times New Roman"/>
              </a:rPr>
              <a:t>29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Положения клеточной теории                                    Т. Шванна и М. Шлейд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1700280"/>
            <a:ext cx="928836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се организмы состоят из одинаковых частей – клеток; они образуются и растут по одним и тем же закон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Общий принцип развития для элементарных частей организма – клеткообразова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Каждая клетка в определенных границах – некое самостоятельное целое. Но эти индивидуумы действуют совместно так, что возникает гармоничное целое. Все ткани состоят из клет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роцессы, происходящие в клетках растений могут быть сведены к следующему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5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озникновение новых клеток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5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величение размеров клеток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5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вращение клеточного содержимого и утолщение клеточной стенк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Положения современной                      клеточной теории</a:t>
            </a:r>
            <a:r>
              <a:rPr b="1" lang="ru-RU" sz="2900" spc="-1" strike="noStrike">
                <a:solidFill>
                  <a:srgbClr val="800080"/>
                </a:solidFill>
                <a:latin typeface="Calibri"/>
              </a:rPr>
              <a:t>                 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8920" y="2060640"/>
            <a:ext cx="8642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етка – основная единица строения и развития всех живых организмов, наименьшая единица жив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етки всех одноклеточных и многоклеточных организмов сходны по своему строению, химическому составу, жизнедеятельности и обмену вещест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Положения современной                      клеточной теории</a:t>
            </a:r>
            <a:r>
              <a:rPr b="1" lang="ru-RU" sz="2900" spc="-1" strike="noStrike">
                <a:solidFill>
                  <a:srgbClr val="800080"/>
                </a:solidFill>
                <a:latin typeface="Calibri"/>
              </a:rPr>
              <a:t>                 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162828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множение клеток происходит путем их деления, каждая новая клетка образуется в результате деления исходной (материнской) кле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ложных многоклеточных организмах клетки специализированы по выполняемой ими функции и образуют ткани; из тканей состоят органы, которые тесно связаны между собой и подчинены нервным и гуморальным системам регуля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3720" y="10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итология –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ука о клет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02_02а"/>
          <p:cNvPicPr/>
          <p:nvPr/>
        </p:nvPicPr>
        <p:blipFill>
          <a:blip r:embed="rId1"/>
          <a:stretch/>
        </p:blipFill>
        <p:spPr>
          <a:xfrm>
            <a:off x="1116000" y="2708280"/>
            <a:ext cx="6985080" cy="2948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-33480" y="1301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от греч. 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ytos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» - клетк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os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» - наука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Цитология изуча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оение кле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имический состав кле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ункции внутриклеточных структу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ункции клеток в организ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множение и развитие кле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способления клеток к окружающей сре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182680"/>
            <a:ext cx="4475160" cy="31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Середина </a:t>
            </a: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XVII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в. – Роберт Гу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матривая тонкий срез пробки под микроскопом, увидел ячейки  (назвал их клеткам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8" descr="Рисунок Гука"/>
          <p:cNvPicPr/>
          <p:nvPr/>
        </p:nvPicPr>
        <p:blipFill>
          <a:blip r:embed="rId1"/>
          <a:stretch/>
        </p:blipFill>
        <p:spPr>
          <a:xfrm>
            <a:off x="5867280" y="2349360"/>
            <a:ext cx="2376720" cy="23670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4" name="Text Box 10"/>
          <p:cNvSpPr/>
          <p:nvPr/>
        </p:nvSpPr>
        <p:spPr>
          <a:xfrm>
            <a:off x="6012000" y="531648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исунок Р. Гу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768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2781000"/>
            <a:ext cx="52578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1680 г.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Антуан ван Левенгу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крыл одноклеточные организ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8" descr="02_02_03"/>
          <p:cNvPicPr/>
          <p:nvPr/>
        </p:nvPicPr>
        <p:blipFill>
          <a:blip r:embed="rId1"/>
          <a:stretch/>
        </p:blipFill>
        <p:spPr>
          <a:xfrm>
            <a:off x="5867280" y="1989000"/>
            <a:ext cx="2810160" cy="374508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8" name="Text Box 10"/>
          <p:cNvSpPr/>
          <p:nvPr/>
        </p:nvSpPr>
        <p:spPr>
          <a:xfrm>
            <a:off x="5651640" y="5877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. Левенгук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632-17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6800" y="-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525780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1831г.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Роберт Броу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крыл и описал ядро растительных кле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8" descr="11_33_01"/>
          <p:cNvPicPr/>
          <p:nvPr/>
        </p:nvPicPr>
        <p:blipFill>
          <a:blip r:embed="rId1"/>
          <a:stretch/>
        </p:blipFill>
        <p:spPr>
          <a:xfrm>
            <a:off x="5940360" y="1989000"/>
            <a:ext cx="2700360" cy="36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2" name="Text Box 5"/>
          <p:cNvSpPr/>
          <p:nvPr/>
        </p:nvSpPr>
        <p:spPr>
          <a:xfrm>
            <a:off x="5651640" y="5877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берт Броун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773-185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4762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Сер. </a:t>
            </a: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XIX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в.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Матиас Шлейден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учал клетки раст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мотрел роль ядра в жизни и развитии раст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ложил теорию создания новых клеток из стары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0" descr="02_02_05"/>
          <p:cNvPicPr/>
          <p:nvPr/>
        </p:nvPicPr>
        <p:blipFill>
          <a:blip r:embed="rId1"/>
          <a:stretch/>
        </p:blipFill>
        <p:spPr>
          <a:xfrm>
            <a:off x="6012000" y="1916280"/>
            <a:ext cx="2376360" cy="3168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6" name="Text Box 8"/>
          <p:cNvSpPr/>
          <p:nvPr/>
        </p:nvSpPr>
        <p:spPr>
          <a:xfrm>
            <a:off x="6156360" y="5300640"/>
            <a:ext cx="21240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тиас Шлейде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804-188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5580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Сер. </a:t>
            </a: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XIX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в.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Теодор Шванн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учал клетки животн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поставив данные                  М. Шлейдена со своими, пришел к выводу, что растения и животные состоят из кле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формулировал основные положения клеточной те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8" descr="02_02_04"/>
          <p:cNvPicPr/>
          <p:nvPr/>
        </p:nvPicPr>
        <p:blipFill>
          <a:blip r:embed="rId1"/>
          <a:stretch/>
        </p:blipFill>
        <p:spPr>
          <a:xfrm>
            <a:off x="6300720" y="1916280"/>
            <a:ext cx="2424240" cy="32320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0" name="Text Box 4"/>
          <p:cNvSpPr/>
          <p:nvPr/>
        </p:nvSpPr>
        <p:spPr>
          <a:xfrm>
            <a:off x="6372360" y="5300640"/>
            <a:ext cx="21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одор Шванн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810-188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стория 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зучения</a:t>
            </a: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 кл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44276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1838-1839 г. – клеточная теор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Создателями клеточной теории счита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Теодор Шванн и Матиас Шлейд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 организмы, как растительные, так и животные, состоят из клет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етки растений и животных сходны по стро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284720" y="1989000"/>
            <a:ext cx="4859280" cy="2846160"/>
            <a:chOff x="4284720" y="1989000"/>
            <a:chExt cx="4859280" cy="2846160"/>
          </a:xfrm>
        </p:grpSpPr>
        <p:pic>
          <p:nvPicPr>
            <p:cNvPr id="154" name="Picture 5" descr="02_02_01"/>
            <p:cNvPicPr/>
            <p:nvPr/>
          </p:nvPicPr>
          <p:blipFill>
            <a:blip r:embed="rId1"/>
            <a:stretch/>
          </p:blipFill>
          <p:spPr>
            <a:xfrm>
              <a:off x="4284720" y="1989000"/>
              <a:ext cx="4859280" cy="2846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eeece1">
                  <a:alpha val="50000"/>
                </a:srgbClr>
              </a:outerShdw>
            </a:effectLst>
          </p:spPr>
        </p:pic>
        <p:sp>
          <p:nvSpPr>
            <p:cNvPr id="155" name="Line 6"/>
            <p:cNvSpPr/>
            <p:nvPr/>
          </p:nvSpPr>
          <p:spPr>
            <a:xfrm>
              <a:off x="6785280" y="1989000"/>
              <a:ext cx="0" cy="28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Text Box 7"/>
          <p:cNvSpPr/>
          <p:nvPr/>
        </p:nvSpPr>
        <p:spPr>
          <a:xfrm>
            <a:off x="4932360" y="4869000"/>
            <a:ext cx="22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. Шва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093080" y="4869000"/>
            <a:ext cx="22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. Шлейд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ла Матросова</cp:lastModifiedBy>
  <dcterms:modified xsi:type="dcterms:W3CDTF">2020-09-24T17:01:38Z</dcterms:modified>
  <cp:revision>22</cp:revision>
  <dc:subject/>
  <dc:title>PowerPoint Presentation</dc:title>
</cp:coreProperties>
</file>