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E14-C365-4730-AE5F-8F2D3303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C8D-6494-4FA0-B35B-EAEB6E0C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BAB-667C-4B22-94B7-C07996AD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42E-9773-4E7F-BCEA-69E6C81D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375-8311-4D1D-B25A-79188290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DF8-7FD3-40DC-86C0-DEBCD0F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A49-2D1D-4C7A-A43A-0575ED4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6C2-607A-46C2-92BB-CE2F582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D55-6C45-42E6-B204-A0CDFDA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01E-6D32-4639-B602-C4072D89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C01B-47E6-4A2C-85D5-14AA827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13C-662D-4E84-9B31-957D5F8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4706-442F-4688-9970-65F44C0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7F2B-704F-4E87-B27C-7EBD7C1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E54-D07C-4463-B600-CD4D4BE7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8BA5-1AC9-41A5-828F-80EE42CD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9240-DAC9-41C1-8D6C-EE535D29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EC54-CA29-48BF-8287-F766516F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DE99-C868-4B1B-B12D-424098CC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69C5-0775-4B20-9736-7AFAF526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386F-922D-4A5D-9AE9-54C55C6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38BA-2AC9-40BD-A6BE-9AE40484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06C-041E-4FD4-84EA-94AD41F1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FC2A-7A41-4E7F-A831-DBCB4DDC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C748-F481-42BA-8A22-BE5E561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52EF7-3C79-410D-9182-BE96D05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E107-6320-464D-8129-18FDF04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7E26-6DB8-47F9-967F-CF4CE32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EA03-EF3D-4384-B976-290F3DF9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6A0A-F51D-40E5-86CE-955F6987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0C4-312D-45E9-9789-83F06BE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288-FA6E-4A8D-9384-D4142057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062-3246-4262-AB0F-96CA2CF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F60-1354-490F-8F69-BF6E18C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213-DDFB-4FA4-9572-D0EACE0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67A-826C-458E-94DA-688DF7F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A81C-8880-4567-9709-CB6A1F95D6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6DD-D2DE-4BB3-B66E-BC1C742D53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C76B-53E7-44B0-A448-C9172B5632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50104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Приготовление препарата   кожицы чешуи л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395280" y="476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FB3-FB84-4F0D-B815-6F62140E8A50}" type="datetime">
              <a:rPr b="1" lang="ru-RU" sz="1800" spc="-1" strike="noStrike">
                <a:solidFill>
                  <a:srgbClr val="00b050"/>
                </a:solidFill>
                <a:latin typeface="Arial"/>
              </a:rPr>
              <a:t>29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:\МОИ ДОКУМЕНТЫ-2\картинки биология\общая биология\цитология\микроскоп и приготовление препаратов\этапы приготовления препарата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1596960" y="-12600"/>
            <a:ext cx="59500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4608720" cy="4681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64000" y="2205000"/>
            <a:ext cx="180000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3564000" y="2205000"/>
            <a:ext cx="1152360" cy="216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971640" y="220500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8"/>
          <p:cNvSpPr txBox="1"/>
          <p:nvPr/>
        </p:nvSpPr>
        <p:spPr>
          <a:xfrm>
            <a:off x="900000" y="177336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ку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09:28Z</dcterms:created>
  <dc:creator>user</dc:creator>
  <dc:description/>
  <dc:language>en-US</dc:language>
  <cp:lastModifiedBy>Алла Матросова</cp:lastModifiedBy>
  <dcterms:modified xsi:type="dcterms:W3CDTF">2020-10-01T19:23:57Z</dcterms:modified>
  <cp:revision>100</cp:revision>
  <dc:subject/>
  <dc:title>Особенности ЕГЭ по биологии 2012 год</dc:title>
</cp:coreProperties>
</file>