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1C0F-4400-4984-96A6-4B9E0AF9A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A768-E3B7-43E4-9452-215606DE0E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A02B-F336-42B7-A114-A97FD01AAD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оплазма представляет собой водянистое вещество –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итозо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90 % воды), в котором располагаются различны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рганелл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же питательные вещества (в виде истинных и коллоидных растворов) и нерастворимые отходы метаболических процессов. В цитозоле протекает гликолиз, синтез жирных кислот, нуклеотидов и других веществ. Цитоплазма является динамической структурой. Органеллы движутся, а иногда заметен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икло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активное движение, в которое вовлекается вся протопла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726D-2F53-4B3E-A23E-BE32F542B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яя мембрана сложена в складки, называемы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рист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озможно, митохондрии некогда были свободнодвижущимися бактериями, которые, случайно проникнув в клетку, вступили с хозяином в симбиоз. Важнейшей функцией митохондрий является синтез АТФ, происходящий за счёт окисления органических веще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итохондр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огда называют «клеточными электростанциями». Это спиральные, округлые, вытянутые или разветвлённые органеллы, длина которых изменяется в пределах 1,5–10 мкм, а ширина – 0,25–1 мкм. Митохондрии могут изменять свою форму и перемещаться в те области клетки, где потребность в них наиболее высока. В клетке содержится до тысячи митохондрий, причём это количество сильно зависит от активности клетки. Каждая митохондрия окружена двумя мембранами, внутри которых содержатся РНК, белки и митохондриальная ДНК, участвующая в синтезе митохондрий наряду с ядерной ДН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23AE-D2D3-4ED9-AE53-50E8DDDBF6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ндоплазматическая се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сеть мембран, пронизывающих цитоплазму эукариотических клеток. Её можно наблюдать только при помощи электронного микроскопа. Эндоплазматическая сеть связывает органеллы между собой, по ней происходит транспорт питательных веществ. Различают гладкую и шероховатую ЭПС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д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С имеет вид трубочек, стенки которых представляют собой мембраны, сходные по своей структуре с плазматической мембраной. В ней осуществляется синтез липидов и углев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9336-2A50-4385-A769-11C2D16D84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ппарат Гольджи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тавляет собой стопку мембранных мешочков (цистерн) и связанную с ними систему пузырьков. На наружной, вогнутой стороне стопки из пузырьков (отпочковывающихся, по-видимому, от гладкой эндоплазматической сети) постоянно образуются новые цистерны, на внутренней стороне цистерны превращаются обратно в пузырьки. Основной функцией аппарата Гольджи является транспорт веществ в цитоплазму и внеклеточную среду, а также синтез жиров и углеводов, в частности, гликопротеина муцина, образующего слизь, а также воска, камеди и растительного клея. Аппарат Гольджи участвует в росте и обновлении плазматической мембраны и в формировании лизо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88F9-C104-4B42-A24B-4D19DD1B15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ласт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рганеллы, свойственные только растительным клеткам. Они окружены двойной мембраной. Пластиды делятся н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лоропла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существляющие фотосинтез,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ромопла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крашивающие отдельные части растений в красные, оранжевые и жёлтые тона,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ейкопла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способленные для хранения питательных веществ: белков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теинопла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жиров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ипидопла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и крахмала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милопла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стиды обладают относительной автономией. Так же, как и митохондрии, образующиеся из предшествующих митохондрий, они рождаются только из родительских пластид. По-видимому, пластиды также произошли от симбиотических прокариот, поселившихся в клетках организма-хозяина миллиарды лет наза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D5AD-E419-4213-B4BF-12568916DB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изосом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редставляют собой мембранные мешочки, наполненные пищеварительными ферментами. Особенно много лизосом в животных клетках, здесь их размер составляет десятые доли микромет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изосомы расщепляют питательные вещества, переваривают попавшие в клетку бактерии, выделяют ферменты, удаляют путём переваривания ненужные части клеток. Лизосомы также являются «средствами самоубийства» клетки: в некоторых случаях (например, при отмирании хвоста у головастика) содержимое лизосом выбрасывается в клетку, и она погибает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9DD2-3A34-4872-84EB-7E77D007AB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ибосом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мелкие (15–20 нм в диаметре) органеллы, состоящие 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-РНК и полипептидов. Важнейшая функция рибосом – синтез белка. Их количество в клетке весьма велико: тысячи и десятки тысяч. Рибосомы могут быть связаны с эндоплазматической сетью или находиться в свободном состоянии. В процессе синтеза обычно одновременно участвуют множество рибосом, объединённых в цепи, называемы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лирибосомам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8119-85E0-4088-A51D-DF00B122E6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ти во всех эукариотических клетках имеются полые цилиндрические органеллы диаметром около 25 нм, называющие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икротрубочкам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В длину они могут достигать нескольких микрометров. Стенки микротрубочек сложены из белка тубули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летках животных и низших растений встречаю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нтриол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елкие полые цилиндры длиной в десятые доли микрометра, построенные из 27 микротрубочек. Во время деления клетки они образуют веретено, вдоль которого выстраиваются хромосомы. Центриолям по структурам идентичны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азальные тельц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содержащиеся в жгутиках и ресничках. Эти органеллы вызывают биение жгутиков. Другая функция микротрубочек – транспорт питательных веще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8550-5E0B-4BDC-8FCB-AAD3688FDE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дро отграничено от цитоплазмы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ядерной оболоч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ая состоит из двух мембран: наружной и внутренней, имеющих такое же строение, как и плазматическая мембрана. Между ними находится узкое пространство, заполненное полужидким веществом. Через множество пор в ядерной оболочке осуществляется обмен веществ между ядром и цитоплазмой (в частности, выход и-РНК в цитоплазму). Внешняя мембрана часто бывает усеяна рибосомами, синтезирующими бел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ядерной оболочкой находи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риоплаз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ядерный сок), в которую поступают вещества из цитоплазмы. Кариоплазма содержит хроматин – вещество, несущее ДНК,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ядрыш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Ядрышко – это округлая структура внутри ядра, в которой происходит формирование рибо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7A3A-8F7F-4572-91F5-2D6E16592B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хромосом, содержащихся в хроматине,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ромосомным набор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Число хромосом в соматических клетка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иплоидн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2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в отличие от половых клеток, имеющи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аплоидн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бор хромосом 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ей функцией ядра является сохранение генетической информации. При делении клетки ядро также делится надвое, а находящаяся в нём ДНК копируется (реплицируется). Благодаря этому у всех дочерних клеток также имеются яд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2C01-01E1-4574-AE84-D598F2456A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стительных клетках присутствуют все органеллы, обнаруженные в животных клетках (за исключением центриолей). Однако имеются в них и свойственные только для растений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очные стенки растений состоят из целлюлозы, образующей микрофибриллы. В клетках древовидных растений слои целлюлозы пропитываются лигнином, придающим им дополнительную жёсткость. Клеточные стенки служат растениям опорой, предохраняют клетки от разрыва, определяют форму клетки, играют важную роль в транспорте воды и питательных веществ от клетки к клетке. Соседние клетки связаны друг с другом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лазмодесм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оходящими через мелкие поры клеточных сте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F90-8EF4-477F-9403-C480CB7D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6B5E-C9AF-4AAF-B501-E2C20CBC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5AC-657B-410D-909D-7CCEE6A0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D55-14BC-45A5-A8F9-58EC0EAE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022E-F898-46D4-AC80-E03ABCDD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77D4-6593-484E-9359-B0222A49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27A-5DF8-4088-BFCC-707D4818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707-42DF-420F-80CB-603848A4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773-9036-43C8-AF64-3A76A388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2B1-8B46-4FA8-87D2-C20616E9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A66-5BCB-4CD6-8564-47908B09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967-B146-4942-A55F-96BF64F4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DDB9-6B9F-4178-89E9-C2A19F55C42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1.xm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1" descr=""/>
          <p:cNvPicPr/>
          <p:nvPr/>
        </p:nvPicPr>
        <p:blipFill>
          <a:blip r:embed="rId1"/>
          <a:stretch/>
        </p:blipFill>
        <p:spPr>
          <a:xfrm>
            <a:off x="2414520" y="5005440"/>
            <a:ext cx="4267440" cy="7063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"/>
          <p:cNvPicPr/>
          <p:nvPr/>
        </p:nvPicPr>
        <p:blipFill>
          <a:blip r:embed="rId2"/>
          <a:stretch/>
        </p:blipFill>
        <p:spPr>
          <a:xfrm>
            <a:off x="1432080" y="1530360"/>
            <a:ext cx="6529320" cy="3236760"/>
          </a:xfrm>
          <a:prstGeom prst="rect">
            <a:avLst/>
          </a:prstGeom>
          <a:ln w="0">
            <a:noFill/>
          </a:ln>
        </p:spPr>
      </p:pic>
      <p:sp>
        <p:nvSpPr>
          <p:cNvPr id="50" name="Дата 3"/>
          <p:cNvSpPr/>
          <p:nvPr/>
        </p:nvSpPr>
        <p:spPr>
          <a:xfrm>
            <a:off x="17928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2731-AB90-4E45-AECD-2D49ADEDD37E}" type="datetime">
              <a:rPr b="1" i="1" lang="ru-RU" sz="4800" spc="-1" strike="noStrike">
                <a:solidFill>
                  <a:srgbClr val="c00000"/>
                </a:solidFill>
                <a:latin typeface="Adine Kirnberg"/>
              </a:rPr>
              <a:t>29.07.26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Натрий-калиевый насо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1"/>
          <a:stretch/>
        </p:blipFill>
        <p:spPr>
          <a:xfrm>
            <a:off x="324000" y="1914480"/>
            <a:ext cx="4032000" cy="3602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360" y="1341000"/>
            <a:ext cx="475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нутриклеточная часть белка расщепляет молекулы АТФ. Это обеспечивает выведение из клетки трех ионов натрия и поступление двух ионов калия. Таким образом внутри клетки поддерживается высокая концентрация калия (в 35 раз выше, чем вне клетки) и низкая концентрация натрия (в 14 раз ниже внеклеточной). Это важно для создания электрических потенциалов на мембранах, процесса возбуждения в нервных и мышечных клетках, нормального протекания других внутриклеточных процесс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Цитоплаз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19640" cy="3843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3280" y="1125360"/>
            <a:ext cx="428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Основние вещество цитоплазмы – </a:t>
            </a: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гиалоплаз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уществует в 2 формах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о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более жидкая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более густ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 Органелл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постоянные компон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 Включ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временные компон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йство цитоплазмы 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иклоз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остоянное движ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327240" y="5229360"/>
            <a:ext cx="36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язательная часть клет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люченная между плазм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ческой мембраной и ядр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1476360" y="429228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Митохондр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3923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Состав и стро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мбран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уж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нутренняя(образует выросты – крист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атрик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внутреннее полужидкое содержимое, включающее ДНК, РНК, белок и рибосом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alibri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нтез АТ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нтез собственных органических вещест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ние собственных рибос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митохондрии"/>
          <p:cNvPicPr/>
          <p:nvPr/>
        </p:nvPicPr>
        <p:blipFill>
          <a:blip r:embed="rId1"/>
          <a:stretch/>
        </p:blipFill>
        <p:spPr>
          <a:xfrm>
            <a:off x="4716360" y="907920"/>
            <a:ext cx="414360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Эндоплазматическая се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мембрана образу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л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наль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убо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оверхности мембран – рибосо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нтез органических веществ (с помощью рибос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порт веще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7200720" cy="22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9944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Аппарат Гольдж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АГ"/>
          <p:cNvPicPr/>
          <p:nvPr/>
        </p:nvPicPr>
        <p:blipFill>
          <a:blip r:embed="rId1"/>
          <a:stretch/>
        </p:blipFill>
        <p:spPr>
          <a:xfrm>
            <a:off x="5218200" y="1052640"/>
            <a:ext cx="3673440" cy="2622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3280" y="3517920"/>
            <a:ext cx="864072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руженные мембранами полости (цистерны) и связанная с ними система пузырь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копление органических веще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Упаковка» органических веще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ведение органических веще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ование лизос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4176720" cy="2622600"/>
          </a:xfrm>
          <a:prstGeom prst="rect">
            <a:avLst/>
          </a:prstGeom>
          <a:ln w="0">
            <a:noFill/>
          </a:ln>
        </p:spPr>
      </p:pic>
      <p:sp>
        <p:nvSpPr>
          <p:cNvPr id="97" name="Line 11"/>
          <p:cNvSpPr/>
          <p:nvPr/>
        </p:nvSpPr>
        <p:spPr>
          <a:xfrm>
            <a:off x="4427640" y="1989000"/>
            <a:ext cx="649080" cy="0"/>
          </a:xfrm>
          <a:prstGeom prst="line">
            <a:avLst/>
          </a:prstGeom>
          <a:ln w="38160">
            <a:solidFill>
              <a:srgbClr val="66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6059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Пласти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 мембр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уж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утренняя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щие хлорофилл граны, собранные из стопки тилакоидных мембра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рик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внутренняя полужидкая среда, содержащая белки, ДНК, РНК и рибосом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7" descr="пластиды"/>
          <p:cNvPicPr/>
          <p:nvPr/>
        </p:nvPicPr>
        <p:blipFill>
          <a:blip r:embed="rId1"/>
          <a:stretch/>
        </p:blipFill>
        <p:spPr>
          <a:xfrm>
            <a:off x="3203640" y="4381560"/>
            <a:ext cx="5249880" cy="2187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324000" y="765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Лейкопла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6660000" y="692280"/>
            <a:ext cx="180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ромопла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348000" y="105552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Хлоропла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2050560" y="620640"/>
            <a:ext cx="2305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4356000" y="62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4356000" y="620640"/>
            <a:ext cx="230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6"/>
          <p:cNvSpPr/>
          <p:nvPr/>
        </p:nvSpPr>
        <p:spPr>
          <a:xfrm flipH="1">
            <a:off x="1403280" y="1268280"/>
            <a:ext cx="194472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468360" y="4076640"/>
            <a:ext cx="24112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ез АТ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ез углев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синтез собственных бел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Лизосо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лизосома"/>
          <p:cNvPicPr/>
          <p:nvPr/>
        </p:nvPicPr>
        <p:blipFill>
          <a:blip r:embed="rId1"/>
          <a:stretch/>
        </p:blipFill>
        <p:spPr>
          <a:xfrm>
            <a:off x="468360" y="1413000"/>
            <a:ext cx="3986280" cy="2846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тро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зырьки овальной формы (снаружи – мембрана, внутри – фермент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щепление органических вещест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рушение отмерших органоидов клетк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ничтожение отработавших клет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Не мембранные органеллы</a:t>
            </a:r>
            <a:br>
              <a:rPr sz="3600"/>
            </a:br>
            <a:r>
              <a:rPr b="1" lang="ru-RU" sz="3600" spc="-1" strike="noStrike">
                <a:solidFill>
                  <a:srgbClr val="8eb4e3"/>
                </a:solidFill>
                <a:latin typeface="Calibri"/>
              </a:rPr>
              <a:t>Рибосо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тро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л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ольш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оста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НК (рибосомна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л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ет биосинтез белка (сборку белковой молекулы из аминокислот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5435640" y="1243080"/>
            <a:ext cx="3155760" cy="21859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2"/>
          <p:cNvSpPr/>
          <p:nvPr/>
        </p:nvSpPr>
        <p:spPr>
          <a:xfrm>
            <a:off x="2627280" y="1989000"/>
            <a:ext cx="360360" cy="79236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043800" y="21528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ъ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1" descr=""/>
          <p:cNvPicPr/>
          <p:nvPr/>
        </p:nvPicPr>
        <p:blipFill>
          <a:blip r:embed="rId2"/>
          <a:stretch/>
        </p:blipFill>
        <p:spPr>
          <a:xfrm>
            <a:off x="5724360" y="3821040"/>
            <a:ext cx="3240360" cy="24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68518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b4e3"/>
                </a:solidFill>
                <a:latin typeface="Calibri"/>
              </a:rPr>
              <a:t>Клеточный цент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8200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тро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Центриоли 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положены перпендикулярно друг друг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остав центриол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лковые микротрубоч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войства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особны к удвое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имает участие в делении клеток животных и низших раст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8" descr="центриоли"/>
          <p:cNvPicPr/>
          <p:nvPr/>
        </p:nvPicPr>
        <p:blipFill>
          <a:blip r:embed="rId1"/>
          <a:stretch/>
        </p:blipFill>
        <p:spPr>
          <a:xfrm>
            <a:off x="2627280" y="4076640"/>
            <a:ext cx="554688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04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b4e3"/>
                </a:solidFill>
                <a:latin typeface="Calibri"/>
              </a:rPr>
              <a:t>Органеллы дви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557360"/>
            <a:ext cx="76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Реснич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численные цитоплазматические выросты на мемб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Жгутики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инич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топлазматические выросты на мемб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севдопод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мебовидные выступы цитоплаз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Миофибрилл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нкие нити длиной до 1 с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Клеточная тео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етка – основная единица строения и развития всех живых организм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етки всех организмов сходны по своему строению, химическому составу, основным проявлениям жизнедеятель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ая новая клетка образуется в результате деления исходной (материнской) клет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многоклеточных организмах клетки специализированы по выполняемой ими функции и образуют ткани. Из тканей состоят органы, которые тесно связаны между собой и подчинены системам регуля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Egg"/>
          <p:cNvPicPr/>
          <p:nvPr/>
        </p:nvPicPr>
        <p:blipFill>
          <a:blip r:embed="rId1"/>
          <a:stretch/>
        </p:blipFill>
        <p:spPr>
          <a:xfrm>
            <a:off x="1476360" y="1193760"/>
            <a:ext cx="6408720" cy="4254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Ядр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80560" y="5634000"/>
            <a:ext cx="7597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Ядр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ся в клетка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х эукарио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исключением эритроцитов млекопитающ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Ядр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788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тро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Ядерная оболочка (2 мембранная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ужная мембр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утренняя мембра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Ядерный сок 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лки, ДНК, вода, мин. сол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Ядрышко (белок и р-РН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Хромосомы (хроматин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Н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л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6" descr="09010301"/>
          <p:cNvPicPr/>
          <p:nvPr/>
        </p:nvPicPr>
        <p:blipFill>
          <a:blip r:embed="rId1"/>
          <a:stretch/>
        </p:blipFill>
        <p:spPr>
          <a:xfrm>
            <a:off x="4859280" y="1989000"/>
            <a:ext cx="408168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Яд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78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гуляция процесса обмена вещест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анение наследственной информации и ее воспроизводств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тез РН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борка рибосом (рибосомальный белок + рибосомальная РНК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158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Пероксис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60872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ероксисо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микротельца) имеют округлые очертания и окружены мембраной. Их размер не превышает 1,5 мкм. Пероксисомы связаны с эндоплазматической сетью и содержат ряд важных ферментов, в частности, каталазу, участвующую в разложении перекиси водор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7" descr="пероксисома"/>
          <p:cNvPicPr/>
          <p:nvPr/>
        </p:nvPicPr>
        <p:blipFill>
          <a:blip r:embed="rId1"/>
          <a:stretch/>
        </p:blipFill>
        <p:spPr>
          <a:xfrm>
            <a:off x="4932360" y="2060640"/>
            <a:ext cx="3884760" cy="32367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5574960" y="5883120"/>
            <a:ext cx="289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оксисома клетки ли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центре её кристалл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лковое ядр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34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Цитоскелет, микрофила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кротрубочки представляют собой достаточно жёсткие структуры и поддерживают форму клетки, образуя своеобразный </a:t>
            </a:r>
            <a:r>
              <a:rPr b="1" i="1" lang="ru-RU" sz="2400" spc="-1" strike="noStrike">
                <a:solidFill>
                  <a:srgbClr val="558ed5"/>
                </a:solidFill>
                <a:latin typeface="Calibri"/>
              </a:rPr>
              <a:t>цитоскел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С опорой и движением связана и ещё одна форма органелл – </a:t>
            </a:r>
            <a:r>
              <a:rPr b="1" i="1" lang="ru-RU" sz="2400" spc="-1" strike="noStrike">
                <a:solidFill>
                  <a:srgbClr val="558ed5"/>
                </a:solidFill>
                <a:latin typeface="Calibri"/>
              </a:rPr>
              <a:t>микрофиламен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тонкие белковые нити диаметром 5–7 н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7" descr="цитоскелет"/>
          <p:cNvPicPr/>
          <p:nvPr/>
        </p:nvPicPr>
        <p:blipFill>
          <a:blip r:embed="rId1"/>
          <a:stretch/>
        </p:blipFill>
        <p:spPr>
          <a:xfrm>
            <a:off x="4643280" y="1557360"/>
            <a:ext cx="4305600" cy="30751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4997520" y="4869000"/>
            <a:ext cx="363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итоскелет клетки. Микрофиламен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рашены в синий, микротрубочки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зеленый, промежуточные волокн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расный цв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Особенности растительных кле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5" descr="раст"/>
          <p:cNvPicPr/>
          <p:nvPr/>
        </p:nvPicPr>
        <p:blipFill>
          <a:blip r:embed="rId1"/>
          <a:stretch/>
        </p:blipFill>
        <p:spPr>
          <a:xfrm>
            <a:off x="395280" y="1700280"/>
            <a:ext cx="4148280" cy="36050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8000" y="1557360"/>
            <a:ext cx="352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стительных клетках присутствуют все органеллы, обнаруженные в животных клетках (за исключением центриолей). Однако имеются в них и свойственные только для растений структу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еточные стенки растений состоят из целлюлозы, образующей микрофибриллы. В клетках древовидных растений слои целлюлозы пропитываются лигнином, придающим им дополнительную жёсткос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80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Вакуо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4797000"/>
            <a:ext cx="720108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акуо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наполненный жидкостью мембранный мешочек. Жидкость, заполняющая её,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леточным сок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Это концентрированный раствор сахаров, минеральных солей, органических кислот, пигментов и других вещест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Рисунок 1" descr=""/>
          <p:cNvPicPr/>
          <p:nvPr/>
        </p:nvPicPr>
        <p:blipFill>
          <a:blip r:embed="rId1"/>
          <a:stretch/>
        </p:blipFill>
        <p:spPr>
          <a:xfrm>
            <a:off x="2195640" y="1292400"/>
            <a:ext cx="3889080" cy="335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7180560" y="148428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ку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Прямая со стрелкой 4"/>
          <p:cNvCxnSpPr/>
          <p:nvPr/>
        </p:nvCxnSpPr>
        <p:spPr>
          <a:xfrm flipH="1">
            <a:off x="4284000" y="1883880"/>
            <a:ext cx="3167640" cy="1258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леточные структуры и их фун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26920" y="2060640"/>
          <a:ext cx="7490160" cy="741240"/>
        </p:xfrm>
        <a:graphic>
          <a:graphicData uri="http://schemas.openxmlformats.org/drawingml/2006/table">
            <a:tbl>
              <a:tblPr/>
              <a:tblGrid>
                <a:gridCol w="2497320"/>
                <a:gridCol w="2495520"/>
                <a:gridCol w="24973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струк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Поверхностный аппарат кле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35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ль барьера между клетками играет поверхностный аппарат клеток, который состоит из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00000" y="2924280"/>
          <a:ext cx="7093080" cy="2066760"/>
        </p:xfrm>
        <a:graphic>
          <a:graphicData uri="http://schemas.openxmlformats.org/drawingml/2006/table">
            <a:tbl>
              <a:tblPr/>
              <a:tblGrid>
                <a:gridCol w="7093080"/>
              </a:tblGrid>
              <a:tr h="20667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зматической мембран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мембранного комплекс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2952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0504d"/>
                        </a:buClr>
                        <a:buFont typeface="Arial"/>
                        <a:buAutoNum type="arabicPeriod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животных – гликокаликс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2952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0504d"/>
                        </a:buClr>
                        <a:buFont typeface="Arial"/>
                        <a:buAutoNum type="arabicPeriod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растений – клеточная стен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ff"/>
                        </a:buClr>
                        <a:buFont typeface="Wingdings" charset="2"/>
                        <a:buChar char="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9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6121440" cy="3403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42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Состав и строение наружной плазматической мембра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ойной слой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липи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Бел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гле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3635280" y="2205000"/>
            <a:ext cx="360360" cy="2448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3635280" y="2205000"/>
            <a:ext cx="144720" cy="3240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1908000" y="3068640"/>
            <a:ext cx="576360" cy="100800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1547640" y="2421000"/>
            <a:ext cx="144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2987640" y="2421000"/>
            <a:ext cx="71640" cy="18716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 flipH="1">
            <a:off x="2700360" y="2421000"/>
            <a:ext cx="287280" cy="237636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1773000"/>
            <a:ext cx="60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граничение внутренней среды клетки, сохранение ее форм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щита от повреждени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цепторная функц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спорт веществ через плазматические мембра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рансмембранный транспорт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порт в мембранной упаковке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эндоцитоз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экзоцитоз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Основные функции поверхностного аппара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GBI_1D41_01Na.avi" descr=""/>
          <p:cNvPicPr/>
          <p:nvPr/>
        </p:nvPicPr>
        <p:blipFill>
          <a:blip r:embed="rId3"/>
          <a:stretch/>
        </p:blipFill>
        <p:spPr>
          <a:xfrm>
            <a:off x="6156360" y="2637000"/>
            <a:ext cx="2736720" cy="2239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GBI_1D41_01Na"/>
          <p:cNvPicPr/>
          <p:nvPr/>
        </p:nvPicPr>
        <p:blipFill>
          <a:blip r:embed="rId4"/>
          <a:stretch/>
        </p:blipFill>
        <p:spPr>
          <a:xfrm>
            <a:off x="6156360" y="263700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104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Транспорт веществ через плазматические мембра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1484280"/>
            <a:ext cx="8291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ют следующи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ханизмы транспорта вещест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через мембран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иффуз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азов - обеспечивает перемещение маленьких, незаряженных молекул  по градиенту концентрации между молекулами липид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иффузия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творимого в воде вещества проходит через мембрану по особому каналу, создаваемому белком-переносчико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смо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диффузия воды через полупроницаемые мембра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808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Calibri"/>
              </a:rPr>
              <a:t>Активный транспор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640" y="1125360"/>
            <a:ext cx="81583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тивный транспор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перенос молекул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+, H+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области с меньшей концентрацией в область с большей (против градиента концентраци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редством специальных транспортных бел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Calibri"/>
              </a:rPr>
              <a:t>Процесс требует затраты энергии АТ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1800" y="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Натрий-калиевый насос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мен осуществляется при помощи специальных белков, образующих в мембране так называемые канал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1"/>
          <a:stretch/>
        </p:blipFill>
        <p:spPr>
          <a:xfrm>
            <a:off x="4491000" y="1857240"/>
            <a:ext cx="4257720" cy="38037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"/>
          <p:cNvSpPr/>
          <p:nvPr/>
        </p:nvSpPr>
        <p:spPr>
          <a:xfrm>
            <a:off x="0" y="5956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рисунке показана работа такого канала (насоса), обеспечивающего движение ионов натрия и калия через клеточную мембра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0:14:31Z</dcterms:created>
  <dc:creator>vala</dc:creator>
  <dc:description/>
  <dc:language>en-US</dc:language>
  <cp:lastModifiedBy>Пользователь</cp:lastModifiedBy>
  <dcterms:modified xsi:type="dcterms:W3CDTF">2020-11-18T07:35:56Z</dcterms:modified>
  <cp:revision>116</cp:revision>
  <dc:subject/>
  <dc:title>Клеточная теория  </dc:title>
</cp:coreProperties>
</file>