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8417-6CF0-466E-B2C3-6FE960EA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E2EC-0FD7-4609-93F9-9769931A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52AA-C780-45CA-853F-4C30A551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3C2-A071-4570-9919-7A94383B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3C65-4650-4F30-8F0F-67A28087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C56B-6E58-434B-B299-E6E64845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8A45-59E2-46F9-986B-0A31608B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D6CB-DA9C-481F-BF24-54441931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0550-CA7B-4450-BC7B-CD148254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758F-E06B-4ED0-B4BC-CEAFB5B5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6DE6-7A35-40B7-ABF9-685DC1EB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13A-244E-4DDF-A26E-1A4ACC57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7350-D9FB-4BF3-988C-06A7B2F6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FCDA-6F76-4F47-A456-85CE1804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967C-992E-4B80-BD30-B44B0B10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E6B1-7AFD-4706-BE7A-0EA784D5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E780-D9EB-4277-BDA2-B779ECEE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E7D-1912-4AB8-AEE2-555DD4BE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A16-1F35-412B-B810-AAF4E0AE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903D-6E38-4040-A268-0935B225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5BB-8E15-4135-B16D-8B67F207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BC85-2722-49BF-9317-5CEA2165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EF7A-7031-494F-887D-03248465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4BE-4509-4FAE-B399-98C8F66D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B17F-95AF-4FD6-BCAF-CDA9FAD64D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758A-DC86-4F3E-B874-3268826A33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7920" y="6480"/>
            <a:ext cx="91360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762120" y="228600"/>
            <a:ext cx="8001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на Морфолог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533520" y="2133720"/>
            <a:ext cx="4647960" cy="4267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6629400" y="4495680"/>
            <a:ext cx="2133720" cy="1905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ю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4038480" y="16765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г Самостоятельных часте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5943600" y="37339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г служебных частей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1143000" y="3048120"/>
            <a:ext cx="30492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1143000" y="3048120"/>
            <a:ext cx="30492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1523880" y="3048120"/>
            <a:ext cx="30492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лага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1905120" y="3048120"/>
            <a:ext cx="30456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2362320" y="3048120"/>
            <a:ext cx="30456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2819520" y="3048120"/>
            <a:ext cx="30456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епри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3200400" y="3048120"/>
            <a:ext cx="30492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657600" y="3048120"/>
            <a:ext cx="304920" cy="2514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им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4191120" y="4038480"/>
            <a:ext cx="304560" cy="1447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066680" y="3200400"/>
            <a:ext cx="454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1558440" y="4038480"/>
            <a:ext cx="729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9"/>
          <p:cNvSpPr/>
          <p:nvPr/>
        </p:nvSpPr>
        <p:spPr>
          <a:xfrm>
            <a:off x="2289960" y="3735000"/>
            <a:ext cx="45468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тгадай часть реч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дя(н-нн)ая гор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(а-я)щ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негоубо(р-рь)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(е-и)рев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ёло(ч–чь)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кр(и-е)пучий сн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(е-и)лёные е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35809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           </a:t>
            </a:r>
            <a:r>
              <a:rPr b="0" lang="ru-RU" sz="8000" spc="-1" strike="noStrike">
                <a:solidFill>
                  <a:srgbClr val="330033"/>
                </a:solidFill>
                <a:latin typeface="Times New Roman"/>
              </a:rPr>
              <a:t>НАРЕЧИЕ.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е: Измени словосочетан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вариант                      2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лю особенно         яркое  о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о лицам в ед.ч )          (по родам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орфологические  призна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лю особ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ишь особ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ит особ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ое о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ие о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ая о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1486080" y="2971800"/>
            <a:ext cx="6438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нтаксическая роль нареч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6212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предложении –обстоятельст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8"/>
          <p:cNvGrpSpPr/>
          <p:nvPr/>
        </p:nvGrpSpPr>
        <p:grpSpPr>
          <a:xfrm>
            <a:off x="366840" y="-66190680"/>
            <a:ext cx="8164440" cy="0"/>
            <a:chOff x="366840" y="-66190680"/>
            <a:chExt cx="8164440" cy="0"/>
          </a:xfrm>
        </p:grpSpPr>
        <p:sp>
          <p:nvSpPr>
            <p:cNvPr id="129" name="Line 19"/>
            <p:cNvSpPr/>
            <p:nvPr/>
          </p:nvSpPr>
          <p:spPr>
            <a:xfrm>
              <a:off x="366840" y="-66190680"/>
              <a:ext cx="251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>
              <a:off x="6020640" y="-66190680"/>
              <a:ext cx="251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1257480" y="2209680"/>
            <a:ext cx="678168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858080" cy="60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Отлично, 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      замечательно,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               великолепно!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5943600" y="609480"/>
            <a:ext cx="3057480" cy="22766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kit</cp:lastModifiedBy>
  <dcterms:modified xsi:type="dcterms:W3CDTF">2020-12-07T12:58:45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