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6AF-6C53-49DB-A8B0-00DE948D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E8C-CB55-41C4-BE12-8073754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82D-F213-42C2-B6F8-A046FF1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EC8-29BA-4C79-8BFF-760C2A43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1CC7-9000-4CDB-99D8-16E3BF3D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1C65-A360-4B6A-809C-F6E843C7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E537-3067-4224-B893-ACBA80CE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7446-C23F-4442-B8E0-CC4D6910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095-D9EC-4675-B371-785EF90C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040-5E83-449E-BFA4-AC69B3E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C863-A494-471F-A8F0-D450F86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56D-6B9E-47F0-AA38-87818033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084E-91A9-41BB-B126-CED5B05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9D3C-F76E-4D30-90D1-184364E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EED-FD32-49DF-B421-B7C746D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F3A-8D2A-4624-8990-3E71CA29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BEC-913C-4D03-9661-F35F714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B89-F3A1-46D9-B2DC-FEA5D47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13E-A879-4AE4-9FB0-2CB2A49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08D-6B2C-414D-943B-FFFF5B6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2C2-F45A-446E-A058-CFF9DDF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094-F919-451A-9354-669FAB63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F49-A159-40F7-9694-B52AEB8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2FA-539B-4DF4-82B4-C1225BF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B69-F265-41FE-BE7D-B40D946F67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E4D-39F6-439C-A803-857E667CB6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7920" y="6480"/>
            <a:ext cx="9136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762120" y="2286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Морфолог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33520" y="2133720"/>
            <a:ext cx="4647960" cy="4267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629400" y="4495680"/>
            <a:ext cx="2133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038480" y="16765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 Самостоятельных част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94360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 служеб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52388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19051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23623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8195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2004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6576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191120" y="4038480"/>
            <a:ext cx="304560" cy="1447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066680" y="3200400"/>
            <a:ext cx="45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1558440" y="40384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2289960" y="3735000"/>
            <a:ext cx="454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гадай часть реч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дя(н-нн)ая г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(а-я)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оубо(р-рь)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(е-и)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о(ч–чь)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р(и-е)пучий 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(е-и)лёные 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35809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8000" spc="-1" strike="noStrike">
                <a:solidFill>
                  <a:srgbClr val="330033"/>
                </a:solidFill>
                <a:latin typeface="Times New Roman"/>
              </a:rPr>
              <a:t>НАРЕЧИЕ.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: Измени словосочет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                      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лю особенно         яркое 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 лицам в ед.ч )          (по рода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рфологические  призна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лю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шь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и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ая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486080" y="2971800"/>
            <a:ext cx="643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таксическая роль нареч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редложении –обстоятель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8"/>
          <p:cNvGrpSpPr/>
          <p:nvPr/>
        </p:nvGrpSpPr>
        <p:grpSpPr>
          <a:xfrm>
            <a:off x="366840" y="-66190680"/>
            <a:ext cx="8164440" cy="0"/>
            <a:chOff x="366840" y="-66190680"/>
            <a:chExt cx="8164440" cy="0"/>
          </a:xfrm>
        </p:grpSpPr>
        <p:sp>
          <p:nvSpPr>
            <p:cNvPr id="129" name="Line 19"/>
            <p:cNvSpPr/>
            <p:nvPr/>
          </p:nvSpPr>
          <p:spPr>
            <a:xfrm>
              <a:off x="3668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60206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1257480" y="2209680"/>
            <a:ext cx="67816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5808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Отлично,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замечательно,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         великолепно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3057480" cy="22766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it</cp:lastModifiedBy>
  <dcterms:modified xsi:type="dcterms:W3CDTF">2020-12-07T12:58:4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