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F268-E5FC-49D3-9FC6-6D262F24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6D01-44C1-4B8F-B6B8-6602D0AE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58E7-B732-4C69-B6F0-A12B9322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1B5F-910A-4106-8FC3-435FA785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79CC-0B08-4D81-9038-990BA5BED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01FB-3C21-4489-A59C-ABE35A85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D32A-81A9-4353-90C6-867A6A4E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728D-ADCA-4F98-BFD1-EC3B9D36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B347-503F-4AE7-84F0-CCA1C7C3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1782-AAE9-4216-8997-0F4A542D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51FF-152B-417F-B78A-D9D46856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5344-DEDE-450F-8390-B311CFB1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0CB5-94DF-4DDC-B28D-62708DE9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9A95-1A7C-46AE-9F13-7E6A7C90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C5EE-9709-45A8-AABF-697D057D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5F22-DA24-485D-B0BE-90CB9D24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214A-8AE9-453C-9CAA-D331B480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7AE6-2AFB-466D-940E-F8D4B7CC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12F8-FAEB-4C37-8FE0-AB7ED113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34CE-EE85-4A80-974F-CAE35C7C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22DC-B9D5-4422-B18A-30D8145A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C904-FED5-4AB2-9A25-792E2540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ED58-7497-4838-9984-7250ED42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5068-BA21-4AC0-9CE9-553E2D48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17F6-49CC-403F-8B0B-3BFBAFD1F6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FD2D-1297-46EA-BE98-6BC1E48AA5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4360" y="836640"/>
            <a:ext cx="655164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равствуйте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6476760" cy="3886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50920" y="1700280"/>
            <a:ext cx="5616360" cy="4213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012000" y="765000"/>
            <a:ext cx="2857320" cy="3810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xit" presetID="2" presetSubtype="4">
                                  <p:stCondLst>
                                    <p:cond delay="1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3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Доброта – отзывчивость , душевное расположение к людям , стремление делать другим добро .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52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Что произошло бы с миром , если не было доброты?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3612960" cy="24084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448320" y="2997360"/>
            <a:ext cx="2695680" cy="30240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95280" y="3284640"/>
            <a:ext cx="3348000" cy="29955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940360" y="0"/>
            <a:ext cx="3616560" cy="23716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276720" y="1916280"/>
            <a:ext cx="3456000" cy="287964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8642160" cy="619272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21.0)">
                                      <p:cBhvr>
                                        <p:cTn id="49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153120" cy="4614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39640" y="404640"/>
            <a:ext cx="8136000" cy="6102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116000" y="2205000"/>
            <a:ext cx="691344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74" nodeType="afterEffect" fill="hold" presetClass="entr" presetID="54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12:17:06Z</dcterms:created>
  <dc:creator>Дом</dc:creator>
  <dc:description/>
  <dc:language>en-US</dc:language>
  <cp:lastModifiedBy>Елена</cp:lastModifiedBy>
  <dcterms:modified xsi:type="dcterms:W3CDTF">2011-11-23T18:11:28Z</dcterms:modified>
  <cp:revision>19</cp:revision>
  <dc:subject/>
  <dc:title>Слайд 1</dc:title>
</cp:coreProperties>
</file>