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6DE-891A-4389-A4FF-BBA10BE4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5AC-92B4-4441-93E6-959F8125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37C-108E-4A5A-920A-0394932A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94F-0A31-4BD0-A5C1-53DD33B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1E0D-C301-4072-8A62-9F76157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397-D38E-4F07-BEC5-DAC2657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1AB-7F7F-4D5E-B111-D30B28B0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EFC7-7ABC-4FCE-8023-8A549BD8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6371-CF69-46FB-A0B9-CA4AD3A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B3C-B640-4BE3-9C87-1C29F52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DB97-C47F-4896-BA61-7294177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BCC-69A2-4D20-B66D-BF02DFBD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3E64-B98D-47A8-A758-BE62FB4E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6174-4DA2-48B7-8E31-89E8CF7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267-6921-4DF6-90ED-F6913B86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DE4-6D8C-42B6-B2A4-1E9C623F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905-88CD-4DB9-B204-ED3B253F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758-3538-48E7-9367-95DFA884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DB8-E6A9-42DE-AAF0-32E7A4DA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CD0-2F2A-41F5-9AC6-7993B84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E71-891F-4A31-8411-7D2CBC9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FBC-5B78-4EB4-9838-475AFF6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408-3245-40AD-8792-EB24A64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31B-ED9A-49AF-8122-21B14C1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67F8-2986-43DE-BB31-97AAA9DBD5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280C-C955-460A-A921-BCD4B9A6B1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Times New Roman"/>
              </a:rPr>
              <a:t>МБУ ДО Центр внешкольной работы  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Times New Roman"/>
              </a:rPr>
              <a:t>Авиастроительного района г.Казани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L_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SL_Times New Roman"/>
              </a:rPr>
              <a:t>ПРОЕКТ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L_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SL_Times New Roman"/>
              </a:rPr>
              <a:t>«Современное воспитание молодого поколения:     физическое воспитание и культура здорового образа жизн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Разработчи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Миннубаева Л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SL_Times New Roman"/>
              </a:rPr>
              <a:t>Казань 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SL_Times New Roman"/>
              </a:rPr>
              <a:t>Литератур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Шаехова Р.К.- «Программа предшкольного образования. – Казань: РИЦ «Школа», 2006- 8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Картушина М.Ю.- «Праздники здоровья для детей 4-5 лет.- М.: ТЦ Сфера, 2010- 96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Здоровьеформирующее физическое  развитие: Развивающие двигательные программы для детей 5-6 лет: -М.: Гуманит. Изд. Центр ВЛАДОС,2001- 336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Лободин В.Т., Федоренко А.Д., Александрова Г.В.- В стране здоровья.- М.: МОЗАИКА_- СИНТЕЗ, 2011-8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Гаврючина Л.В.- Здоровьесберегающие технологии в ДОУ: Методическое пособие.- М.: ТЦ Сфера, -16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Желобкович Е.Ф.- Физкультурные занятия в детском саду. М.: Изд. «Скрипоторий 2003», 2010- 1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Пензулаева Л.И.- Физкультурные занятия в детском саду. – М.: Мозаика –Синтез, 2009.- 12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L_Times New Roman"/>
              </a:rPr>
              <a:t>Рылеева Е.В.-  Вместе веселее! - -М.: Айрис- пресс,2003- 16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О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L_Times New Roman"/>
              </a:rPr>
              <a:t>ЗДОРОВЫЙ ОБРАЗ ЖИЗНИ- это образ жизни, способствующий сохранению, укреплению и восстановлению здоровь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L_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SL_Times New Roman"/>
              </a:rPr>
              <a:t>Поэтому здоровый образ жизни (ЗОЖ) рассматривается не только как  медицинская, но и как социально- экономическая пробл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SL_Times New Roman"/>
              </a:rPr>
              <a:t>Цель проекта: Формирование навыков здорового образа жизни детей дошкольного возраста на занятиях в школе развития «Умка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64008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L_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- способствовать развитию познавательного интереса к своему организму и его возможност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-развивать у ребенка готовность самостоятельно и эффективно решать задачи, связанные с поддержанием, укреплением и сохранением свое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-воспитывать бережное и заботливое отношение к своему здоровью и здоровью 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доровь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 человека- это состояние полного физического, духовного и социального благополучия, а не только отсутствие болезней и физических недоста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уховное здоровье – умение жить в сочетании с собой и окружающ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Факторы, влияющие на здоровь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лед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Этапы реализации проек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L_Times New Roman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1 этап- накопление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Читали произведения К.Чуковского, А.Барто, энциклопедические издания о здоровом образе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Играли в подвижные, дидактические, сюжетно- ролевы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Разгадывали кроссворды, загадки, разучивали пословицы, стих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Беседовали о ЗО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2 этап- практическ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Рассматривали  энциклопедию, иллюстрации, плакат «Внутренние органы человек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Занимались творчеством: лепка «Дети играют с мячом»;рисование «Закаляйся, если хочешь быть здоров», «Комнатные растение»; аппликация «Предметы личной гигиены для девочки чумаз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Выполнение оздоровительные мероприятия: утренняя и дыхательная гимнастика; физкультурные занят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3 этап- завершающ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Родители ответили на вопросы анкеты «Здоровый образ жизни нашей семь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Создали альбом «Здоровый образ жизни детей в школ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SL_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L_Times New Roman"/>
              </a:rPr>
              <a:t>Провели спортивный праздник «Если хочешь быть здоров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Вывод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шей школе используются различные оздоровительные и профилактические методики- ношение детьми «кулонов здоровья» - это чеснок, лук для обеззараживания воздуха и укрепления иммунитета, зарядка, спортивные праздники, игры связанные с тематикой здорового образа жизни, беседы и так дал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6:31:28Z</dcterms:created>
  <dc:creator>Ирина  Алексеевна</dc:creator>
  <dc:description/>
  <dc:language>en-US</dc:language>
  <cp:lastModifiedBy>User</cp:lastModifiedBy>
  <dcterms:modified xsi:type="dcterms:W3CDTF">2004-04-28T01:11:00Z</dcterms:modified>
  <cp:revision>14</cp:revision>
  <dc:subject/>
  <dc:title>ГАОУ ДПО «Институт развития образования Республики Татарстан» Кафедра педагогики и психологии</dc:title>
</cp:coreProperties>
</file>