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4387-238C-43AF-80F1-5EF1192F4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7B64-6C1C-49AF-8BA3-CA96FB656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9EEF-362F-4F9B-890B-8938BFDEB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5FCA-6309-473E-B2D6-49FAC4A97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2417-E9DE-4432-A8D8-7969B143C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BE35-F2B3-481A-846A-B934CD05B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813A-3C22-4E24-936E-B01020605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4E96-7885-44E0-851E-8F98FE515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B900-9C72-4017-BC34-6F17FF206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0B9C-6B6D-42F4-B1B7-2401C71BB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20A6-7869-464B-877B-851A6DAD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2A38-CD4A-4E3A-B36D-08A7220A9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33367-ADD5-46E2-9E26-51FD25B2B1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500040" y="785880"/>
            <a:ext cx="8215200" cy="54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инистерство образования и  науки Р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БПОУ РС (Я) «Якутский медицинский колледж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КОНКУРС  ПРОЕ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«Ярмарка иде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ПРОЕКТ « Шашечный турни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среди любителей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вто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абышева Л.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ванова К.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Якутск – 2018 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C:\Users\Администратор\Desktop\Проект шашки ГЛЮ ИКГ\IMG_0476.JPG"/>
          <p:cNvPicPr/>
          <p:nvPr/>
        </p:nvPicPr>
        <p:blipFill>
          <a:blip r:embed="rId1"/>
          <a:srcRect l="0" t="22988" r="0" b="6304"/>
          <a:stretch/>
        </p:blipFill>
        <p:spPr>
          <a:xfrm>
            <a:off x="285840" y="3714840"/>
            <a:ext cx="300492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3" descr="C:\Users\Администратор\Desktop\Проект шашки ГЛЮ ИКГ\IMG_0464.JPG"/>
          <p:cNvPicPr/>
          <p:nvPr/>
        </p:nvPicPr>
        <p:blipFill>
          <a:blip r:embed="rId1"/>
          <a:srcRect l="21326" t="5130" r="35681" b="0"/>
          <a:stretch/>
        </p:blipFill>
        <p:spPr>
          <a:xfrm>
            <a:off x="642960" y="500040"/>
            <a:ext cx="2556000" cy="422928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1" descr="C:\Users\Администратор\Desktop\Проект шашки ГЛЮ ИКГ\IMG_0474.JPG"/>
          <p:cNvPicPr/>
          <p:nvPr/>
        </p:nvPicPr>
        <p:blipFill>
          <a:blip r:embed="rId2"/>
          <a:srcRect l="4803" t="25960" r="9178" b="7099"/>
          <a:stretch/>
        </p:blipFill>
        <p:spPr>
          <a:xfrm>
            <a:off x="4500720" y="785880"/>
            <a:ext cx="3835080" cy="397836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571680" y="5214960"/>
            <a:ext cx="285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бок победителя и медали 1-2-3 ме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"/>
          <p:cNvSpPr/>
          <p:nvPr/>
        </p:nvSpPr>
        <p:spPr>
          <a:xfrm>
            <a:off x="4857840" y="5143680"/>
            <a:ext cx="31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ашки в «зоне отдыха « на 4 этаж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1" descr="C:\Users\Администратор\Desktop\Проект шашки ГЛЮ ИКГ\Рисунок (285).jpg"/>
          <p:cNvPicPr/>
          <p:nvPr/>
        </p:nvPicPr>
        <p:blipFill>
          <a:blip r:embed="rId1"/>
          <a:srcRect l="1280" t="5841" r="1553" b="2334"/>
          <a:stretch/>
        </p:blipFill>
        <p:spPr>
          <a:xfrm>
            <a:off x="285840" y="642960"/>
            <a:ext cx="4314600" cy="5715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60" name="Рисунок 2" descr="C:\Users\Администратор\Desktop\Проект шашки ГЛЮ ИКГ\Рисунок (287).jpg"/>
          <p:cNvPicPr/>
          <p:nvPr/>
        </p:nvPicPr>
        <p:blipFill>
          <a:blip r:embed="rId2"/>
          <a:srcRect l="0" t="3970" r="3479" b="3385"/>
          <a:stretch/>
        </p:blipFill>
        <p:spPr>
          <a:xfrm>
            <a:off x="4929120" y="642960"/>
            <a:ext cx="3929040" cy="5643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" descr="IMG_6311"/>
          <p:cNvPicPr/>
          <p:nvPr/>
        </p:nvPicPr>
        <p:blipFill>
          <a:blip r:embed="rId1"/>
          <a:stretch/>
        </p:blipFill>
        <p:spPr>
          <a:xfrm>
            <a:off x="1714680" y="1571760"/>
            <a:ext cx="5913360" cy="442908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3"/>
          <p:cNvSpPr/>
          <p:nvPr/>
        </p:nvSpPr>
        <p:spPr>
          <a:xfrm>
            <a:off x="857160" y="289440"/>
            <a:ext cx="7429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бедители турнира по шашк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центре Кононов В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рганизаторы Габышева ЛЮ, Иванова К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IMG_6285"/>
          <p:cNvPicPr/>
          <p:nvPr/>
        </p:nvPicPr>
        <p:blipFill>
          <a:blip r:embed="rId1"/>
          <a:stretch/>
        </p:blipFill>
        <p:spPr>
          <a:xfrm>
            <a:off x="714240" y="214200"/>
            <a:ext cx="7245360" cy="5429520"/>
          </a:xfrm>
          <a:prstGeom prst="rect">
            <a:avLst/>
          </a:prstGeom>
          <a:ln w="0">
            <a:noFill/>
          </a:ln>
        </p:spPr>
      </p:pic>
      <p:sp>
        <p:nvSpPr>
          <p:cNvPr id="65" name="TextBox 2"/>
          <p:cNvSpPr/>
          <p:nvPr/>
        </p:nvSpPr>
        <p:spPr>
          <a:xfrm>
            <a:off x="1928880" y="607212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астники шашечного турни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IMG_6256"/>
          <p:cNvPicPr/>
          <p:nvPr/>
        </p:nvPicPr>
        <p:blipFill>
          <a:blip r:embed="rId1"/>
          <a:stretch/>
        </p:blipFill>
        <p:spPr>
          <a:xfrm>
            <a:off x="3919680" y="2940120"/>
            <a:ext cx="5224320" cy="3917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IMG_6276"/>
          <p:cNvPicPr/>
          <p:nvPr/>
        </p:nvPicPr>
        <p:blipFill>
          <a:blip r:embed="rId2"/>
          <a:stretch/>
        </p:blipFill>
        <p:spPr>
          <a:xfrm>
            <a:off x="285840" y="0"/>
            <a:ext cx="5248080" cy="3930480"/>
          </a:xfrm>
          <a:prstGeom prst="rect">
            <a:avLst/>
          </a:prstGeom>
          <a:ln w="0">
            <a:noFill/>
          </a:ln>
        </p:spPr>
      </p:pic>
      <p:sp>
        <p:nvSpPr>
          <p:cNvPr id="68" name="TextBox 5"/>
          <p:cNvSpPr/>
          <p:nvPr/>
        </p:nvSpPr>
        <p:spPr>
          <a:xfrm>
            <a:off x="5857920" y="571680"/>
            <a:ext cx="235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менты шашечного турн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IMG_6290"/>
          <p:cNvPicPr/>
          <p:nvPr/>
        </p:nvPicPr>
        <p:blipFill>
          <a:blip r:embed="rId1"/>
          <a:stretch/>
        </p:blipFill>
        <p:spPr>
          <a:xfrm>
            <a:off x="285840" y="214200"/>
            <a:ext cx="4174920" cy="5564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IMG_6292"/>
          <p:cNvPicPr/>
          <p:nvPr/>
        </p:nvPicPr>
        <p:blipFill>
          <a:blip r:embed="rId2"/>
          <a:stretch/>
        </p:blipFill>
        <p:spPr>
          <a:xfrm>
            <a:off x="4572000" y="214200"/>
            <a:ext cx="4272120" cy="5705640"/>
          </a:xfrm>
          <a:prstGeom prst="rect">
            <a:avLst/>
          </a:prstGeom>
          <a:ln w="0">
            <a:noFill/>
          </a:ln>
        </p:spPr>
      </p:pic>
      <p:sp>
        <p:nvSpPr>
          <p:cNvPr id="71" name="TextBox 5"/>
          <p:cNvSpPr/>
          <p:nvPr/>
        </p:nvSpPr>
        <p:spPr>
          <a:xfrm>
            <a:off x="2071800" y="6286680"/>
            <a:ext cx="578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Юноши.                             Девуш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IMG_6312"/>
          <p:cNvPicPr/>
          <p:nvPr/>
        </p:nvPicPr>
        <p:blipFill>
          <a:blip r:embed="rId1"/>
          <a:srcRect l="0" t="13368" r="0" b="0"/>
          <a:stretch/>
        </p:blipFill>
        <p:spPr>
          <a:xfrm>
            <a:off x="1714680" y="214200"/>
            <a:ext cx="4987800" cy="324036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3"/>
          <p:cNvSpPr/>
          <p:nvPr/>
        </p:nvSpPr>
        <p:spPr>
          <a:xfrm>
            <a:off x="285840" y="3349800"/>
            <a:ext cx="8643960" cy="32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 кубок победителя боролись финалисты, занявш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1 места – среди юношей - Константинов Андрей ЛД-12 и среди девушек -Михалёва Алина ЛД-11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итоге победителем стала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Calibri"/>
              </a:rPr>
              <a:t>Михалёва Алина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лучившая Диплом и кубок победите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С П А С И Б О  З А   В Н И М А Н И Е 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1"/>
          <p:cNvSpPr/>
          <p:nvPr/>
        </p:nvSpPr>
        <p:spPr>
          <a:xfrm>
            <a:off x="357120" y="357120"/>
            <a:ext cx="85010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Цель проект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 Создание условий для реализации потребностей  игры в шашки у студентов в зоне отды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Задач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пуляризировать шашки среди студентов для раскрытия их потенциал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спитывать целеустремленность, находчивость, внимательность, уверенность,  волю, умение достойно выигрывать и  проигрывать с достоинством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меть придерживаться общепринятых норм поведения во время игры в шаш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пределить победителей, призеров, финалистов шашечного турнира среди любите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642960" y="739080"/>
            <a:ext cx="82868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Участники проект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) Инициаторы и организаторы проведения шашечного турнира – Иванова КГ, Габышева Л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2) Студенты ЯМК – с каждой группы по 1 участнику,  прошедшие отбор внутри групп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) Кураторы груп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4) Судья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-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 Кононов Василий Иннокентьевич,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арший тренер – преподаватель по шашкам, мастер спорта СССР, Отличник образования РС (Я), Отличник физической культуры и спорта РФ, Заслуженный тренер РС (Я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"/>
          <p:cNvSpPr/>
          <p:nvPr/>
        </p:nvSpPr>
        <p:spPr>
          <a:xfrm>
            <a:off x="428760" y="385200"/>
            <a:ext cx="84294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Описание проекта: стратегия и механизмы достижения поставленных ц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ревнования проводятся по правилам шашечного кодекса России 2012 года по классическим русским шашка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истема розыгрыша и регламент соревнований определяется судейской коллегией в зависимости от количества участ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по результату встречи между собо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по командному коэффициент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400" spc="-1" strike="noStrike">
                <a:solidFill>
                  <a:srgbClr val="008000"/>
                </a:solidFill>
                <a:latin typeface="Calibri"/>
              </a:rPr>
              <a:t>по числу выигранных матч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по результату на первой дос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УДЬЯ:  Кононов Василий Иннокенть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Шашечный турнир проводится в рамках декадника цикла ОПД в ноябре меся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итва финалистов за Гран-При в апреле текущего учебного го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214200" y="383040"/>
            <a:ext cx="8643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Рабочий план реализации проект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зработка полож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повещение кураторов о проведении шашечного турнир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Формирование  списка участников среди студентов колледж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1 этап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- Проведение отборочного турнира по шашкам внутри группы на 4 этаже в «Зоне отдыха»  и в читальном зале библиотеки ЯМ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2 этап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– проведение шашечного турнира среди студентов, прошедших отборочный турнир: юноши-юноши; девушки-девуш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Определение победителей среди юношей и среди девушек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Соревнование финалистов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юноша и девушка за кубок победи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Награждение победителей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– кубок победителей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1, 2, 3 место среди юношей и среди девушек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357120" y="501480"/>
            <a:ext cx="814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МЕ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285840" y="1357200"/>
          <a:ext cx="8429400" cy="4876920"/>
        </p:xfrm>
        <a:graphic>
          <a:graphicData uri="http://schemas.openxmlformats.org/drawingml/2006/table">
            <a:tbl>
              <a:tblPr/>
              <a:tblGrid>
                <a:gridCol w="4214880"/>
                <a:gridCol w="42145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умм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Шашечные доски с шашкам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20 х 10 наборов =1200 руб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убок победителя –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 шт  -3000 рубл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ипломы I, II, III степе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 х 6 шт =  144 рубл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едали I, II, III место –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х 6 шт  = 480 р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Лента для медалей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 х 6 шт  = 150 р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лагодарственное письмо и сертифика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х30 шт = 450 рублей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ТОГО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  424 руб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Скругленная прямоугольная выноска 4"/>
          <p:cNvSpPr/>
          <p:nvPr/>
        </p:nvSpPr>
        <p:spPr>
          <a:xfrm>
            <a:off x="928800" y="214200"/>
            <a:ext cx="6786360" cy="1285920"/>
          </a:xfrm>
          <a:prstGeom prst="wedgeRoundRectCallout">
            <a:avLst>
              <a:gd name="adj1" fmla="val -18976"/>
              <a:gd name="adj2" fmla="val 77546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alibri"/>
                <a:ea typeface="Times New Roman"/>
              </a:rPr>
              <a:t>Прогнозируемые краткосрочные и долгосрочные результ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Блок-схема: альтернативный процесс 5"/>
          <p:cNvSpPr/>
          <p:nvPr/>
        </p:nvSpPr>
        <p:spPr>
          <a:xfrm>
            <a:off x="285840" y="2071800"/>
            <a:ext cx="8501040" cy="4500360"/>
          </a:xfrm>
          <a:prstGeom prst="flowChartAlternate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  <a:ea typeface="Calibri"/>
              </a:rPr>
              <a:t>Добровольное участие в шашечных встречах, турнирах для саморазвития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  <a:ea typeface="Calibri"/>
              </a:rPr>
              <a:t>Развитие внимательности, логического мышления, настойчивости, целеустремленности, находчив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  <a:ea typeface="Calibri"/>
              </a:rPr>
              <a:t>Чтобы у финалистов была возможность в дальнейшем  реализоваться в  спортивных соревнованиях, посещая секцию по шашкам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Скругленная прямоугольная выноска 4"/>
          <p:cNvSpPr/>
          <p:nvPr/>
        </p:nvSpPr>
        <p:spPr>
          <a:xfrm>
            <a:off x="1500120" y="428760"/>
            <a:ext cx="5929560" cy="1214280"/>
          </a:xfrm>
          <a:prstGeom prst="wedgeRoundRectCallout">
            <a:avLst>
              <a:gd name="adj1" fmla="val -14453"/>
              <a:gd name="adj2" fmla="val 100148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  <a:ea typeface="Times New Roman"/>
              </a:rPr>
              <a:t>Оценка эффектив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Calibri"/>
                <a:ea typeface="Times New Roman"/>
              </a:rPr>
              <a:t>реализации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Блок-схема: альтернативный процесс 5"/>
          <p:cNvSpPr/>
          <p:nvPr/>
        </p:nvSpPr>
        <p:spPr>
          <a:xfrm>
            <a:off x="357120" y="2571840"/>
            <a:ext cx="8429760" cy="3786120"/>
          </a:xfrm>
          <a:prstGeom prst="flowChartAlternate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  <a:ea typeface="Calibri"/>
              </a:rPr>
              <a:t>Шашечный турнир проводится 2-ой г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  <a:ea typeface="Calibri"/>
              </a:rPr>
              <a:t>Инициаторами явились сами студен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  <a:ea typeface="Calibri"/>
              </a:rPr>
              <a:t>И мы их инициативу поддержива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  <a:ea typeface="Calibri"/>
              </a:rPr>
              <a:t>В зоне отдыха студенты играют в шашки на переменах, а также обучают своих однокурсников.   (количество 65 че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Скругленная прямоугольная выноска 4"/>
          <p:cNvSpPr/>
          <p:nvPr/>
        </p:nvSpPr>
        <p:spPr>
          <a:xfrm>
            <a:off x="1643040" y="285840"/>
            <a:ext cx="5929200" cy="1071360"/>
          </a:xfrm>
          <a:prstGeom prst="wedgeRoundRectCallout">
            <a:avLst>
              <a:gd name="adj1" fmla="val -18175"/>
              <a:gd name="adj2" fmla="val 109578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  <a:ea typeface="Times New Roman"/>
              </a:rPr>
              <a:t>Дальнейшее развитие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Блок-схема: альтернативный процесс 5"/>
          <p:cNvSpPr/>
          <p:nvPr/>
        </p:nvSpPr>
        <p:spPr>
          <a:xfrm>
            <a:off x="642960" y="2428920"/>
            <a:ext cx="7786800" cy="4000320"/>
          </a:xfrm>
          <a:prstGeom prst="flowChartAlternate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  <a:ea typeface="Calibri"/>
              </a:rPr>
              <a:t>Ежегодное проведение шашечного турнира среди любите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  <a:ea typeface="Calibri"/>
              </a:rPr>
              <a:t>Чтобы у финалистов была возможность в дальнейшем  реализоваться в  спортивных соревнованиях, посещая секцию по шашка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4T00:19:42Z</dcterms:created>
  <dc:creator>Елена</dc:creator>
  <dc:description/>
  <dc:language>en-US</dc:language>
  <cp:lastModifiedBy>Елена</cp:lastModifiedBy>
  <dcterms:modified xsi:type="dcterms:W3CDTF">2018-03-30T04:40:18Z</dcterms:modified>
  <cp:revision>13</cp:revision>
  <dc:subject/>
  <dc:title>Слайд 1</dc:title>
</cp:coreProperties>
</file>