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gif" ContentType="image/gif"/>
  <Override PartName="/ppt/media/image10.jpeg" ContentType="image/jpeg"/>
  <Override PartName="/ppt/media/image27.jpeg" ContentType="image/jpeg"/>
  <Override PartName="/ppt/media/image62.jpeg" ContentType="image/jpeg"/>
  <Override PartName="/ppt/media/image4.gif" ContentType="image/gif"/>
  <Override PartName="/ppt/media/image22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8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media/image56.gif" ContentType="image/gif"/>
  <Override PartName="/ppt/media/image23.jpeg" ContentType="image/jpeg"/>
  <Override PartName="/ppt/media/image5.gif" ContentType="image/gif"/>
  <Override PartName="/ppt/media/image38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29.gif" ContentType="image/gif"/>
  <Override PartName="/ppt/media/image49.gif" ContentType="image/gif"/>
  <Override PartName="/ppt/media/image17.jpeg" ContentType="image/jpeg"/>
  <Override PartName="/ppt/media/image26.gif" ContentType="image/gif"/>
  <Override PartName="/ppt/media/image65.png" ContentType="image/png"/>
  <Override PartName="/ppt/media/image21.jpeg" ContentType="image/jpeg"/>
  <Override PartName="/ppt/media/image9.png" ContentType="image/png"/>
  <Override PartName="/ppt/media/image6.gif" ContentType="image/gif"/>
  <Override PartName="/ppt/media/image16.jpeg" ContentType="image/jpeg"/>
  <Override PartName="/ppt/media/image19.jpeg" ContentType="image/jpeg"/>
  <Override PartName="/ppt/media/image32.gif" ContentType="image/gif"/>
  <Override PartName="/ppt/media/image61.jpeg" ContentType="image/jpeg"/>
  <Override PartName="/ppt/media/image14.jpeg" ContentType="image/jpeg"/>
  <Override PartName="/ppt/media/image41.jpeg" ContentType="image/jpeg"/>
  <Override PartName="/ppt/media/image63.gif" ContentType="image/gif"/>
  <Override PartName="/ppt/media/image18.jpeg" ContentType="image/jpeg"/>
  <Override PartName="/ppt/media/image8.gif" ContentType="image/gif"/>
  <Override PartName="/ppt/media/image12.jpeg" ContentType="image/jpeg"/>
  <Override PartName="/ppt/media/image13.jpeg" ContentType="image/jpeg"/>
  <Override PartName="/ppt/media/image51.gif" ContentType="image/gif"/>
  <Override PartName="/ppt/media/image30.gif" ContentType="image/gif"/>
  <Override PartName="/ppt/media/image31.jpeg" ContentType="image/jpeg"/>
  <Override PartName="/ppt/media/image33.gif" ContentType="image/gif"/>
  <Override PartName="/ppt/media/image34.jpeg" ContentType="image/jpeg"/>
  <Override PartName="/ppt/media/image35.jpeg" ContentType="image/jpeg"/>
  <Override PartName="/ppt/media/image54.gif" ContentType="image/gif"/>
  <Override PartName="/ppt/media/image39.jpeg" ContentType="image/jpeg"/>
  <Override PartName="/ppt/media/image40.gif" ContentType="image/gif"/>
  <Override PartName="/ppt/media/image25.gif" ContentType="image/gif"/>
  <Override PartName="/ppt/media/image43.jpeg" ContentType="image/jpeg"/>
  <Override PartName="/ppt/media/image7.gif" ContentType="image/gif"/>
  <Override PartName="/ppt/media/image44.wmf" ContentType="image/x-wmf"/>
  <Override PartName="/ppt/media/image48.gif" ContentType="image/gif"/>
  <Override PartName="/ppt/media/image45.jpeg" ContentType="image/jpeg"/>
  <Override PartName="/ppt/media/image47.gif" ContentType="image/gif"/>
  <Override PartName="/ppt/media/image50.gif" ContentType="image/gif"/>
  <Override PartName="/ppt/media/image20.jpeg" ContentType="image/jpeg"/>
  <Override PartName="/ppt/media/image52.gif" ContentType="image/gif"/>
  <Override PartName="/ppt/media/image1.wmf" ContentType="image/x-wmf"/>
  <Override PartName="/ppt/media/image53.gif" ContentType="image/gif"/>
  <Override PartName="/ppt/media/image46.jpeg" ContentType="image/jpeg"/>
  <Override PartName="/ppt/media/image5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1891-72D9-4652-BFB6-CBFF63E0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58CF-AB9B-421E-9F9D-BE302ED1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E81D-C20F-49C9-8CCA-D68B9A97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A96-7048-481D-BC73-5510A751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A9D7-579A-4181-8BA6-132B0389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C30-4082-4DF1-9F36-65FD9F4C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89A3-EC8E-4130-B55A-65DC2B5E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7D2-F9E3-4BB9-B911-6BE68506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1D3A-0FBD-4133-9EA5-E8F0DAA2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671-CEFD-4A63-B7F3-854BBA9E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1A3-52A5-42B3-80A9-FA8E5B8F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1F7-1A30-4732-A104-4F49E18A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974E-C545-443D-AEE9-F2261AC72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7.gif"/><Relationship Id="rId5" Type="http://schemas.openxmlformats.org/officeDocument/2006/relationships/image" Target="../media/image48.gif"/><Relationship Id="rId6" Type="http://schemas.openxmlformats.org/officeDocument/2006/relationships/image" Target="../media/image49.gif"/><Relationship Id="rId7" Type="http://schemas.openxmlformats.org/officeDocument/2006/relationships/image" Target="../media/image50.gif"/><Relationship Id="rId8" Type="http://schemas.openxmlformats.org/officeDocument/2006/relationships/image" Target="../media/image51.gif"/><Relationship Id="rId9" Type="http://schemas.openxmlformats.org/officeDocument/2006/relationships/image" Target="../media/image52.gif"/><Relationship Id="rId10" Type="http://schemas.openxmlformats.org/officeDocument/2006/relationships/image" Target="../media/image5.gif"/><Relationship Id="rId11" Type="http://schemas.openxmlformats.org/officeDocument/2006/relationships/image" Target="../media/image53.gi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image" Target="../media/image55.gif"/><Relationship Id="rId5" Type="http://schemas.openxmlformats.org/officeDocument/2006/relationships/image" Target="../media/image56.gif"/><Relationship Id="rId6" Type="http://schemas.openxmlformats.org/officeDocument/2006/relationships/image" Target="../media/image57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gi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75;&#1086;&#1083;&#1086;&#1089;%20&#1087;&#1090;&#1080;&#1094;.wav" TargetMode="External"/><Relationship Id="rId2" Type="http://schemas.microsoft.com/office/2007/relationships/media" Target="file:///tmp/home/.config/libreoffice/4/user/gallery/&#1075;&#1086;&#1083;&#1086;&#1089;%20&#1087;&#1090;&#1080;&#1094;.wav" TargetMode="External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УТЕШЕСТВИЕ ПО ЭКОЛОГИЧЕСКОЙ ТРОП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ЛЕС И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1474560" cy="181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77080" y="4797360"/>
            <a:ext cx="1905120" cy="1625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49417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НАБРОСАЛ   МУС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249800" cy="36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4105080" cy="36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58920" y="62064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ПОМОГИТ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Что  такое  эколог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4942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Наш словар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«Экос»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д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«Логос»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ученье, нау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(в перевод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греческого язы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92720" y="1413000"/>
            <a:ext cx="3672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Baskerville Old Face"/>
              </a:rPr>
              <a:t>Экология</a:t>
            </a:r>
            <a:r>
              <a:rPr b="1" i="1" lang="en-US" sz="4400" spc="-1" strike="noStrike">
                <a:solidFill>
                  <a:srgbClr val="ff0000"/>
                </a:solidFill>
                <a:latin typeface="Baskerville Old Face"/>
              </a:rPr>
              <a:t> – нау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Baskerville Old Face"/>
              </a:rPr>
              <a:t>о нашем общ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Baskerville Old Face"/>
              </a:rPr>
              <a:t>доме – планете 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635280" y="2349360"/>
            <a:ext cx="2089080" cy="237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Экология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– наука о связях между живыми существами и </a:t>
            </a: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окружающей ср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09640" y="1866960"/>
            <a:ext cx="7992360" cy="4175280"/>
            <a:chOff x="809640" y="1866960"/>
            <a:chExt cx="7992360" cy="4175280"/>
          </a:xfrm>
        </p:grpSpPr>
        <p:cxnSp>
          <p:nvCxnSpPr>
            <p:cNvPr id="103" name="_s34821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5786640" y="2554920"/>
              <a:ext cx="835560" cy="2797920"/>
            </a:xfrm>
            <a:prstGeom prst="bentConnector3">
              <a:avLst>
                <a:gd name="adj1" fmla="val 136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34822"/>
            <p:cNvCxnSpPr>
              <a:stCxn id="107" idx="0"/>
              <a:endCxn id="105" idx="2"/>
            </p:cNvCxnSpPr>
            <p:nvPr/>
          </p:nvCxnSpPr>
          <p:spPr>
            <a:xfrm flipV="1">
              <a:off x="4806000" y="3536280"/>
              <a:ext cx="2880" cy="83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34823"/>
            <p:cNvCxnSpPr>
              <a:stCxn id="109" idx="0"/>
              <a:endCxn id="105" idx="2"/>
            </p:cNvCxnSpPr>
            <p:nvPr/>
          </p:nvCxnSpPr>
          <p:spPr>
            <a:xfrm flipH="1" flipV="1" rot="5400000">
              <a:off x="2989440" y="2555280"/>
              <a:ext cx="835560" cy="2797920"/>
            </a:xfrm>
            <a:prstGeom prst="bentConnector3">
              <a:avLst>
                <a:gd name="adj1" fmla="val 136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34824"/>
            <p:cNvSpPr/>
            <p:nvPr/>
          </p:nvSpPr>
          <p:spPr>
            <a:xfrm>
              <a:off x="3606840" y="186696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Экологическ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связ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34825"/>
            <p:cNvSpPr/>
            <p:nvPr/>
          </p:nvSpPr>
          <p:spPr>
            <a:xfrm>
              <a:off x="80964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34826"/>
            <p:cNvSpPr/>
            <p:nvPr/>
          </p:nvSpPr>
          <p:spPr>
            <a:xfrm>
              <a:off x="360684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34827"/>
            <p:cNvSpPr/>
            <p:nvPr/>
          </p:nvSpPr>
          <p:spPr>
            <a:xfrm>
              <a:off x="640440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86920" y="4581360"/>
              <a:ext cx="1584360" cy="573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жи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116000" y="5300640"/>
            <a:ext cx="1706400" cy="55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неж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4581360"/>
            <a:ext cx="15843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ж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4869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1640" y="4869000"/>
            <a:ext cx="287640" cy="576000"/>
          </a:xfrm>
          <a:custGeom>
            <a:avLst/>
            <a:gdLst>
              <a:gd name="textAreaLeft" fmla="*/ 38520 w 287640"/>
              <a:gd name="textAreaRight" fmla="*/ 249120 w 28764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4508640"/>
            <a:ext cx="180000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229360"/>
            <a:ext cx="1728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941720"/>
            <a:ext cx="216000" cy="57492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440 h 574920"/>
              <a:gd name="textAreaBottom" fmla="*/ 416880 h 5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4941720"/>
            <a:ext cx="216000" cy="646200"/>
          </a:xfrm>
          <a:custGeom>
            <a:avLst/>
            <a:gdLst>
              <a:gd name="textAreaLeft" fmla="*/ 28800 w 216000"/>
              <a:gd name="textAreaRight" fmla="*/ 187200 w 21600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32720" y="4508640"/>
            <a:ext cx="172692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5300640"/>
            <a:ext cx="17067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4941720"/>
            <a:ext cx="216000" cy="648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13400 h 648000"/>
              <a:gd name="textAreaBottom" fmla="*/ 4698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532720" y="4869000"/>
            <a:ext cx="216000" cy="720720"/>
          </a:xfrm>
          <a:custGeom>
            <a:avLst/>
            <a:gdLst>
              <a:gd name="textAreaLeft" fmla="*/ 28800 w 216000"/>
              <a:gd name="textAreaRight" fmla="*/ 187200 w 2160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1280" y="458640"/>
            <a:ext cx="7993080" cy="5994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048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8360" y="54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451640" y="3789360"/>
            <a:ext cx="771480" cy="928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236000" y="4653000"/>
            <a:ext cx="1296720" cy="952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187280" y="4365720"/>
            <a:ext cx="863640" cy="834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1476360" y="1916280"/>
            <a:ext cx="1008000" cy="976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419640" y="5013360"/>
            <a:ext cx="1390320" cy="1209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2411280" y="1341360"/>
            <a:ext cx="792360" cy="657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3995640" y="177336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6084720" y="3860640"/>
            <a:ext cx="166716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177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177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649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68360" y="2781360"/>
            <a:ext cx="5616720" cy="50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3284640"/>
            <a:ext cx="475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68360" y="3789360"/>
            <a:ext cx="475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4437000"/>
            <a:ext cx="3959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5013360"/>
            <a:ext cx="790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5013360"/>
            <a:ext cx="151272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6453360"/>
            <a:ext cx="792000" cy="40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2276640"/>
            <a:ext cx="720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64000" y="220500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170028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64000" y="119700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20000" y="692280"/>
            <a:ext cx="865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 rot="10800000">
            <a:off x="7018920" y="189000"/>
            <a:ext cx="86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20000" y="1197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119700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64000" y="134136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781360"/>
            <a:ext cx="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1280" y="551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51280" y="59500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851280" y="2565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59280" y="2781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20000" y="32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40000" y="2852640"/>
            <a:ext cx="6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11280" y="2852640"/>
            <a:ext cx="50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55840" y="2852640"/>
            <a:ext cx="36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24360" y="2349360"/>
            <a:ext cx="5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7280" y="2852640"/>
            <a:ext cx="433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8000" y="2852640"/>
            <a:ext cx="50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87840" y="1197000"/>
            <a:ext cx="36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2360" y="1197000"/>
            <a:ext cx="43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18360" y="857160"/>
            <a:ext cx="18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20000" y="189000"/>
            <a:ext cx="64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128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29280" y="23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17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30760" y="24098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9000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53640" y="6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59640" y="26028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1726920" cy="2087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812000" y="3645000"/>
            <a:ext cx="1079640" cy="1296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300720" y="5516640"/>
            <a:ext cx="1943280" cy="1096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250920" y="5013360"/>
            <a:ext cx="1760400" cy="1360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8172360" y="404640"/>
            <a:ext cx="69552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2987640" y="260280"/>
            <a:ext cx="172872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ХРАНА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160360" cy="3240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211640" y="1268280"/>
            <a:ext cx="4529160" cy="3254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050920" y="3284640"/>
            <a:ext cx="273708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5724360" y="4653000"/>
            <a:ext cx="3024360" cy="1989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1979640" y="1125360"/>
            <a:ext cx="2736720" cy="2016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250920" y="4869000"/>
            <a:ext cx="158436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00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2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8"/>
                </p:tgtEl>
              </p:cMediaNode>
            </p:audio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02280" cy="5851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940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08720" y="4941720"/>
            <a:ext cx="1152720" cy="1484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796000" y="263700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300720" y="836640"/>
            <a:ext cx="666720" cy="88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851280" y="4508640"/>
            <a:ext cx="2449440" cy="2017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124000" y="5589720"/>
            <a:ext cx="714600" cy="64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55640" y="83664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732720" y="1197000"/>
            <a:ext cx="1152360" cy="95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7956720" y="907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8172360" y="6165720"/>
            <a:ext cx="304920" cy="304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177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364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802280" cy="604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755640" y="3357720"/>
            <a:ext cx="763272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3024360" cy="287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03640" y="3284640"/>
            <a:ext cx="295272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3440" y="3284640"/>
            <a:ext cx="285444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300720" y="3284640"/>
            <a:ext cx="273384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42920" y="189000"/>
            <a:ext cx="2844720" cy="287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300720" y="189000"/>
            <a:ext cx="2675160" cy="287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3040" y="260280"/>
            <a:ext cx="249732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2592360" cy="2768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132000" y="260280"/>
            <a:ext cx="278136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71152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348000" y="3786120"/>
            <a:ext cx="2448000" cy="2738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6300720" y="3789360"/>
            <a:ext cx="2592360" cy="2735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1116000" y="2133720"/>
            <a:ext cx="3097080" cy="2305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4932360" y="2133720"/>
            <a:ext cx="3166920" cy="2305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26920" y="1325520"/>
            <a:ext cx="4824720" cy="33274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227640" y="4437000"/>
            <a:ext cx="2627280" cy="2052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227640" y="549360"/>
            <a:ext cx="2376720" cy="1741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473640" cy="4970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3280" y="2349360"/>
            <a:ext cx="424836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867280" y="357336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050920" y="3716280"/>
            <a:ext cx="1476360" cy="1657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95480" y="333360"/>
            <a:ext cx="67896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ВЫРУБИЛ  ЛЕ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31928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308720" y="1268280"/>
            <a:ext cx="1513080" cy="2133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352000" y="692280"/>
            <a:ext cx="792000" cy="1334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50920" y="5013360"/>
            <a:ext cx="1368360" cy="1844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55640" y="18900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РАЗВЁЛ КОСТ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4788000" y="3645000"/>
            <a:ext cx="417672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816360" cy="280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3961080" cy="280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95280" y="3716280"/>
            <a:ext cx="3816360" cy="2808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5200560" y="4024440"/>
            <a:ext cx="325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402444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АГРЯЗНИЛ</a:t>
            </a:r>
            <a:br>
              <a:rPr sz="40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ОДОЁ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РАВИЛ ВОЗДУ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96072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388764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42920" y="5229360"/>
            <a:ext cx="1952640" cy="1009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45:09Z</dcterms:created>
  <dc:creator>USER</dc:creator>
  <dc:description/>
  <dc:language>en-US</dc:language>
  <cp:lastModifiedBy>ольга</cp:lastModifiedBy>
  <dcterms:modified xsi:type="dcterms:W3CDTF">2010-01-16T19:18:18Z</dcterms:modified>
  <cp:revision>19</cp:revision>
  <dc:subject/>
  <dc:title>Слайд 1</dc:title>
</cp:coreProperties>
</file>