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5640" y="812520"/>
            <a:ext cx="711684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1"/>
          </p:nvPr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56F207A5-4C01-4761-A03F-1D2F51E503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9C99A464-88AD-4058-BE79-0125D68B9B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435DCA5E-5587-4BD1-8297-FD4E86A83E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EA9C93DE-D404-44B0-9418-99FE629345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2FC137A0-81D3-4917-912F-FAEB3CD7AB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A235EE42-29F5-4578-930F-ABD5FC69B1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493A942C-D44D-491B-9113-2C3B1905D2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5F81DD57-157C-43B1-AEE3-AED1A7D608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9D7D74A1-3F40-412E-9359-8D83C28BBC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1F5C6D44-B90A-45CF-9383-75FEA9AE2C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27C681D6-CD3B-444F-BE03-5DE37E8A9F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5ADC7D85-9703-44DE-A035-DBAD000558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099EA6F6-273D-4C83-9785-211BCEB6BB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348CC36A-0B6B-4216-8D1F-3E779A54A1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F3E176B1-34DC-485D-95BB-F9D147388C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A28D707A-11EC-4153-9A2E-758A48A388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567DADAC-D8FB-477D-B687-7EDEB695F3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F1F18214-0954-40F7-8798-A3AC66C6F7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E1F20D0A-34B6-4AF9-ADE7-DAE27F170F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2E3D28CA-25E2-46A5-84B4-1FD5EE4358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5CD220C9-CCA2-4ED3-8D4E-5693199581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95912A11-4549-479F-BA25-CADF652B13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5C687A4E-5541-4823-9D05-0549AB3D22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3486C5BB-E62F-4A43-8550-39086E6FCF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25DCBAF8-B9C0-435D-99F7-975C275763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6B09DDE9-45E0-49FC-9FA5-836AD7E4A7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3B5BFE5C-5534-4273-94C7-02FE9FA65F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C4F9DF66-F75D-41E4-A429-1E891AE0F7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643246D9-64AA-4B29-96A3-588A1B3020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20680"/>
            <a:ext cx="82152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0680"/>
            <a:ext cx="82152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6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108000" y="0"/>
            <a:ext cx="9140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39640" y="565200"/>
            <a:ext cx="8126640" cy="60944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57200" y="25560"/>
            <a:ext cx="8226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детский сад №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Хоровая капелла Удмуртии - Гимн Удмуртии (www.hotplayer.ru).mp3" descr=""/>
          <p:cNvPicPr/>
          <p:nvPr/>
        </p:nvPicPr>
        <p:blipFill>
          <a:blip r:embed="rId2"/>
          <a:stretch/>
        </p:blipFill>
        <p:spPr>
          <a:xfrm>
            <a:off x="8556480" y="622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420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0" y="312840"/>
            <a:ext cx="4711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ыбери достопримечательность Сарап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 rot="360000">
            <a:off x="79200" y="479088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713120" y="393840"/>
            <a:ext cx="4140360" cy="30240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398520" y="1928880"/>
            <a:ext cx="3916440" cy="293832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4680000" y="3780000"/>
            <a:ext cx="4251240" cy="28270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457200" y="260280"/>
            <a:ext cx="39686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а какой реке стоит город Сарапул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85840" y="4572000"/>
            <a:ext cx="1974600" cy="1941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3025800" y="4319640"/>
            <a:ext cx="5792760" cy="23940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179280" y="1878120"/>
            <a:ext cx="4319640" cy="22701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44" name="Picture 5" descr=""/>
          <p:cNvPicPr/>
          <p:nvPr/>
        </p:nvPicPr>
        <p:blipFill>
          <a:blip r:embed="rId4"/>
          <a:stretch/>
        </p:blipFill>
        <p:spPr>
          <a:xfrm>
            <a:off x="4680000" y="539640"/>
            <a:ext cx="4319640" cy="251964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285840" y="214200"/>
            <a:ext cx="3968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ыбери краеведческий музей Сарапу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42880" y="485928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500720" y="3780000"/>
            <a:ext cx="4471920" cy="28764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136440" y="1857240"/>
            <a:ext cx="4106880" cy="28558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4525920" y="426960"/>
            <a:ext cx="4471920" cy="29926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14200" y="179280"/>
            <a:ext cx="38545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ие растен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тут в Удмурт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854520" cy="28893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00720" y="3419640"/>
            <a:ext cx="4332240" cy="31734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714240" y="4643280"/>
            <a:ext cx="1974960" cy="194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4"/>
          <a:stretch/>
        </p:blipFill>
        <p:spPr>
          <a:xfrm>
            <a:off x="4500720" y="453960"/>
            <a:ext cx="4319280" cy="27846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692360" y="2492280"/>
            <a:ext cx="59133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СПАСИБО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00040" y="4643280"/>
            <a:ext cx="1974960" cy="19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12840" y="185760"/>
            <a:ext cx="41115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называется край, в котором мы живём?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400720" y="222120"/>
            <a:ext cx="3541680" cy="26560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334120" y="3959280"/>
            <a:ext cx="3663720" cy="251784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365120" y="2103480"/>
            <a:ext cx="3673440" cy="27543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264960" y="4724280"/>
            <a:ext cx="1974960" cy="19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4788000" y="428760"/>
            <a:ext cx="1539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157720" y="3646440"/>
            <a:ext cx="1540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85840" y="4714920"/>
            <a:ext cx="1974600" cy="1941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4788000" y="500040"/>
            <a:ext cx="3951360" cy="262404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4788000" y="3751200"/>
            <a:ext cx="3951360" cy="28162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534960" y="1855800"/>
            <a:ext cx="4013280" cy="26748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sp>
        <p:nvSpPr>
          <p:cNvPr id="104" name="Rectangle 7"/>
          <p:cNvSpPr/>
          <p:nvPr/>
        </p:nvSpPr>
        <p:spPr>
          <a:xfrm>
            <a:off x="179280" y="220680"/>
            <a:ext cx="44989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азовите столицу Удмурт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214200" y="326880"/>
            <a:ext cx="8498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то коренные жители Удмурт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14200" y="4643280"/>
            <a:ext cx="1974960" cy="194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285840" y="1111320"/>
            <a:ext cx="3808440" cy="26985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148360" y="1181160"/>
            <a:ext cx="3564000" cy="266364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09" name="Picture 5" descr=""/>
          <p:cNvPicPr/>
          <p:nvPr/>
        </p:nvPicPr>
        <p:blipFill>
          <a:blip r:embed="rId4"/>
          <a:stretch/>
        </p:blipFill>
        <p:spPr>
          <a:xfrm>
            <a:off x="3060720" y="4140360"/>
            <a:ext cx="3060720" cy="25588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250920"/>
            <a:ext cx="38260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ой цветок является символом Удмуртии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7120" y="487368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169920" y="1798560"/>
            <a:ext cx="4149720" cy="284472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4487760" y="3959280"/>
            <a:ext cx="4511880" cy="269712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500720" y="541440"/>
            <a:ext cx="4530600" cy="28782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357120" y="360360"/>
            <a:ext cx="38260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кажи удмуртский орнамен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00040" y="485928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4500720" y="474840"/>
            <a:ext cx="4284360" cy="276372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4500720" y="3780000"/>
            <a:ext cx="4319280" cy="29430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179280" y="1979640"/>
            <a:ext cx="4033800" cy="267804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179280" y="182520"/>
            <a:ext cx="4138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ое животное обитает в Удмурт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892760" y="3695760"/>
            <a:ext cx="3925800" cy="27828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857160" y="482112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179280" y="1979640"/>
            <a:ext cx="4319640" cy="27255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4859280" y="179280"/>
            <a:ext cx="3959280" cy="32385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720720" y="179280"/>
            <a:ext cx="359892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называется город в котором мы живё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85840" y="4714920"/>
            <a:ext cx="1974600" cy="1941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859280" y="360360"/>
            <a:ext cx="4138560" cy="28782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4890960" y="3780000"/>
            <a:ext cx="4106880" cy="26859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29" name="Picture 5" descr=""/>
          <p:cNvPicPr/>
          <p:nvPr/>
        </p:nvPicPr>
        <p:blipFill>
          <a:blip r:embed="rId4"/>
          <a:stretch/>
        </p:blipFill>
        <p:spPr>
          <a:xfrm>
            <a:off x="324000" y="1716120"/>
            <a:ext cx="4174920" cy="27828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457200" y="360360"/>
            <a:ext cx="8326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кажи герб города Сарап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85840" y="4714920"/>
            <a:ext cx="1974600" cy="194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3289320" y="2114640"/>
            <a:ext cx="2662200" cy="328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436680" y="1438200"/>
            <a:ext cx="2590560" cy="306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6300720" y="3284640"/>
            <a:ext cx="262908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02:13:22Z</dcterms:created>
  <dc:creator>User</dc:creator>
  <dc:description/>
  <dc:language>en-US</dc:language>
  <cp:lastModifiedBy>11</cp:lastModifiedBy>
  <dcterms:modified xsi:type="dcterms:W3CDTF">2020-11-11T09:46:56Z</dcterms:modified>
  <cp:revision>1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4</vt:r8>
  </property>
</Properties>
</file>