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9F5-E26C-4AFF-B4DD-0B1C48C0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3CB-53EA-4F4F-AD9E-2FDEF23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19F-3DA8-469E-AB46-CC3F9861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8DE-5356-48BF-9E2F-369DC906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0AAB-8FD8-422A-A79F-E5A33099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A22B-FE59-4AAC-BF49-A4EE384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A3D1-6377-4565-ACCC-83E7AA60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C7F2-B1BD-4530-9F92-66F337FD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181-5D50-4D31-8C33-59760587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43F-BB1D-4D36-91A8-1E23521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ABBC-3A35-49E5-86EA-268D104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6B7-6029-47D5-9DC8-B38374B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BC87-AAC8-4C37-A5DD-6197E0C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ED39-09AF-47B8-AE21-F23F03A9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6226-5E76-4153-B47D-8D1B8A0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864A-E80E-4A43-A708-00EC0229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5EEA-D438-4793-8AE4-8C985EF8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987-6D38-4C92-AA22-9A45A78C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2C4-D321-476A-8E2D-15C4FF83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C9A-E341-4659-94D2-26CD3B43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BD0-A423-463A-B416-E137F71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014-8150-4015-B5D9-CA5391C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41F-3F3E-48ED-A468-987A22B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403-9D52-42F1-92B1-B9310D0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99ff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029-0EB2-4158-BF30-A7116B240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99ff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30AB-FC63-4C8D-B48E-EE2E0E64D5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5616360" cy="26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Bookman Old Style"/>
              </a:rPr>
              <a:t>Роль отца в воспитании ребен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79640" y="4437000"/>
            <a:ext cx="4824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99"/>
                </a:solidFill>
                <a:latin typeface="Bookman Old Style"/>
              </a:rPr>
              <a:t>Когда отец становится отцом, он становится сыном самому себ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99"/>
                </a:solidFill>
                <a:latin typeface="Bookman Old Style"/>
              </a:rPr>
              <a:t>Геракли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Bookman Old Style"/>
              </a:rPr>
              <a:t>Папа </a:t>
            </a: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– это человек, который в зависимости от ситуации испытывает разные чувства по отношению к своему ребенку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Bookman Old Style"/>
              </a:rPr>
              <a:t>Иногда ощущает моральное, «корыстное» удовлетворение и гордость от мысли, что у него есть малыш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Bookman Old Style"/>
              </a:rPr>
              <a:t>Есть страх перед будущим и чувство ответственности. Хочется оградить ребенка от неприят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Bookman Old Style"/>
              </a:rPr>
              <a:t>В семье нужны обязательно 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Bookman Old Style"/>
              </a:rPr>
              <a:t>и папа, и мама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Только </a:t>
            </a:r>
            <a:r>
              <a:rPr b="1" lang="ru-RU" sz="3200" spc="-1" strike="noStrike">
                <a:solidFill>
                  <a:srgbClr val="ff0066"/>
                </a:solidFill>
                <a:latin typeface="Bookman Old Style"/>
              </a:rPr>
              <a:t>сочетание</a:t>
            </a: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 этих качеств формирует полноценную лич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 rot="344400">
            <a:off x="916560" y="2421000"/>
            <a:ext cx="3114360" cy="1557000"/>
          </a:xfrm>
          <a:prstGeom prst="rect">
            <a:avLst/>
          </a:prstGeom>
          <a:noFill/>
          <a:ln w="9360">
            <a:solidFill>
              <a:srgbClr val="8e5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мужеств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силу вол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умение бороться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побежд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 rot="21068400">
            <a:off x="5060160" y="2349360"/>
            <a:ext cx="3137400" cy="1557000"/>
          </a:xfrm>
          <a:prstGeom prst="rect">
            <a:avLst/>
          </a:prstGeom>
          <a:noFill/>
          <a:ln w="9360">
            <a:solidFill>
              <a:srgbClr val="8e5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ласк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неж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доброту и чутк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87640" y="1628640"/>
            <a:ext cx="37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От них дети получают</a:t>
            </a:r>
            <a:r>
              <a:rPr b="0" lang="ru-RU" sz="1800" spc="-1" strike="noStrike">
                <a:solidFill>
                  <a:srgbClr val="cc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2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ff"/>
                </a:solidFill>
                <a:latin typeface="Bookman Old Style"/>
              </a:rPr>
              <a:t>В жизни мы – гениальные актеры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 самого рождения мы приучаемся играть одновременно множество ролей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ын-Дочь, Брат-Сестра, Внук-Внучка, Друг-Подруга, Школьник-Школьница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отрудник, Товарищ, Начальник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Жена-Муж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Но самые значимые рол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для женщины – роль </a:t>
            </a:r>
            <a:r>
              <a:rPr b="1" lang="ru-RU" sz="3000" spc="-1" strike="noStrike">
                <a:solidFill>
                  <a:srgbClr val="008080"/>
                </a:solidFill>
                <a:latin typeface="Bookman Old Style"/>
              </a:rPr>
              <a:t>МАМЫ</a:t>
            </a: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а для мужчины – роль </a:t>
            </a:r>
            <a:r>
              <a:rPr b="1" lang="ru-RU" sz="3000" spc="-1" strike="noStrike">
                <a:solidFill>
                  <a:srgbClr val="008080"/>
                </a:solidFill>
                <a:latin typeface="Bookman Old Style"/>
              </a:rPr>
              <a:t>ПАПЫ</a:t>
            </a: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99"/>
                </a:solidFill>
                <a:latin typeface="Bookman Old Style"/>
              </a:rPr>
              <a:t>Кто такой папа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профессионал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психолог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учител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руковод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спортсме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врач?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99"/>
                </a:solidFill>
                <a:latin typeface="Bookman Old Style"/>
              </a:rPr>
              <a:t>«Папа – это…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7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7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7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7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7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7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Bookman Old Style"/>
              </a:rPr>
              <a:t>Итак, 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Глава семьи. Верно? Как правил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Кормилец, добытчик. Верно? Отчаст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Пример для подражания. Верно? Хотелось бы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Папа – это…так и хочется сказат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Bookman Old Style"/>
              </a:rPr>
              <a:t>«Папа – это ПАП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Bookman Old Style"/>
              </a:rPr>
              <a:t>... 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Любовь, надежда и опора мамы. О! Это особая тем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Для детей – глыба, скала, чье слово весомо, но кто любит их такими, какие они есть, а если и ругается, то на их неправильные поступки, а не на них самих. В идеале – д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Вечно занятый уставший человек, у которого никогда нет времени, чтобы пообщаться с детьми. Верно? И это тож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Или мифическое существо, человек-легенда, который уходит на работу, когда дети еще спят, и возвращается, когда они уже спят. Или месяцами пропадает в командировках. Быв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Bookman Old Style"/>
              </a:rPr>
              <a:t>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В первую очередь папа – это </a:t>
            </a:r>
            <a:r>
              <a:rPr b="1" lang="ru-RU" sz="3200" spc="-1" strike="noStrike">
                <a:solidFill>
                  <a:srgbClr val="ff0066"/>
                </a:solidFill>
                <a:latin typeface="Bookman Old Style"/>
              </a:rPr>
              <a:t>пример.</a:t>
            </a: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 Основы воспитания закладываются в семье, и какой будет пример для наших детей, такими они и выраст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Папы! Давайте вести себя так, чтобы потом не пришлось «Пенять на зеркало», т.е. на своих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ff"/>
                </a:solidFill>
                <a:latin typeface="Bookman Old Style"/>
              </a:rPr>
              <a:t>Папа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– это </a:t>
            </a:r>
            <a:r>
              <a:rPr b="0" lang="ru-RU" sz="2800" spc="-1" strike="noStrike">
                <a:solidFill>
                  <a:srgbClr val="ff0066"/>
                </a:solidFill>
                <a:latin typeface="Bookman Old Style"/>
              </a:rPr>
              <a:t>ответственность, любовь, спокойствие, ум, честь, совесть, радость, строгость, деньги, еда, машина, конь, веселье, злость, оптимизм, продукты жизнеобеспечения, доброта, нежность, друг, учитель, пример, опора, сила, опыт, правила, наказания, подарки, защита, стройка, дача, рыбалка, карты, домино, работа, «дела», «… тебе еще рано знать» и еще многое, многое друго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Bookman Old Style"/>
              </a:rPr>
              <a:t>Папа </a:t>
            </a: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– это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мудрость, отзывчивость </a:t>
            </a:r>
            <a:r>
              <a:rPr b="0" lang="ru-RU" sz="2400" spc="-1" strike="noStrike">
                <a:solidFill>
                  <a:srgbClr val="008080"/>
                </a:solidFill>
                <a:latin typeface="Bookman Old Style"/>
              </a:rPr>
              <a:t>(в идеале)</a:t>
            </a: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, компромисс, твердость, решение и надеж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3:50:40Z</dcterms:created>
  <dc:creator>user</dc:creator>
  <dc:description/>
  <dc:language>en-US</dc:language>
  <cp:lastModifiedBy>HP</cp:lastModifiedBy>
  <dcterms:modified xsi:type="dcterms:W3CDTF">2020-11-05T07:18:20Z</dcterms:modified>
  <cp:revision>16</cp:revision>
  <dc:subject/>
  <dc:title>Роль отца в воспитании ребенка</dc:title>
</cp:coreProperties>
</file>