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13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F1A0-9814-4850-B133-60E2EEC1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F95C-11D8-4069-BB1B-6C582254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E3C8-E907-48E3-ABAF-658C2B3E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92C6-8A4A-4662-A844-0FFE266D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2729-0C78-4E83-A458-D6AB6F17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1663-6ADB-466C-A03B-C334584E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ED28-0EA4-4F0E-9985-F5042AE5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F1F5-9A03-4937-B50E-24D03510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A232-E916-414F-A5CC-2F9F69F0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D82A-A8CF-4ED7-ABB6-6E71B4A7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D2DE-37B5-4D6A-988B-F9DFF914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4E45-EF2A-4819-83EC-F39B7920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DB4-CDD4-40D0-8760-CCF4896A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853A-13A7-4589-8F64-160CAC7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5823-AE46-4AE3-A833-A3F9F9AF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B640-FA36-4AFA-84EF-F1D8C803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EF90-7AA4-4F25-83D0-5CBF73FD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7839-D1B6-47B3-B876-E618E55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5BC5-D5F5-4F54-8B99-CF74A582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6A04-60CA-4F5B-8B40-412188F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2C92-74CA-4654-82E3-977873BA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19D55-2D4E-4D3A-B089-579EBEC1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19BE-272F-4A45-9632-108EE58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63CF-A242-464A-97D0-72FABB1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7249-8C27-492A-A8C2-DF06DD514D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35BD-1C5B-4403-99E7-307F86C1CA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6324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5ff"/>
                </a:solidFill>
                <a:latin typeface="Times New Roman"/>
              </a:rPr>
              <a:t>Структурное подразделение дополнительного образования детей                            </a:t>
            </a:r>
            <a:br>
              <a:rPr sz="1400"/>
            </a:br>
            <a:r>
              <a:rPr b="1" lang="ru-RU" sz="1400" spc="-1" strike="noStrike">
                <a:solidFill>
                  <a:srgbClr val="e5e5ff"/>
                </a:solidFill>
                <a:latin typeface="Times New Roman"/>
              </a:rPr>
              <a:t>Центр внешкольной работы «Успех» государственного бюджетного общеобразовательного учреждения Самарской области средней общеобразовательной школы № 14 имени полного кавалера ордена Славы Николая Георгиевича Касьянова города Жигулевска городского округа Жигулевск Самарской области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22096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ткрытый урок на тему: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"Завершение рождественских праздников и приход таинственного события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ретения Господня"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аботчик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тодист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 ДОД ЦВР «Успех» ГБОУ СОШ №1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мин К. 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Святые Симеон Богоприимец и Пророчица Ан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6" descr="Simeon-Bogopriimetc_Anna-Prorochitca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70738327_1297806235_57266199_zv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img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Сретение Господне – один из 12 главных (двунадесятых) праздников Православной Церкви.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Праздник Сретение Господне приходится на 15 февраля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Сретение Господне – это встреча с Господом.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В этот день Пресвятая Богородица, следуя ветхозаветному закону, принесла Младенца Иисуса в иерусалимский храм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6" descr="IMG-20170215-WA0000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По церковному календарю праздник Сретение завершает рождественские праздники, которые прославляют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Рождение Иисуса Христа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5" descr="184401_original"/>
          <p:cNvPicPr/>
          <p:nvPr/>
        </p:nvPicPr>
        <p:blipFill>
          <a:blip r:embed="rId1"/>
          <a:stretch/>
        </p:blipFill>
        <p:spPr>
          <a:xfrm>
            <a:off x="2362320" y="1066680"/>
            <a:ext cx="4600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Times New Roman"/>
              </a:rPr>
              <a:t>Премудрый царь Соломон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6" descr="mini-11-768x576"/>
          <p:cNvPicPr/>
          <p:nvPr/>
        </p:nvPicPr>
        <p:blipFill>
          <a:blip r:embed="rId1"/>
          <a:stretch/>
        </p:blipFill>
        <p:spPr>
          <a:xfrm>
            <a:off x="0" y="990720"/>
            <a:ext cx="5029200" cy="5867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Соломон"/>
          <p:cNvPicPr/>
          <p:nvPr/>
        </p:nvPicPr>
        <p:blipFill>
          <a:blip r:embed="rId2"/>
          <a:stretch/>
        </p:blipFill>
        <p:spPr>
          <a:xfrm>
            <a:off x="4648320" y="990720"/>
            <a:ext cx="4495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Премудрый царь Соломон построил в Иерусалиме каменный храм,                       о великолепии и богатстве которого слава прошла по всему миру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7" descr="%D0%A5%D1%80%D0%B0%D0%BC-%D1%86%D0%B0%D1%80%D1%8F-%D0%A1%D0%BE%D0%BB%D0%BE%D0%BC%D0%BE%D0%BD%D0%B0-810x500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Иерусалимский храм, в котором Симеон Богоприимец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встретил Младенца Христа, был огромен и величественен     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и располагался в самом центре города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Picture 6" descr="Sretenie-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Храм – это особый дом, в котором совершаются Богослужения. 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6" descr="3683171341b722566475ff13160df9d98a1f4c7fe2_b"/>
          <p:cNvPicPr/>
          <p:nvPr/>
        </p:nvPicPr>
        <p:blipFill>
          <a:blip r:embed="rId1"/>
          <a:stretch/>
        </p:blipFill>
        <p:spPr>
          <a:xfrm>
            <a:off x="0" y="304920"/>
            <a:ext cx="5715000" cy="403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mg1"/>
          <p:cNvPicPr/>
          <p:nvPr/>
        </p:nvPicPr>
        <p:blipFill>
          <a:blip r:embed="rId2"/>
          <a:stretch/>
        </p:blipFill>
        <p:spPr>
          <a:xfrm>
            <a:off x="3581280" y="2590920"/>
            <a:ext cx="6172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В Священном Писании сказано:  </a:t>
            </a:r>
            <a:br>
              <a:rPr sz="2000"/>
            </a:br>
            <a:r>
              <a:rPr b="1" i="1" lang="ru-RU" sz="2000" spc="-1" strike="noStrike">
                <a:solidFill>
                  <a:srgbClr val="e5e5ff"/>
                </a:solidFill>
                <a:latin typeface="Times New Roman"/>
              </a:rPr>
              <a:t>«Где двое или трое собраны во имя Мое, там Я среди них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6" descr="wpid-20-statya00101_001"/>
          <p:cNvPicPr/>
          <p:nvPr/>
        </p:nvPicPr>
        <p:blipFill>
          <a:blip r:embed="rId1"/>
          <a:stretch/>
        </p:blipFill>
        <p:spPr>
          <a:xfrm>
            <a:off x="0" y="685800"/>
            <a:ext cx="5334120" cy="3733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9241"/>
          <p:cNvPicPr/>
          <p:nvPr/>
        </p:nvPicPr>
        <p:blipFill>
          <a:blip r:embed="rId2"/>
          <a:stretch/>
        </p:blipFill>
        <p:spPr>
          <a:xfrm>
            <a:off x="3809880" y="2647800"/>
            <a:ext cx="53341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рок Моис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Picture 2" descr="Библейская история Моисея  История пророка Моисея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64008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10" descr="http://ussur-nikola.cerkov.ru/files/2014/08/4645012_06_03_2008_0070616001204755172_slava_groshev_slava_groshev.jpg"/>
          <p:cNvPicPr/>
          <p:nvPr/>
        </p:nvPicPr>
        <p:blipFill>
          <a:blip r:embed="rId2"/>
          <a:stretch/>
        </p:blipFill>
        <p:spPr>
          <a:xfrm>
            <a:off x="4419720" y="457200"/>
            <a:ext cx="4724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Православные храмы часто строились в форме корабл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6" descr="7_html_m4b8e1f1e"/>
          <p:cNvPicPr/>
          <p:nvPr/>
        </p:nvPicPr>
        <p:blipFill>
          <a:blip r:embed="rId1"/>
          <a:stretch/>
        </p:blipFill>
        <p:spPr>
          <a:xfrm>
            <a:off x="4495680" y="3124080"/>
            <a:ext cx="4648320" cy="3733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28687346"/>
          <p:cNvPicPr/>
          <p:nvPr/>
        </p:nvPicPr>
        <p:blipFill>
          <a:blip r:embed="rId2"/>
          <a:stretch/>
        </p:blipFill>
        <p:spPr>
          <a:xfrm>
            <a:off x="0" y="990720"/>
            <a:ext cx="57150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Православный храм делится на 3 части: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притвор, алтарь, средняя часть храма 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5" descr="3"/>
          <p:cNvPicPr/>
          <p:nvPr/>
        </p:nvPicPr>
        <p:blipFill>
          <a:blip r:embed="rId1"/>
          <a:stretch/>
        </p:blipFill>
        <p:spPr>
          <a:xfrm>
            <a:off x="1905120" y="609480"/>
            <a:ext cx="5562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Times New Roman"/>
              </a:rPr>
              <a:t>Алтарь – святая святых храм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Picture 5" descr="Алтарь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Times New Roman"/>
              </a:rPr>
              <a:t>Иконостас храм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6" descr="5"/>
          <p:cNvPicPr/>
          <p:nvPr/>
        </p:nvPicPr>
        <p:blipFill>
          <a:blip r:embed="rId1"/>
          <a:stretch/>
        </p:blipFill>
        <p:spPr>
          <a:xfrm>
            <a:off x="1828800" y="380880"/>
            <a:ext cx="56386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Храм в честь Сретения Господня в городе Самар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5" descr="27632_20160222_173715"/>
          <p:cNvPicPr/>
          <p:nvPr/>
        </p:nvPicPr>
        <p:blipFill>
          <a:blip r:embed="rId1"/>
          <a:stretch/>
        </p:blipFill>
        <p:spPr>
          <a:xfrm>
            <a:off x="0" y="609480"/>
            <a:ext cx="4800600" cy="6248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_17"/>
          <p:cNvPicPr/>
          <p:nvPr/>
        </p:nvPicPr>
        <p:blipFill>
          <a:blip r:embed="rId2"/>
          <a:stretch/>
        </p:blipFill>
        <p:spPr>
          <a:xfrm>
            <a:off x="4800600" y="60948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173249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Times New Roman"/>
              </a:rPr>
              <a:t>Старец Симеон Богоприимец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2" descr="https://azbyka.ru/days/assets/img/saints/4565/p1b8h1344t1vfm4jjrn113qmj6k7.jpg"/>
          <p:cNvPicPr/>
          <p:nvPr/>
        </p:nvPicPr>
        <p:blipFill>
          <a:blip r:embed="rId1"/>
          <a:stretch/>
        </p:blipFill>
        <p:spPr>
          <a:xfrm>
            <a:off x="2133720" y="457200"/>
            <a:ext cx="4876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В Иерусалиме жил старец Симеон, который был толковником. </a:t>
            </a:r>
            <a:br>
              <a:rPr sz="2400"/>
            </a:br>
            <a:r>
              <a:rPr b="1" i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Толковник – это человек, который переводил Библию с еврейского на другие </a:t>
            </a:r>
            <a:r>
              <a:rPr b="0" i="1" lang="ru-RU" sz="2400" spc="-1" strike="noStrike">
                <a:solidFill>
                  <a:srgbClr val="e5e5ff"/>
                </a:solidFill>
                <a:latin typeface="Times New Roman"/>
              </a:rPr>
              <a:t>языки. 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4" descr="http://i.ytimg.com/vi/WBNj7oU9D1U/hqdefault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Когда Иисусу Христу исполнилось сорок дней,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Дева Мария и Иосиф принесли Его в Иерусалимский храм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7" descr="sret-3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</a:rPr>
              <a:t>Так как Иосиф и Мария были очень бедны, поэтому за Младенца могли дать только пару голубей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6" descr="Sretenie%20Gospodne_2"/>
          <p:cNvPicPr/>
          <p:nvPr/>
        </p:nvPicPr>
        <p:blipFill>
          <a:blip r:embed="rId1"/>
          <a:stretch/>
        </p:blipFill>
        <p:spPr>
          <a:xfrm>
            <a:off x="380880" y="9144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Times New Roman"/>
              </a:rPr>
              <a:t>Старец Симеон с Христом на руках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6" descr="Pravednyiy-Simeon-prinimaet-Boga"/>
          <p:cNvPicPr/>
          <p:nvPr/>
        </p:nvPicPr>
        <p:blipFill>
          <a:blip r:embed="rId1"/>
          <a:stretch/>
        </p:blipFill>
        <p:spPr>
          <a:xfrm>
            <a:off x="2133720" y="533520"/>
            <a:ext cx="4876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С радостью и со слезами Симеон принял Его на свои руки и произнес: </a:t>
            </a:r>
            <a:br>
              <a:rPr sz="2000"/>
            </a:br>
            <a:r>
              <a:rPr b="1" i="1" lang="ru-RU" sz="2000" spc="-1" strike="noStrike">
                <a:solidFill>
                  <a:srgbClr val="e5e5ff"/>
                </a:solidFill>
                <a:latin typeface="Times New Roman"/>
              </a:rPr>
              <a:t>«Теперь Ты, Владыко, отпускаешь меня, раба Твоего, как и обещал,  с миром. Потому что увидел я Спасителя. </a:t>
            </a:r>
            <a:br>
              <a:rPr sz="2000"/>
            </a:br>
            <a:r>
              <a:rPr b="1" i="1" lang="ru-RU" sz="2000" spc="-1" strike="noStrike">
                <a:solidFill>
                  <a:srgbClr val="e5e5ff"/>
                </a:solidFill>
                <a:latin typeface="Times New Roman"/>
              </a:rPr>
              <a:t>Те, кто уверуют в Него, - спасутся»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6" descr="%D0%A8%D0%B8%D1%88%D0%BA%D0%B8%D0%BD-%D1%84%D1%80%D0%B0%D0%B3%D0%BC%D0%B5%D0%BD%D1%82-%D0%BA%D0%B0%D1%80%D1%82%D0%B8%D0%BD%D1%8B-%D0%A1%D1%80%D0%B5%D1%82%D0%B5%D0%BD%D0%B8%D0%B5-%D0%A1%D0%B8%D0%BC%D0%B5%D0%BE%D0%BD-%D0%B8-%D0%98%D0%B8%D1%81%D1%83%D1%81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В день Сретения в храме была и Пророчица Анна.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Times New Roman"/>
              </a:rPr>
              <a:t>Она много лет с верой служила Богу и жила в ожидании Спасителя.</a:t>
            </a:r>
            <a:r>
              <a:rPr b="0" lang="ru-RU" sz="24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8" descr="content_sretenie_1__econet_ru"/>
          <p:cNvPicPr/>
          <p:nvPr/>
        </p:nvPicPr>
        <p:blipFill>
          <a:blip r:embed="rId1"/>
          <a:stretch/>
        </p:blipFill>
        <p:spPr>
          <a:xfrm>
            <a:off x="838080" y="762120"/>
            <a:ext cx="7524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7T21:35:23Z</dcterms:created>
  <dc:creator>1</dc:creator>
  <dc:description/>
  <dc:language>en-US</dc:language>
  <cp:lastModifiedBy>Пользователь</cp:lastModifiedBy>
  <dcterms:modified xsi:type="dcterms:W3CDTF">2019-12-31T06:31:39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