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1.png" ContentType="image/png"/>
  <Override PartName="/ppt/media/image20.jpeg" ContentType="image/jpe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3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166C-D923-4CB2-9174-6728B1F4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D12D-4043-44B5-ADCA-F9287E61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FAA2-7567-4CDE-A700-A63D4BF6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54AC-7A55-4FEB-9727-500F5031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8E33-5EF2-41E3-B519-E16C2198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2EBC-D6E2-4A1D-ADBD-AA965AF7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A00-AB38-4C47-8419-F845C570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5D09-A27D-4804-AFE2-06410D51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05D-ED21-4CDA-85B9-C13F474D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AFA-4674-4C28-9BCB-C1AD1B56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5CE-F308-489D-8924-F78E7004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01C-4FBB-4C03-922F-57A96306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35E3-47A9-4BBD-B1D6-B492CE6CE3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soldat"/>
          <p:cNvPicPr/>
          <p:nvPr/>
        </p:nvPicPr>
        <p:blipFill>
          <a:blip r:embed="rId1"/>
          <a:stretch/>
        </p:blipFill>
        <p:spPr>
          <a:xfrm>
            <a:off x="2971800" y="1981080"/>
            <a:ext cx="2819520" cy="30481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2133720" y="227880"/>
            <a:ext cx="5364000" cy="581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ужит Родине солдат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3121920" y="199080"/>
            <a:ext cx="3574800" cy="5814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99ffcc"/>
              </a:gs>
              <a:gs pos="100000">
                <a:srgbClr val="cc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“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Сборы в армию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83600" y="806400"/>
            <a:ext cx="8768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исок необходимых вещей для призывного пун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0320" y="1585800"/>
            <a:ext cx="306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Рюкза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Зубная пас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Зубная щёт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Мыл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3760" y="3589200"/>
            <a:ext cx="249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Полотенц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Продук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Спи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Нит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700080" y="1711080"/>
            <a:ext cx="241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Игол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Нож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. Лож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. Нож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2987280" y="3741480"/>
            <a:ext cx="3135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. Круж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. Чистое бель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. Руч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6. Бума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1" descr="pic_2006-02-20_080035"/>
          <p:cNvPicPr/>
          <p:nvPr/>
        </p:nvPicPr>
        <p:blipFill>
          <a:blip r:embed="rId1"/>
          <a:stretch/>
        </p:blipFill>
        <p:spPr>
          <a:xfrm>
            <a:off x="6477120" y="3581280"/>
            <a:ext cx="2666880" cy="327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6908760" y="1577880"/>
            <a:ext cx="18036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"/>
          <p:cNvSpPr/>
          <p:nvPr/>
        </p:nvSpPr>
        <p:spPr>
          <a:xfrm>
            <a:off x="2847240" y="-720"/>
            <a:ext cx="3864240" cy="5814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cc99"/>
              </a:gs>
              <a:gs pos="100000">
                <a:srgbClr val="cc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“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Армейский сленг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270720" y="521280"/>
            <a:ext cx="18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мб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184320" y="10461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оеннослужащий, закончивший срочную службу в арм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140400" y="2158920"/>
            <a:ext cx="15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ала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221400" y="2702520"/>
            <a:ext cx="38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лдат новобран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09520" y="318600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Черпа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167760" y="366372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лдат, принявший присяг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315000" y="426636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у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1224000" y="433728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изывник, еще не принявший присяг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217800" y="527616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е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104760" y="592128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тарослужащий солд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0" descr=""/>
          <p:cNvPicPr/>
          <p:nvPr/>
        </p:nvPicPr>
        <p:blipFill>
          <a:blip r:embed="rId1"/>
          <a:stretch/>
        </p:blipFill>
        <p:spPr>
          <a:xfrm>
            <a:off x="5486400" y="1770120"/>
            <a:ext cx="3219480" cy="2415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1" descr=""/>
          <p:cNvPicPr/>
          <p:nvPr/>
        </p:nvPicPr>
        <p:blipFill>
          <a:blip r:embed="rId2"/>
          <a:stretch/>
        </p:blipFill>
        <p:spPr>
          <a:xfrm>
            <a:off x="6215040" y="4527720"/>
            <a:ext cx="26668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ttp://www.arms-expo.ru/upload/iblock/be6/be620c076e22b4b054916fa724a5d113.jpg"/>
          <p:cNvPicPr/>
          <p:nvPr/>
        </p:nvPicPr>
        <p:blipFill>
          <a:blip r:embed="rId1"/>
          <a:stretch/>
        </p:blipFill>
        <p:spPr>
          <a:xfrm>
            <a:off x="-17640" y="-95400"/>
            <a:ext cx="3598920" cy="2162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-17640" y="2286000"/>
            <a:ext cx="3171960" cy="2676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3344760" y="2176560"/>
            <a:ext cx="2851200" cy="2014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4"/>
          <a:stretch/>
        </p:blipFill>
        <p:spPr>
          <a:xfrm>
            <a:off x="3151080" y="4962600"/>
            <a:ext cx="3073680" cy="1895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5"/>
          <a:stretch/>
        </p:blipFill>
        <p:spPr>
          <a:xfrm>
            <a:off x="6224760" y="-14400"/>
            <a:ext cx="291924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5" descr="2561440[1]"/>
          <p:cNvPicPr/>
          <p:nvPr/>
        </p:nvPicPr>
        <p:blipFill>
          <a:blip r:embed="rId1"/>
          <a:stretch/>
        </p:blipFill>
        <p:spPr>
          <a:xfrm>
            <a:off x="6284880" y="3733920"/>
            <a:ext cx="2819520" cy="3124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3809880" y="121320"/>
            <a:ext cx="186336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гадк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65120" y="972720"/>
            <a:ext cx="554364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льнозоркого мне дал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ко мне приблизил дал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850680" y="2269080"/>
            <a:ext cx="17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инок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301680" y="2971800"/>
            <a:ext cx="57150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5" descr="2561440[1]"/>
          <p:cNvPicPr/>
          <p:nvPr/>
        </p:nvPicPr>
        <p:blipFill>
          <a:blip r:embed="rId1"/>
          <a:stretch/>
        </p:blipFill>
        <p:spPr>
          <a:xfrm>
            <a:off x="6253200" y="3759120"/>
            <a:ext cx="2819520" cy="3124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3809880" y="121320"/>
            <a:ext cx="186336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гадк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36680" y="884160"/>
            <a:ext cx="430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Девушка» ход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сню завод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г услыши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зу не дыш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929160" y="327564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Катюш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2"/>
          <a:stretch/>
        </p:blipFill>
        <p:spPr>
          <a:xfrm>
            <a:off x="6477120" y="182520"/>
            <a:ext cx="2408040" cy="3551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"/>
          <p:cNvPicPr/>
          <p:nvPr/>
        </p:nvPicPr>
        <p:blipFill>
          <a:blip r:embed="rId3"/>
          <a:stretch/>
        </p:blipFill>
        <p:spPr>
          <a:xfrm>
            <a:off x="966960" y="3797280"/>
            <a:ext cx="41385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5" descr="2561440[1]"/>
          <p:cNvPicPr/>
          <p:nvPr/>
        </p:nvPicPr>
        <p:blipFill>
          <a:blip r:embed="rId1"/>
          <a:stretch/>
        </p:blipFill>
        <p:spPr>
          <a:xfrm>
            <a:off x="6323040" y="3714840"/>
            <a:ext cx="2819520" cy="31240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3809880" y="121320"/>
            <a:ext cx="186336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гадк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97720" y="592560"/>
            <a:ext cx="3533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горе-гору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оят старуш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охну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ди глохну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5410800" y="11898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уш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614520" y="2971800"/>
            <a:ext cx="48258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809880" y="121320"/>
            <a:ext cx="186336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гадк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314280" y="442440"/>
            <a:ext cx="387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зёт черепах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льная рубах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аг – в овр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на, где вра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91200" y="2664360"/>
            <a:ext cx="11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анк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962520" y="1087560"/>
            <a:ext cx="5016240" cy="3735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685800" y="4165560"/>
            <a:ext cx="19810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5" descr="2561440[1]"/>
          <p:cNvPicPr/>
          <p:nvPr/>
        </p:nvPicPr>
        <p:blipFill>
          <a:blip r:embed="rId1"/>
          <a:stretch/>
        </p:blipFill>
        <p:spPr>
          <a:xfrm>
            <a:off x="38160" y="3638520"/>
            <a:ext cx="2819520" cy="31240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3809880" y="121320"/>
            <a:ext cx="186336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гадк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42120" y="668520"/>
            <a:ext cx="422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то свято х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чизны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ночью, и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погоде любой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5082120" y="1035720"/>
            <a:ext cx="286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граничн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3772080" y="2906640"/>
            <a:ext cx="521784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133720" y="227880"/>
            <a:ext cx="5364000" cy="581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ужит Родине солдат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85840" y="917640"/>
            <a:ext cx="85341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О ком в армии говорят, что они ошибаются один раз в жизн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4760" y="220968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 о сапё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895480" y="1868400"/>
            <a:ext cx="49896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2133720" y="227880"/>
            <a:ext cx="5364000" cy="581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ужит Родине солдат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0880" y="992160"/>
            <a:ext cx="8876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ак называется здание, в котором живут солдат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44240" y="189216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 казар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175280" y="1676520"/>
            <a:ext cx="4762440" cy="317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-68400" y="4267080"/>
            <a:ext cx="3984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133720" y="227880"/>
            <a:ext cx="5364000" cy="581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ужит Родине солдат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9080" y="974160"/>
            <a:ext cx="89154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Как называют бойца, владеющего искусством меткой стрельбы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391680" y="2159640"/>
            <a:ext cx="19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 снайп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495680" y="3600360"/>
            <a:ext cx="4687920" cy="3219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-36360" y="3581280"/>
            <a:ext cx="47210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133720" y="7200"/>
            <a:ext cx="5364000" cy="581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ужит Родине солдат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8280" y="711000"/>
            <a:ext cx="41918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Что такое камуфляж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19080" y="123696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скировк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едметов путём окраски полосами, пятнами, искажающими их очертания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6781680" y="2971800"/>
            <a:ext cx="2362320" cy="361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0" y="2313000"/>
            <a:ext cx="1905120" cy="206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1905120" y="2514600"/>
            <a:ext cx="467676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133720" y="227880"/>
            <a:ext cx="5364000" cy="581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ужит Родине солдат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-26640" y="847800"/>
            <a:ext cx="69760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Какие головные уборы носят солдаты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13320" y="1554120"/>
            <a:ext cx="48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 фуражк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пилотк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кас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826320" y="985680"/>
            <a:ext cx="2190600" cy="27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52280" y="2076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2133720" y="4224240"/>
            <a:ext cx="3956040" cy="2595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7034040" y="3981600"/>
            <a:ext cx="18590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2133720" y="227880"/>
            <a:ext cx="5364000" cy="581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ужит Родине солдат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58320" y="788760"/>
            <a:ext cx="54507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Что такое наряд вне очереди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62640" y="1386000"/>
            <a:ext cx="787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мейское взыскани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ебование выполнить определённую работ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19080" y="2604600"/>
            <a:ext cx="84582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Как называют наплечные знаки в русской армии и на флоте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233640" y="3732840"/>
            <a:ext cx="31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 пого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пол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7" descr=""/>
          <p:cNvPicPr/>
          <p:nvPr/>
        </p:nvPicPr>
        <p:blipFill>
          <a:blip r:embed="rId1"/>
          <a:stretch/>
        </p:blipFill>
        <p:spPr>
          <a:xfrm>
            <a:off x="609480" y="4282920"/>
            <a:ext cx="2576520" cy="2417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"/>
          <p:cNvPicPr/>
          <p:nvPr/>
        </p:nvPicPr>
        <p:blipFill>
          <a:blip r:embed="rId2"/>
          <a:stretch/>
        </p:blipFill>
        <p:spPr>
          <a:xfrm>
            <a:off x="6629400" y="4254480"/>
            <a:ext cx="2185920" cy="2498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"/>
          <p:cNvPicPr/>
          <p:nvPr/>
        </p:nvPicPr>
        <p:blipFill>
          <a:blip r:embed="rId3"/>
          <a:stretch/>
        </p:blipFill>
        <p:spPr>
          <a:xfrm>
            <a:off x="3809880" y="4221000"/>
            <a:ext cx="24051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231840" y="30384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называется смотр войск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7316280" y="38016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пара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08880" y="91332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Чем заканчивается успешная вой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087320" y="9900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побед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304920" y="1522800"/>
            <a:ext cx="48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Где прячется солдат от пуль?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7163640" y="15994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в окоп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234360" y="220860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. Военный китель или блюдо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5869800" y="228528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картошка в мунди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228600" y="29703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2. Приспособление для размещения патронов в огнестрель- ном оружии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7165440" y="34282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магаз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228600" y="403704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3. Гусеничная военная машина с поворотной артиллерийс- кой башней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7317000" y="4494960"/>
            <a:ext cx="8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тан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308160" y="5180400"/>
            <a:ext cx="77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4. Чем солдаты защищаются от отравляющих газов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6784200" y="56379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противога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1" descr="221190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228600" y="3034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5. Какого цвета каски носят солдаты миротворческих сил ООН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258880" y="76140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голубой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- цвет мирного неб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28600" y="110304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6. Секретное условное слово или фраза, которые используются для опознавания своих людей в караульной служ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163640" y="1904400"/>
            <a:ext cx="12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паро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228600" y="2346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7. Какое подразделение солдат обозначается тем же словом, что и источник питания постоянного электрического ток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7164720" y="31233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батаре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228600" y="34210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. Какое подразделение солдат обозначается тем же словом, что и приспособление в ударном механизм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7317000" y="3885480"/>
            <a:ext cx="10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взв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247320" y="4266000"/>
            <a:ext cx="88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. Название какого огнестрельного оружия начинается нот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7012800" y="472356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револьв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304920" y="499104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. Какое название радиолокационной установки и огнестрельного оружия можно читать как слева направо, так и справа налево?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7239960" y="579060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рад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6" descr="2211551[1]"/>
          <p:cNvPicPr/>
          <p:nvPr/>
        </p:nvPicPr>
        <p:blipFill>
          <a:blip r:embed="rId1"/>
          <a:stretch/>
        </p:blipFill>
        <p:spPr>
          <a:xfrm>
            <a:off x="1219320" y="0"/>
            <a:ext cx="67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uriya</dc:creator>
  <dc:description/>
  <dc:language>en-US</dc:language>
  <cp:lastModifiedBy>NAPetrova</cp:lastModifiedBy>
  <dcterms:modified xsi:type="dcterms:W3CDTF">2020-03-11T00:46:17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