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5DEA1-EB48-45E9-8E80-8B601D87B17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DEE84-63D6-4AF9-AA87-22124684E9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E2D5-8DD2-4FBF-B580-BD902DBCB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1956-6702-42E2-95CE-B5F484163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01C64-F6D0-4C51-9348-756716FC8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13CB7-9D49-49E3-8D97-793EDEDEA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EF906-5E7B-41BF-99CB-788284A3B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541D1-EDEB-4153-BA19-B79B4A5A0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D073C-3F1A-4D20-A72F-5A681668C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67A84-9D86-4A5D-8601-593CC390E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2317F-264C-4E2A-8C03-C26A81417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60E56-9368-4073-9C93-651833A17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C6E6F-0C8D-43C2-8082-B2F46925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3FAC-7412-4B6C-A341-7D4DB2516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60628-5D26-4715-9F7C-54950260E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FBAFB-F6E3-49D0-82E9-2BF56DD7B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9BD76-F268-4129-8048-F1ACB2248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42532-9DE1-42A4-B449-F9058E7CA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F3C26-3B51-4A61-9137-4905CF3BB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BEFBC8-808A-4099-861A-E73303C01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C4AB42-C024-4B70-A599-20764D0F8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7FDBB0-AC79-4106-9BE8-F1B268B87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E8EC74-A8B6-4E61-BB4B-82CE0B8B2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360DD5-8F63-4B3C-A738-812A0F946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B85F-304C-4F62-A27B-FF954F3CC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21B9F8-F77E-4CAB-9F70-873389C20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836162-5789-4BEC-B9C7-8183B06E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3259A1A-35CD-42A1-949C-500532FD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6F7F60-48C7-40A4-B802-DD2EF8AEA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E9E6954-382E-40E8-A762-EE0935DE6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A45D72-690B-4C90-A2DE-17EBA5BBC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5BB52A-F3CB-4339-A163-7C3CF859D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77EEA-9B8E-4DC9-9FA8-B3DAAB002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04B46-CAE8-411D-93D8-C9951B4AF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67ACCF-5867-43D4-B222-876277EDC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D00F-90C2-4FCA-8A1F-B69DE7CA5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CB0D5-B534-4931-B1E2-ED55ABB3A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BAA73F-2164-4D82-AD94-7CEAAF1E6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2A928-F110-42FE-8DD1-A15F3FA9A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7B364-C708-4A07-A465-EFE88D10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14F01A-BAFE-49C4-B256-28783516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E4246-0841-4456-B1BD-13AF6355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1A4D1E-DF7B-4934-89E3-FE1018249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CB61E2-27E5-4D80-8003-C210188AE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11C7D7-16C7-4837-830D-4C2CE2A25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9ABE07-A4BA-4556-9F57-93F9C306F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3945-D747-4616-9FD3-73DED7096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2B50F9-9127-412F-B5EA-CB16355B0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A75572-B293-4867-AFAF-72E82DA4D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472B96F-53DD-419A-9845-9E69E6A2D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33C3B0-EF73-4257-B61B-8C0198D8A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15860F1-27F6-42D6-AF46-F5A1F9A83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235E0C-2665-4B67-A0E8-A1968FE9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B13020-DF6B-4D50-8239-2158893B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325DC2-CF93-48C3-8FFC-FF290C515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ED2E4D-B075-4499-817A-AF15645C2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4D4761-5E73-422A-A0C7-FB565A604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8440-9564-4475-943C-7ACB4493E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07A593-9669-4141-8533-32E979D90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DCA8B1-3CAC-4C60-9F8C-DC39CD691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980E0CC-32F7-4982-A17D-395CB3BA8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85D8E1B-D23E-459E-9A44-502623980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31D597-E48D-43EF-8F03-840A0C90C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429780-8588-474B-B213-134561167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2F9B08-2857-4ABF-A0BB-A43863C98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6780DA-1A89-43EB-8934-5BD3A04C7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8CFE666-2C66-4B20-A0AC-445E4F561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C504E0-F5E3-4A25-A475-ACC8FC45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E86A-8142-420E-A7FF-4D464E58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54CEDC-0786-4293-A9C2-12D970A54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3467F57-55B2-49C2-9561-B5949C636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B07267-62D5-489F-BCED-AC52457B0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93FEAF5-CDFF-457D-93E9-49BBD93CA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3982CA-B9AF-4E26-B007-00B7FF00C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4F43E0-D384-4A33-9508-F2487A9CE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4E73D8-07D1-4C17-BBCC-EFD62C5BA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AC9AB2-3282-47E3-A250-D8E79E638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1ABDDB-FD16-47E4-9BAC-38B2A575A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2E6267-127E-4C85-9C06-36701D4D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06F9-CFDE-4C7B-AB4D-626AB98E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35E297-F1F0-46CA-9B1F-A3E79DB54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11FF15-C9F7-4270-80DC-4EE52551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9787BB-9133-4E35-9178-7D5B14173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C5E64B-CB59-4931-9FDB-673F0594B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4E0282-18E1-4F0F-8FDF-1B9F61729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B65B-636F-4762-854F-A235B498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64230-8901-4B05-B766-C85EF9688D81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19EFA-926F-46A8-90A6-B44719227D9F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6106E-5E0D-4EF8-B71A-FD9DD98880E7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BE90D-2285-4AFD-BEF8-BF5C475A869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6390F-88AE-40D0-843E-4C6F89B1D948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7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7923C-5598-4DE2-8DD9-A2F1652B55EA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3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1DD58-59AF-4549-B39C-97CED772485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Рисунок 1" descr=""/>
          <p:cNvPicPr/>
          <p:nvPr/>
        </p:nvPicPr>
        <p:blipFill>
          <a:blip r:embed="rId1"/>
          <a:srcRect l="0" t="0" r="44800" b="0"/>
          <a:stretch/>
        </p:blipFill>
        <p:spPr>
          <a:xfrm>
            <a:off x="0" y="-15840"/>
            <a:ext cx="5048280" cy="685800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244583"/>
                </a:solidFill>
                <a:latin typeface="Century Schoolbook"/>
              </a:rPr>
              <a:t>ПОЛЬЗА ДОМАШНИХ ЖИВОТНЫХ</a:t>
            </a:r>
            <a:endParaRPr b="0" lang="en-US" sz="54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258920" y="3860640"/>
            <a:ext cx="6400800" cy="69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1527120" y="5392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5"/>
          <p:cNvSpPr/>
          <p:nvPr/>
        </p:nvSpPr>
        <p:spPr>
          <a:xfrm>
            <a:off x="1455840" y="5969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6"/>
          <p:cNvSpPr/>
          <p:nvPr/>
        </p:nvSpPr>
        <p:spPr>
          <a:xfrm>
            <a:off x="735120" y="5608800"/>
            <a:ext cx="801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оспитатель: Абрамова Марта Леваев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Рисунок 1" descr=""/>
          <p:cNvPicPr/>
          <p:nvPr/>
        </p:nvPicPr>
        <p:blipFill>
          <a:blip r:embed="rId1"/>
          <a:srcRect l="99953" t="0" r="-10428281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3"/>
          <p:cNvSpPr/>
          <p:nvPr/>
        </p:nvSpPr>
        <p:spPr>
          <a:xfrm>
            <a:off x="5599440" y="907920"/>
            <a:ext cx="3477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244583"/>
                </a:solidFill>
                <a:latin typeface="Arial"/>
              </a:rPr>
              <a:t>ОВЦ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4"/>
          <p:cNvSpPr/>
          <p:nvPr/>
        </p:nvSpPr>
        <p:spPr>
          <a:xfrm>
            <a:off x="250920" y="476280"/>
            <a:ext cx="5111640" cy="3833640"/>
          </a:xfrm>
          <a:prstGeom prst="rect">
            <a:avLst/>
          </a:prstGeom>
          <a:blipFill rotWithShape="0">
            <a:blip r:embed="rId2"/>
            <a:srcRect/>
            <a:stretch/>
          </a:blipFill>
          <a:ln w="63360">
            <a:solidFill>
              <a:srgbClr val="808000"/>
            </a:solidFill>
            <a:miter/>
          </a:ln>
          <a:effectLst>
            <a:outerShdw dist="202119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5"/>
          <p:cNvSpPr/>
          <p:nvPr/>
        </p:nvSpPr>
        <p:spPr>
          <a:xfrm>
            <a:off x="5796000" y="3716280"/>
            <a:ext cx="3095640" cy="23227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202119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7"/>
          <p:cNvSpPr/>
          <p:nvPr/>
        </p:nvSpPr>
        <p:spPr>
          <a:xfrm>
            <a:off x="517680" y="4672080"/>
            <a:ext cx="5086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244583"/>
                </a:solidFill>
                <a:latin typeface="Arial"/>
              </a:rPr>
              <a:t>ШЕРСТЬ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Рисунок 1" descr=""/>
          <p:cNvPicPr/>
          <p:nvPr/>
        </p:nvPicPr>
        <p:blipFill>
          <a:blip r:embed="rId1"/>
          <a:srcRect l="0" t="0" r="45075" b="0"/>
          <a:stretch/>
        </p:blipFill>
        <p:spPr>
          <a:xfrm>
            <a:off x="0" y="0"/>
            <a:ext cx="5022720" cy="685800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900" spc="-1" strike="noStrike">
                <a:solidFill>
                  <a:srgbClr val="244583"/>
                </a:solidFill>
                <a:latin typeface="Century Schoolbook"/>
              </a:rPr>
              <a:t>СВИНЬЯ</a:t>
            </a:r>
            <a:endParaRPr b="0" lang="en-US" sz="79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66" name="Picture 4" descr="pigs"/>
          <p:cNvPicPr/>
          <p:nvPr/>
        </p:nvPicPr>
        <p:blipFill>
          <a:blip r:embed="rId2"/>
          <a:srcRect l="0" t="0" r="4328" b="10968"/>
          <a:stretch/>
        </p:blipFill>
        <p:spPr>
          <a:xfrm>
            <a:off x="592200" y="1341360"/>
            <a:ext cx="7508880" cy="484344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5"/>
          <p:cNvSpPr/>
          <p:nvPr/>
        </p:nvSpPr>
        <p:spPr>
          <a:xfrm>
            <a:off x="592200" y="6184800"/>
            <a:ext cx="70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– порося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Рисунок 1" descr=""/>
          <p:cNvPicPr/>
          <p:nvPr/>
        </p:nvPicPr>
        <p:blipFill>
          <a:blip r:embed="rId1"/>
          <a:srcRect l="0" t="0" r="48555" b="0"/>
          <a:stretch/>
        </p:blipFill>
        <p:spPr>
          <a:xfrm>
            <a:off x="0" y="0"/>
            <a:ext cx="4703760" cy="685800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195280" y="333360"/>
            <a:ext cx="482436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900" spc="-1" strike="noStrike">
                <a:solidFill>
                  <a:srgbClr val="244583"/>
                </a:solidFill>
                <a:latin typeface="Century Schoolbook"/>
              </a:rPr>
              <a:t>МЯСО</a:t>
            </a:r>
            <a:endParaRPr b="0" lang="en-US" sz="79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0" name="Picture 7" descr="organic_beef"/>
          <p:cNvPicPr/>
          <p:nvPr/>
        </p:nvPicPr>
        <p:blipFill>
          <a:blip r:embed="rId2"/>
          <a:stretch/>
        </p:blipFill>
        <p:spPr>
          <a:xfrm>
            <a:off x="395280" y="1844640"/>
            <a:ext cx="4537080" cy="3017880"/>
          </a:xfrm>
          <a:prstGeom prst="rect">
            <a:avLst/>
          </a:prstGeom>
          <a:ln w="0">
            <a:noFill/>
          </a:ln>
        </p:spPr>
      </p:pic>
      <p:sp>
        <p:nvSpPr>
          <p:cNvPr id="371" name="Rectangle 10"/>
          <p:cNvSpPr/>
          <p:nvPr/>
        </p:nvSpPr>
        <p:spPr>
          <a:xfrm>
            <a:off x="539640" y="6237360"/>
            <a:ext cx="785988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Picture 11" descr="Свинина п/ф окорок"/>
          <p:cNvPicPr/>
          <p:nvPr/>
        </p:nvPicPr>
        <p:blipFill>
          <a:blip r:embed="rId3"/>
          <a:stretch/>
        </p:blipFill>
        <p:spPr>
          <a:xfrm>
            <a:off x="5508720" y="1844640"/>
            <a:ext cx="297180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3" name="Рисунок 1" descr=""/>
          <p:cNvPicPr/>
          <p:nvPr/>
        </p:nvPicPr>
        <p:blipFill>
          <a:blip r:embed="rId1"/>
          <a:srcRect l="0" t="0" r="46303" b="0"/>
          <a:stretch/>
        </p:blipFill>
        <p:spPr>
          <a:xfrm>
            <a:off x="0" y="0"/>
            <a:ext cx="4910040" cy="685800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8" descr="07"/>
          <p:cNvPicPr/>
          <p:nvPr/>
        </p:nvPicPr>
        <p:blipFill>
          <a:blip r:embed="rId2"/>
          <a:stretch/>
        </p:blipFill>
        <p:spPr>
          <a:xfrm>
            <a:off x="971640" y="2781360"/>
            <a:ext cx="2695320" cy="2028600"/>
          </a:xfrm>
          <a:prstGeom prst="rect">
            <a:avLst/>
          </a:prstGeom>
          <a:ln w="0">
            <a:noFill/>
          </a:ln>
        </p:spPr>
      </p:pic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44583"/>
                </a:solidFill>
                <a:latin typeface="Century Schoolbook"/>
              </a:rPr>
              <a:t>КАКИЕ ВЫ ЗНАЕТЕ БЛЮДА ИЗ МЯСА?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6" name="Picture 4" descr="chicken_cutlet"/>
          <p:cNvPicPr/>
          <p:nvPr/>
        </p:nvPicPr>
        <p:blipFill>
          <a:blip r:embed="rId3"/>
          <a:stretch/>
        </p:blipFill>
        <p:spPr>
          <a:xfrm>
            <a:off x="5724360" y="1484280"/>
            <a:ext cx="2664000" cy="248760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6" descr="35"/>
          <p:cNvPicPr/>
          <p:nvPr/>
        </p:nvPicPr>
        <p:blipFill>
          <a:blip r:embed="rId4"/>
          <a:stretch/>
        </p:blipFill>
        <p:spPr>
          <a:xfrm>
            <a:off x="2771640" y="1628640"/>
            <a:ext cx="3002040" cy="22510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0" descr="pelmeni"/>
          <p:cNvPicPr/>
          <p:nvPr/>
        </p:nvPicPr>
        <p:blipFill>
          <a:blip r:embed="rId5"/>
          <a:stretch/>
        </p:blipFill>
        <p:spPr>
          <a:xfrm>
            <a:off x="5724360" y="4292640"/>
            <a:ext cx="2592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Рисунок 1" descr=""/>
          <p:cNvPicPr/>
          <p:nvPr/>
        </p:nvPicPr>
        <p:blipFill>
          <a:blip r:embed="rId1"/>
          <a:srcRect l="100008" t="0" r="-6803236" b="0"/>
          <a:stretch/>
        </p:blipFill>
        <p:spPr>
          <a:xfrm>
            <a:off x="-1584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900" spc="-1" strike="noStrike">
                <a:solidFill>
                  <a:srgbClr val="244583"/>
                </a:solidFill>
                <a:latin typeface="Century Schoolbook"/>
              </a:rPr>
              <a:t>КОЗА</a:t>
            </a:r>
            <a:endParaRPr b="0" lang="en-US" sz="7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539640" y="6093000"/>
            <a:ext cx="5688000" cy="50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Шкура козы покрыта пухом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2" name="Picture 5" descr="250px-14199346_2eb45fef30_b"/>
          <p:cNvPicPr/>
          <p:nvPr/>
        </p:nvPicPr>
        <p:blipFill>
          <a:blip r:embed="rId2"/>
          <a:stretch/>
        </p:blipFill>
        <p:spPr>
          <a:xfrm>
            <a:off x="1476360" y="1268280"/>
            <a:ext cx="56880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Рисунок 1" descr=""/>
          <p:cNvPicPr/>
          <p:nvPr/>
        </p:nvPicPr>
        <p:blipFill>
          <a:blip r:embed="rId1"/>
          <a:srcRect l="-1362" t="0" r="100008" b="0"/>
          <a:stretch/>
        </p:blipFill>
        <p:spPr>
          <a:xfrm>
            <a:off x="-125280" y="0"/>
            <a:ext cx="125280" cy="685800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5" descr="mittens-goat-ornamented"/>
          <p:cNvPicPr/>
          <p:nvPr/>
        </p:nvPicPr>
        <p:blipFill>
          <a:blip r:embed="rId2"/>
          <a:stretch/>
        </p:blipFill>
        <p:spPr>
          <a:xfrm>
            <a:off x="5364000" y="1989000"/>
            <a:ext cx="2476800" cy="247680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7" descr="l1039f"/>
          <p:cNvPicPr/>
          <p:nvPr/>
        </p:nvPicPr>
        <p:blipFill>
          <a:blip r:embed="rId3"/>
          <a:stretch/>
        </p:blipFill>
        <p:spPr>
          <a:xfrm>
            <a:off x="755640" y="1773360"/>
            <a:ext cx="4048200" cy="3905280"/>
          </a:xfrm>
          <a:prstGeom prst="rect">
            <a:avLst/>
          </a:prstGeom>
          <a:ln w="0">
            <a:noFill/>
          </a:ln>
        </p:spPr>
      </p:pic>
      <p:sp>
        <p:nvSpPr>
          <p:cNvPr id="386" name="Text Box 10"/>
          <p:cNvSpPr/>
          <p:nvPr/>
        </p:nvSpPr>
        <p:spPr>
          <a:xfrm>
            <a:off x="3357720" y="189000"/>
            <a:ext cx="2423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244583"/>
                </a:solidFill>
                <a:latin typeface="Arial"/>
              </a:rPr>
              <a:t>ПУХ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Рисунок 1" descr=""/>
          <p:cNvPicPr/>
          <p:nvPr/>
        </p:nvPicPr>
        <p:blipFill>
          <a:blip r:embed="rId1"/>
          <a:srcRect l="0" t="0" r="99504" b="0"/>
          <a:stretch/>
        </p:blipFill>
        <p:spPr>
          <a:xfrm>
            <a:off x="0" y="0"/>
            <a:ext cx="46080" cy="685800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2" descr="hensonpastureb"/>
          <p:cNvPicPr/>
          <p:nvPr/>
        </p:nvPicPr>
        <p:blipFill>
          <a:blip r:embed="rId2"/>
          <a:stretch/>
        </p:blipFill>
        <p:spPr>
          <a:xfrm>
            <a:off x="395280" y="1628640"/>
            <a:ext cx="4643280" cy="49690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4" descr="tick_eggs_0509"/>
          <p:cNvPicPr/>
          <p:nvPr/>
        </p:nvPicPr>
        <p:blipFill>
          <a:blip r:embed="rId3"/>
          <a:stretch/>
        </p:blipFill>
        <p:spPr>
          <a:xfrm>
            <a:off x="6227640" y="1557360"/>
            <a:ext cx="2095560" cy="3181320"/>
          </a:xfrm>
          <a:prstGeom prst="rect">
            <a:avLst/>
          </a:prstGeom>
          <a:ln w="0">
            <a:noFill/>
          </a:ln>
        </p:spPr>
      </p:pic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900" spc="-1" strike="noStrike">
                <a:solidFill>
                  <a:srgbClr val="244583"/>
                </a:solidFill>
                <a:latin typeface="Century Schoolbook"/>
              </a:rPr>
              <a:t>КУРИЦА</a:t>
            </a:r>
            <a:endParaRPr b="0" lang="en-US" sz="7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1" name="Text Box 7"/>
          <p:cNvSpPr/>
          <p:nvPr/>
        </p:nvSpPr>
        <p:spPr>
          <a:xfrm>
            <a:off x="5577480" y="5032440"/>
            <a:ext cx="3408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244583"/>
                </a:solidFill>
                <a:latin typeface="Arial"/>
              </a:rPr>
              <a:t>ЯЙЦ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Рисунок 1" descr=""/>
          <p:cNvPicPr/>
          <p:nvPr/>
        </p:nvPicPr>
        <p:blipFill>
          <a:blip r:embed="rId1"/>
          <a:srcRect l="99189" t="304" r="-99181" b="-294"/>
          <a:stretch/>
        </p:blipFill>
        <p:spPr>
          <a:xfrm>
            <a:off x="0" y="47520"/>
            <a:ext cx="9144000" cy="683748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68360" y="4437000"/>
            <a:ext cx="7920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44583"/>
                </a:solidFill>
                <a:latin typeface="Century Schoolbook"/>
              </a:rPr>
              <a:t>ИЗ МЯСА КУР, УТОК, ГУСЕЙ, ИНДЕЕК ГОТОВЯТ САМЫЕ РАЗНЫЕ И ВКУСНЫЕ  БЛЮДА.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4" name="Picture 5" descr="chicken"/>
          <p:cNvPicPr/>
          <p:nvPr/>
        </p:nvPicPr>
        <p:blipFill>
          <a:blip r:embed="rId2"/>
          <a:stretch/>
        </p:blipFill>
        <p:spPr>
          <a:xfrm>
            <a:off x="5148360" y="404640"/>
            <a:ext cx="3749400" cy="294012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9" descr="021-1"/>
          <p:cNvPicPr/>
          <p:nvPr/>
        </p:nvPicPr>
        <p:blipFill>
          <a:blip r:embed="rId3"/>
          <a:stretch/>
        </p:blipFill>
        <p:spPr>
          <a:xfrm>
            <a:off x="482760" y="358920"/>
            <a:ext cx="3960720" cy="30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Рисунок 1" descr=""/>
          <p:cNvPicPr/>
          <p:nvPr/>
        </p:nvPicPr>
        <p:blipFill>
          <a:blip r:embed="rId1"/>
          <a:srcRect l="-4378" t="0" r="100008" b="0"/>
          <a:stretch/>
        </p:blipFill>
        <p:spPr>
          <a:xfrm>
            <a:off x="-399960" y="0"/>
            <a:ext cx="399960" cy="68580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3" descr="4690_2667-paragraf-photo-text-left-img-dir"/>
          <p:cNvPicPr/>
          <p:nvPr/>
        </p:nvPicPr>
        <p:blipFill>
          <a:blip r:embed="rId2"/>
          <a:stretch/>
        </p:blipFill>
        <p:spPr>
          <a:xfrm>
            <a:off x="5435640" y="2060640"/>
            <a:ext cx="3097080" cy="247788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6" descr="HelpBig"/>
          <p:cNvPicPr/>
          <p:nvPr/>
        </p:nvPicPr>
        <p:blipFill>
          <a:blip r:embed="rId3"/>
          <a:stretch/>
        </p:blipFill>
        <p:spPr>
          <a:xfrm>
            <a:off x="684360" y="1557360"/>
            <a:ext cx="4032000" cy="355104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11280" y="530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900" spc="-1" strike="noStrike">
                <a:solidFill>
                  <a:srgbClr val="244583"/>
                </a:solidFill>
                <a:latin typeface="Century Schoolbook"/>
              </a:rPr>
              <a:t>МОЛОКО</a:t>
            </a:r>
            <a:endParaRPr b="0" lang="en-US" sz="79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Text Box 9"/>
          <p:cNvSpPr/>
          <p:nvPr/>
        </p:nvSpPr>
        <p:spPr>
          <a:xfrm>
            <a:off x="2477160" y="0"/>
            <a:ext cx="4956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244583"/>
                </a:solidFill>
                <a:latin typeface="Arial"/>
              </a:rPr>
              <a:t>КОРОВА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07:58:08Z</dcterms:created>
  <dc:creator>1</dc:creator>
  <dc:description/>
  <dc:language>en-US</dc:language>
  <cp:lastModifiedBy>Windows User</cp:lastModifiedBy>
  <dcterms:modified xsi:type="dcterms:W3CDTF">2020-09-29T11:09:12Z</dcterms:modified>
  <cp:revision>29</cp:revision>
  <dc:subject/>
  <dc:title>Слайд 1</dc:title>
</cp:coreProperties>
</file>