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2B679-F0FF-459C-AC14-86AE1FE79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D779B-CFBF-4A8B-9749-8A834AB902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4DB-9AF8-4AC3-954D-1433C307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2BF-DEC8-4C5F-973A-8F5230C3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FEB-F072-49BB-BFAB-97F6D365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504-EFFF-4A07-A95E-FF29C07C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EB3-ED55-428C-9CA1-EE1D3380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7BD-9737-4BDC-95D2-3052D79C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9AB-05F6-41D1-B435-CD79931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C79-CD0C-4266-BD07-8D8AD4C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816-8264-4D3F-BC82-57CF46E0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19B-C0DA-409B-9AE5-CF9A491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896-FA51-419F-A937-C6DB75CD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966-2C65-4BC9-8053-CA0BFDC7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208305-70F9-4FC4-BBDC-948A4C8559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54160" y="279360"/>
            <a:ext cx="101930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Урок литературного ч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в 1 кла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182520" y="4565520"/>
            <a:ext cx="2438280" cy="21099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1762200" y="-285840"/>
            <a:ext cx="6143400" cy="1906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397240" y="2279520"/>
            <a:ext cx="678636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В названиях каких предметов классной комнаты есть новые звуки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G:\Картинки\457.gif"/>
          <p:cNvPicPr/>
          <p:nvPr/>
        </p:nvPicPr>
        <p:blipFill>
          <a:blip r:embed="rId1"/>
          <a:stretch/>
        </p:blipFill>
        <p:spPr>
          <a:xfrm>
            <a:off x="0" y="136440"/>
            <a:ext cx="2637000" cy="205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 rot="20634600">
            <a:off x="617040" y="377640"/>
            <a:ext cx="815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Спасибо 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Новых открытий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   </a:t>
            </a: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и новых знани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Admin\Рабочий стол\cвеча\635361206.gif"/>
          <p:cNvPicPr/>
          <p:nvPr/>
        </p:nvPicPr>
        <p:blipFill>
          <a:blip r:embed="rId1"/>
          <a:stretch/>
        </p:blipFill>
        <p:spPr>
          <a:xfrm>
            <a:off x="1611360" y="851040"/>
            <a:ext cx="6923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муха.gif"/>
          <p:cNvPicPr/>
          <p:nvPr/>
        </p:nvPicPr>
        <p:blipFill>
          <a:blip r:embed="rId1"/>
          <a:stretch/>
        </p:blipFill>
        <p:spPr>
          <a:xfrm>
            <a:off x="1682640" y="708120"/>
            <a:ext cx="66438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1768320" y="-285840"/>
            <a:ext cx="8034480" cy="1906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2039760" y="1851120"/>
            <a:ext cx="692964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Звуки [м] ,[м']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Буквы М, 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истратор\Рабочий стол\ux4Ag6P3ff.png"/>
          <p:cNvPicPr/>
          <p:nvPr/>
        </p:nvPicPr>
        <p:blipFill>
          <a:blip r:embed="rId2"/>
          <a:stretch/>
        </p:blipFill>
        <p:spPr>
          <a:xfrm>
            <a:off x="396720" y="4994280"/>
            <a:ext cx="24386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5440" y="1257480"/>
            <a:ext cx="9001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познакомиться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325440" y="1865520"/>
            <a:ext cx="851868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выяснить    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96720" y="3194640"/>
            <a:ext cx="89298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научиться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6" descr=""/>
          <p:cNvPicPr/>
          <p:nvPr/>
        </p:nvPicPr>
        <p:blipFill>
          <a:blip r:embed="rId1"/>
          <a:stretch/>
        </p:blipFill>
        <p:spPr>
          <a:xfrm>
            <a:off x="1773360" y="-285840"/>
            <a:ext cx="9083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39640" y="2543400"/>
            <a:ext cx="9001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Уважай своего товарищ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25440" y="1483200"/>
            <a:ext cx="851868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Умей каждого выслуш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396720" y="2809080"/>
            <a:ext cx="89298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Не согласен – предлаг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6" descr=""/>
          <p:cNvPicPr/>
          <p:nvPr/>
        </p:nvPicPr>
        <p:blipFill>
          <a:blip r:embed="rId1"/>
          <a:stretch/>
        </p:blipFill>
        <p:spPr>
          <a:xfrm>
            <a:off x="317520" y="-285840"/>
            <a:ext cx="118317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396720" y="4994280"/>
            <a:ext cx="2438640" cy="21099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768320" y="-285840"/>
            <a:ext cx="6821640" cy="1906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039760" y="1851120"/>
            <a:ext cx="692964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Предположим, что звуки [м] ,[м'] соглас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182520" y="4565520"/>
            <a:ext cx="2438280" cy="21099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1768320" y="-285840"/>
            <a:ext cx="8412480" cy="1906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540160" y="2279520"/>
            <a:ext cx="61434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ой первый звук в слов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он произноситс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182520" y="4565520"/>
            <a:ext cx="2438280" cy="2109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-285840"/>
            <a:ext cx="9364680" cy="19065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540160" y="1636560"/>
            <a:ext cx="6715080" cy="62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выглядит новая бук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На что она похож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можно её изобразить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30:12Z</dcterms:created>
  <dc:creator/>
  <dc:description/>
  <dc:language>en-US</dc:language>
  <cp:lastModifiedBy>Admin</cp:lastModifiedBy>
  <dcterms:modified xsi:type="dcterms:W3CDTF">2011-10-19T16:13:32Z</dcterms:modified>
  <cp:revision>32</cp:revision>
  <dc:subject/>
  <dc:title>Слайд 1</dc:title>
</cp:coreProperties>
</file>