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E74-9655-491D-9045-9B7F8E44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BC5-6F17-4AC7-8AE1-4B0BE8FB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BC1-EC2A-4394-B1B2-6A9C80B7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927-7C12-4E2A-AABA-36D33B13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F769-A93D-46C9-AA45-A394DC5C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3E75-8B9C-4F53-97EE-55415BA6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4760-9AAE-4AC1-AED3-C6274491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7919-DAC4-4C29-8A21-B486D43F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48DC-663F-4DE1-B7B3-12523226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1317-1787-43CB-A2EB-C5053E02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C20A-8373-4EF3-B7A4-F4E4A040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CC7-2A85-4670-9B5A-D12245F1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DCED-2986-437B-BC4F-95D55F67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556E-2DC9-4D02-92B6-0EED2A5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25BC-47E9-483D-94BD-78760EC7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1F9A-E959-495C-8E5C-EF6FE69F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1DC5-9A97-4995-ACC6-7852AF35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512-5639-4CFC-80C8-AB156F1C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8C5-3D78-47DA-A792-3BC8856B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F3F-EF30-41F5-8E19-C3D838A4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CF0-2B71-459F-B50E-5129753A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F25-D1B7-42F6-AE9A-B129CAA8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267-DB4B-4E26-A00A-C35F34FB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23C-9963-40F8-8E69-FDB06515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8DAF-384B-471E-B953-88F69F9E12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097D-3FF9-4ED5-814C-C714ADDFFA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560" y="4652640"/>
            <a:ext cx="7696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ff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Wingdings 2"/>
                <a:ea typeface="Wingdings 2"/>
              </a:rPr>
              <a:t>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втор работы: учитель английского языка Емец Е.Ю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                                                   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2340000" y="1246320"/>
            <a:ext cx="5886360" cy="34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БОУ СОШ №11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"At the zoo"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1908000" y="-73080"/>
            <a:ext cx="504036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hich animal has got long leg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hich animal has got a trun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hich animal has got a thick mane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hich animal has got big paw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hich animal has got a small bea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hich animal has got a short tai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hich animal has got a long nec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0" y="1582560"/>
            <a:ext cx="2124000" cy="1638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6880320" y="765000"/>
            <a:ext cx="1077840" cy="2016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3"/>
          <a:stretch/>
        </p:blipFill>
        <p:spPr>
          <a:xfrm>
            <a:off x="6953400" y="3363840"/>
            <a:ext cx="1685880" cy="180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4"/>
          <a:stretch/>
        </p:blipFill>
        <p:spPr>
          <a:xfrm>
            <a:off x="290520" y="3371760"/>
            <a:ext cx="16174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-56592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escribe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 any of the animals. But your task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o make one – two mistakes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. Your partner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rrects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 yo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Let’s name animals we can see at the zoo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xercise №.4, on page.6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Read the text to yourselves and say which animals are in the dialogu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0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Let’s read the dialogue aloud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xercise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№.5,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n page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.6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Now look through the text again and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ind</a:t>
            </a: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 the words in the dialogue for th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underlined pronouns</a:t>
            </a: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t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 has got a long neck.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 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are noisy. –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 find them cute.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giraff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5435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nke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012000" y="4581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tand up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6560" y="278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Lets have a rest!!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68706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negative and interrogative forms of the Present Simple Tens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 we use to form these form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examples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short answ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rrog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gative sentence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dialogu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k in pai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99640" y="2997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Ask and answer the questions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191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Guess the riddl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omic Sans MS"/>
              </a:rPr>
              <a:t>The proverb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 rot="513000">
            <a:off x="5638320" y="2328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 rot="20473200">
            <a:off x="1115640" y="229032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 rot="892800">
            <a:off x="2879280" y="48499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5"/>
          <a:stretch/>
        </p:blipFill>
        <p:spPr>
          <a:xfrm rot="21237000">
            <a:off x="3624120" y="222372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6"/>
          <a:stretch/>
        </p:blipFill>
        <p:spPr>
          <a:xfrm>
            <a:off x="5956200" y="4524480"/>
            <a:ext cx="1962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763640" y="1197000"/>
            <a:ext cx="5977080" cy="51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At the zoo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-36000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Now I can…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Now I Know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Write about a wild animal you like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don’t forget to draw or to find 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picture of the anim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WB – стр. 42; SB - упр.10, стр. 6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ANIMAL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1830240" y="1803240"/>
            <a:ext cx="5904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POEM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26560" y="23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on Sunday we go to the Zo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, tomorrow we go to the Zo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giraffe there and a zebra too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ear and a monkey, and a kangaro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867280" y="5164200"/>
            <a:ext cx="2737080" cy="1824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446040" y="189000"/>
            <a:ext cx="1663920" cy="2152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3"/>
          <a:stretch/>
        </p:blipFill>
        <p:spPr>
          <a:xfrm>
            <a:off x="2411280" y="5164200"/>
            <a:ext cx="16844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431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280" y="692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 to the sounds. Which of the animals in the pictures can you hear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 at the pictures. What do you call these animals in Russian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ich sounds are similar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3" descr="images (10)"/>
          <p:cNvPicPr/>
          <p:nvPr/>
        </p:nvPicPr>
        <p:blipFill>
          <a:blip r:embed="rId1"/>
          <a:stretch/>
        </p:blipFill>
        <p:spPr>
          <a:xfrm>
            <a:off x="539640" y="1052640"/>
            <a:ext cx="3456000" cy="279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images (14)"/>
          <p:cNvPicPr/>
          <p:nvPr/>
        </p:nvPicPr>
        <p:blipFill>
          <a:blip r:embed="rId2"/>
          <a:stretch/>
        </p:blipFill>
        <p:spPr>
          <a:xfrm>
            <a:off x="5435640" y="1052640"/>
            <a:ext cx="2736720" cy="2616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images (15)"/>
          <p:cNvPicPr/>
          <p:nvPr/>
        </p:nvPicPr>
        <p:blipFill>
          <a:blip r:embed="rId3"/>
          <a:stretch/>
        </p:blipFill>
        <p:spPr>
          <a:xfrm>
            <a:off x="1908000" y="4554360"/>
            <a:ext cx="2159280" cy="1727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236e942bb1b6400"/>
          <p:cNvPicPr/>
          <p:nvPr/>
        </p:nvPicPr>
        <p:blipFill>
          <a:blip r:embed="rId4"/>
          <a:stretch/>
        </p:blipFill>
        <p:spPr>
          <a:xfrm>
            <a:off x="3635280" y="4005360"/>
            <a:ext cx="188604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images (17)"/>
          <p:cNvPicPr/>
          <p:nvPr/>
        </p:nvPicPr>
        <p:blipFill>
          <a:blip r:embed="rId5"/>
          <a:stretch/>
        </p:blipFill>
        <p:spPr>
          <a:xfrm>
            <a:off x="3851280" y="1268280"/>
            <a:ext cx="1668600" cy="2149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images (16)"/>
          <p:cNvPicPr/>
          <p:nvPr/>
        </p:nvPicPr>
        <p:blipFill>
          <a:blip r:embed="rId6"/>
          <a:stretch/>
        </p:blipFill>
        <p:spPr>
          <a:xfrm>
            <a:off x="6156360" y="4005360"/>
            <a:ext cx="20876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ONI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855793512"/>
          <p:cNvPicPr/>
          <p:nvPr/>
        </p:nvPicPr>
        <p:blipFill>
          <a:blip r:embed="rId1"/>
          <a:stretch/>
        </p:blipFill>
        <p:spPr>
          <a:xfrm>
            <a:off x="539640" y="1916280"/>
            <a:ext cx="2772000" cy="206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187009562 (1)"/>
          <p:cNvPicPr/>
          <p:nvPr/>
        </p:nvPicPr>
        <p:blipFill>
          <a:blip r:embed="rId2"/>
          <a:stretch/>
        </p:blipFill>
        <p:spPr>
          <a:xfrm>
            <a:off x="3419640" y="1916280"/>
            <a:ext cx="2879640" cy="2016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99014459 (1)"/>
          <p:cNvPicPr/>
          <p:nvPr/>
        </p:nvPicPr>
        <p:blipFill>
          <a:blip r:embed="rId3"/>
          <a:stretch/>
        </p:blipFill>
        <p:spPr>
          <a:xfrm>
            <a:off x="6300720" y="177336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283369967 (1)"/>
          <p:cNvPicPr/>
          <p:nvPr/>
        </p:nvPicPr>
        <p:blipFill>
          <a:blip r:embed="rId4"/>
          <a:stretch/>
        </p:blipFill>
        <p:spPr>
          <a:xfrm>
            <a:off x="6156360" y="4221000"/>
            <a:ext cx="2303280" cy="187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331390090"/>
          <p:cNvPicPr/>
          <p:nvPr/>
        </p:nvPicPr>
        <p:blipFill>
          <a:blip r:embed="rId5"/>
          <a:stretch/>
        </p:blipFill>
        <p:spPr>
          <a:xfrm>
            <a:off x="3492360" y="422100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324199592 (1)"/>
          <p:cNvPicPr/>
          <p:nvPr/>
        </p:nvPicPr>
        <p:blipFill>
          <a:blip r:embed="rId6"/>
          <a:stretch/>
        </p:blipFill>
        <p:spPr>
          <a:xfrm>
            <a:off x="684360" y="4221000"/>
            <a:ext cx="280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images (14)"/>
          <p:cNvPicPr/>
          <p:nvPr/>
        </p:nvPicPr>
        <p:blipFill>
          <a:blip r:embed="rId1"/>
          <a:stretch/>
        </p:blipFill>
        <p:spPr>
          <a:xfrm>
            <a:off x="0" y="0"/>
            <a:ext cx="4319640" cy="3516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236e942bb1b6400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422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1277890025_3d-model-slon"/>
          <p:cNvPicPr/>
          <p:nvPr/>
        </p:nvPicPr>
        <p:blipFill>
          <a:blip r:embed="rId3"/>
          <a:stretch/>
        </p:blipFill>
        <p:spPr>
          <a:xfrm>
            <a:off x="3492360" y="549360"/>
            <a:ext cx="3102120" cy="2674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images (19)"/>
          <p:cNvPicPr/>
          <p:nvPr/>
        </p:nvPicPr>
        <p:blipFill>
          <a:blip r:embed="rId4"/>
          <a:stretch/>
        </p:blipFill>
        <p:spPr>
          <a:xfrm>
            <a:off x="0" y="4797360"/>
            <a:ext cx="1905120" cy="194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054"/>
          <p:cNvPicPr/>
          <p:nvPr/>
        </p:nvPicPr>
        <p:blipFill>
          <a:blip r:embed="rId5"/>
          <a:stretch/>
        </p:blipFill>
        <p:spPr>
          <a:xfrm>
            <a:off x="2268360" y="4005360"/>
            <a:ext cx="3787920" cy="2324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6"/>
          <p:cNvSpPr/>
          <p:nvPr/>
        </p:nvSpPr>
        <p:spPr>
          <a:xfrm>
            <a:off x="5940360" y="23414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S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651640" y="3284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708360" y="623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270036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395280" y="4292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7380360" y="18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7740720" y="242100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1187280" y="476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2556000" y="198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28"/>
          <p:cNvSpPr/>
          <p:nvPr/>
        </p:nvSpPr>
        <p:spPr>
          <a:xfrm flipH="1">
            <a:off x="241128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9"/>
          <p:cNvSpPr/>
          <p:nvPr/>
        </p:nvSpPr>
        <p:spPr>
          <a:xfrm>
            <a:off x="1835280" y="692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30"/>
          <p:cNvSpPr/>
          <p:nvPr/>
        </p:nvSpPr>
        <p:spPr>
          <a:xfrm flipH="1" flipV="1">
            <a:off x="5651280" y="2492280"/>
            <a:ext cx="4330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31"/>
          <p:cNvSpPr/>
          <p:nvPr/>
        </p:nvSpPr>
        <p:spPr>
          <a:xfrm flipH="1" flipV="1">
            <a:off x="5940360" y="206064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32"/>
          <p:cNvSpPr/>
          <p:nvPr/>
        </p:nvSpPr>
        <p:spPr>
          <a:xfrm flipV="1">
            <a:off x="8244000" y="2204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33"/>
          <p:cNvSpPr/>
          <p:nvPr/>
        </p:nvSpPr>
        <p:spPr>
          <a:xfrm flipH="1">
            <a:off x="7956720" y="333360"/>
            <a:ext cx="7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35"/>
          <p:cNvSpPr/>
          <p:nvPr/>
        </p:nvSpPr>
        <p:spPr>
          <a:xfrm>
            <a:off x="320364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36"/>
          <p:cNvSpPr/>
          <p:nvPr/>
        </p:nvSpPr>
        <p:spPr>
          <a:xfrm flipV="1">
            <a:off x="4284720" y="6093000"/>
            <a:ext cx="1079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2195640" y="5661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38"/>
          <p:cNvSpPr/>
          <p:nvPr/>
        </p:nvSpPr>
        <p:spPr>
          <a:xfrm flipV="1">
            <a:off x="2627280" y="55162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0" descr="pheasant_male_300_tcm9-142357_v2"/>
          <p:cNvPicPr/>
          <p:nvPr/>
        </p:nvPicPr>
        <p:blipFill>
          <a:blip r:embed="rId6"/>
          <a:stretch/>
        </p:blipFill>
        <p:spPr>
          <a:xfrm>
            <a:off x="5940360" y="4221000"/>
            <a:ext cx="2627280" cy="2302200"/>
          </a:xfrm>
          <a:prstGeom prst="rect">
            <a:avLst/>
          </a:prstGeom>
          <a:ln w="0">
            <a:noFill/>
          </a:ln>
        </p:spPr>
      </p:pic>
      <p:sp>
        <p:nvSpPr>
          <p:cNvPr id="202" name="Line 43"/>
          <p:cNvSpPr/>
          <p:nvPr/>
        </p:nvSpPr>
        <p:spPr>
          <a:xfrm>
            <a:off x="61128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5940360" y="4149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ATH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6877080" y="44370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6516720" y="602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N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48"/>
          <p:cNvSpPr/>
          <p:nvPr/>
        </p:nvSpPr>
        <p:spPr>
          <a:xfrm flipV="1">
            <a:off x="7308720" y="573372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8064360" y="4365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8459640" y="4653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-431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Match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names of the animal`s body</a:t>
            </a: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 with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names of the human`s body</a:t>
            </a: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Use new words and adjectives to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sk</a:t>
            </a: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 about the animal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4:49:33Z</dcterms:created>
  <dc:creator>витя</dc:creator>
  <dc:description/>
  <dc:language>en-US</dc:language>
  <cp:lastModifiedBy>User</cp:lastModifiedBy>
  <dcterms:modified xsi:type="dcterms:W3CDTF">2017-12-20T10:58:47Z</dcterms:modified>
  <cp:revision>30</cp:revision>
  <dc:subject/>
  <dc:title>Слайд 1</dc:title>
</cp:coreProperties>
</file>