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4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marL="216000"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6D364-181D-42B5-A9DB-62F1D1188E9D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5151A-ED9C-4637-B6CB-5981AFA9D1BE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52B7E-8718-435E-902E-1CE3EF0CF01F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7DAAF-F7E2-4CBA-8B86-BDD67D3C05B1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D0707-E1DB-4545-9566-B1ECD112ADFF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572E3-81C1-4482-92E2-529E2C178735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BF1FB-B6A0-4595-950A-29F796F812F3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456F0-AB1C-4F36-8EFC-EFFB385E8D10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AAB9F-F192-4040-9E6E-49A5D3D23E87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6E296-B998-49A1-BC16-1E4D49902227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33F70-E2D9-484C-9AA0-25CCFFD0F33F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CE8CC-375A-4156-B51E-27A2E63277E3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855F3-B118-49E0-8AB6-A6BC8EF9FE3B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A09AA-04AE-40A2-B9F5-581663BA789E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A4099-37B3-46D7-A757-6B9E84EF5A65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2B98D-59F7-4346-801F-B73B9BC3862F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75D31-3F97-440E-AA2D-D4E9CA5FF9C0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274D9-4E02-41CF-8B16-EEA2FADE911B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ADB7F-AEEF-4A98-9480-DD58712D9D29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CE9F6-9B14-4F78-A5C9-2CE7C26FAE04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0F687-FE99-4BC7-87D8-CE5190CE7027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25CEC-8842-4DA9-A69C-DB9899ED46F6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4A60D-CA54-435C-84C5-0B587AC0609D}" type="slidenum">
              <a:rPr b="1" lang="ru-RU" sz="14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46E0-DDBC-44C1-8815-52EF3B9A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68C-A289-4023-BFC8-3438382A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678-B7B0-43F8-BAE4-A96AF356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D6E-A914-475B-844A-46B14D24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DCE1-EE3E-46C9-AD74-6A73A8F1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8AEA-3351-40A5-89E9-6FAB4F47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E602-5D1E-45AB-8CD8-445081DA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CA01-0E64-44CB-90D2-48560853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EB5F-91BC-43DE-8E00-0E67523C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82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EFB2-6108-482F-99AD-115B660A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C3F1-FBB4-40B4-BE85-4DF06872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78D8-1CE3-40BC-9377-E0D61C22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A2A3-9520-45C8-B227-461C4627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530D-9401-48D6-9BB3-997CA162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6E2A-D3C2-422B-BE19-818A8344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3083-070C-48DA-B519-231B95FC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35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6760" y="197928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000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35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6760" y="4422960"/>
            <a:ext cx="295524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F862-DCEB-49E0-AB83-471D02F7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579-111A-4ABC-A1AC-A9D4F90C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495-87A9-40C6-9E5D-ECD779EC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A35-B684-4723-AF96-6B204293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60000" y="360360"/>
            <a:ext cx="9358200" cy="41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C1A-6CC2-42C4-B4CD-FB35E654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092-9DB0-4C2F-8512-1B3B2737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3400" y="442296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0DC8-159F-4CB8-ADA7-0647FD2D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979280"/>
            <a:ext cx="44791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0000" y="4422960"/>
            <a:ext cx="9178920" cy="223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E87F-FE25-46F3-B882-C344F9CD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60000" y="1979280"/>
            <a:ext cx="917892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743040" indent="-28584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1143000" indent="-22860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1600200" indent="-22860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2057400" indent="-22860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2057400" indent="-22860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2057400" indent="-22860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559640" y="684000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800" spc="-1" strike="noStrike">
                <a:solidFill>
                  <a:srgbClr val="ffffff"/>
                </a:solidFill>
                <a:latin typeface="Source Sans Pro Black"/>
              </a:defRPr>
            </a:lvl1pPr>
          </a:lstStyle>
          <a:p>
            <a:pPr marL="21600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A4DA7C-7E73-484F-B815-74D37B525BA6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3149640"/>
            <a:ext cx="9720360" cy="126036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3330720"/>
            <a:ext cx="935820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9280" y="4680000"/>
            <a:ext cx="917892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marL="226080" indent="-226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490320" indent="-18864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754200" indent="-15084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1055880" indent="-15084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1357560" indent="-15084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1357560" indent="-15084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1357560" indent="-15084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559640" y="6840000"/>
            <a:ext cx="233856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79280" y="6840000"/>
            <a:ext cx="32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78920" y="6840000"/>
            <a:ext cx="5382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800" spc="-1" strike="noStrike">
                <a:solidFill>
                  <a:srgbClr val="e74c3c"/>
                </a:solidFill>
                <a:latin typeface="Source Sans Pro Black"/>
              </a:defRPr>
            </a:lvl1pPr>
          </a:lstStyle>
          <a:p>
            <a:pPr marL="216000"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DD30B3-90B5-4B9B-9249-3F89BEA64215}" type="slidenum">
              <a:rPr b="1" lang="ru-RU" sz="1800" spc="-1" strike="noStrike">
                <a:solidFill>
                  <a:srgbClr val="e74c3c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video" Target="" TargetMode="External"/><Relationship Id="rId3" Type="http://schemas.microsoft.com/office/2007/relationships/media" Target="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video" Target="" TargetMode="External"/><Relationship Id="rId3" Type="http://schemas.microsoft.com/office/2007/relationships/media" Target="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video" Target="" TargetMode="External"/><Relationship Id="rId3" Type="http://schemas.microsoft.com/office/2007/relationships/media" Target="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0360" y="3330360"/>
            <a:ext cx="9360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Новосибирск — город трудовой доблести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176720" y="4966920"/>
            <a:ext cx="446400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ource Sans Pro Light"/>
              </a:rPr>
              <a:t> </a:t>
            </a:r>
            <a:endParaRPr b="1" lang="en-US" sz="22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79640" y="1944720"/>
            <a:ext cx="7991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0" y="431640"/>
            <a:ext cx="10080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480000" y="6027840"/>
            <a:ext cx="35276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0B65189-987C-4D7F-AAC7-6C0FEFEEDD1A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Первый мост через Обь, был спроектирован за 5 дней, а построен за 25 дней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16000" y="1584360"/>
            <a:ext cx="909612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8CE62D2-4008-4497-A52A-A71A2A60A2EF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Новосибирск принимал раненых со всех уголков страны. Всего в Новосибирске было открыто 65 госпиталей на 70 тысяч человек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152360" y="1614600"/>
            <a:ext cx="7632720" cy="50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8CC9F86-4E5D-4C22-B624-68C981542102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Завод имени Чкалова выпускал 33 боевых самолёта каждый день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503280" y="1584360"/>
            <a:ext cx="885672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0395194-EB61-45CB-B61A-056BEEFA1EC8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Паровоз Н. Лунина занимает почётное место над путепроводом Димитровского моста в Новосибирске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440000" y="1495440"/>
            <a:ext cx="3527280" cy="5200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5543640" y="2303640"/>
            <a:ext cx="37432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колай Лунин лично доставил в Москву эшелон со 100 вагонами угля, общим весом 5 тысяч тонн. Был награждён званием Героя Социалистического Труда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3A58327-9E1B-4D7F-B579-830ADB6A3956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0360" y="10800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На новосибирских заводах трудились женщины, старики, дети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224000" y="1584360"/>
            <a:ext cx="74883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C0DC3F6-08F7-442B-9E19-54D6825323D7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360" y="287280"/>
            <a:ext cx="93600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За два года колхозы и совхозы Новосибирской области сдали государству урожай, которого достаточно для годового обеспечения пайком 100 дивизий. 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152360" y="1563840"/>
            <a:ext cx="7861320" cy="52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E20E287-BE3F-445E-8C0F-0F26A16A825E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Завод по производству боеприпосов «Искра»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431640" y="2303640"/>
            <a:ext cx="5592960" cy="36716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6264360" y="2735280"/>
            <a:ext cx="3024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того, чтобы обеспечить фронт необходимым количеством боеприпасов, люди работали по 12-14 часов в стуки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6DAA758-C9C9-4DBA-8A34-458DA0F7014F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0360" y="107640"/>
            <a:ext cx="9360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В здании театра Оперы и балета размещались эвакуированные экспонаты музеев. Театр стал хранилищем сокровищ мирового и национального искусства. 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936720" y="1584360"/>
            <a:ext cx="7823160" cy="51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5A8EF91-C22E-4614-BB47-1253552CB34D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Первый Парад Победы состоялся 24 июня 1945 года на Красной площади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792000" y="1584360"/>
            <a:ext cx="8163000" cy="424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936720" y="5975280"/>
            <a:ext cx="820728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тина Михаила Хмелько «Триумф победившей Родины». В центре картины солдат, бросивший к подножью трибун штандарт рейха со свастик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215280" y="676764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CE986C0-D106-4FD3-902D-BFEA1E2BD42E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360" y="144000"/>
            <a:ext cx="936000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Традиционно День Победы отмечается 9 мая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71280" y="1511280"/>
            <a:ext cx="1003788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8C41897-3CFA-487A-8040-8689CB85E620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000" y="124920"/>
            <a:ext cx="87836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75-летие Великой Победы!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1511280"/>
            <a:ext cx="10142640" cy="54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6471C96-372C-4C4C-8352-FF60F479AAC8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2 июля 2020 года Новосибирску присвоено почётное звание «Город трудовой доблести»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669960" y="1692360"/>
            <a:ext cx="890568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2D1A657-BD6A-4A48-9AB7-288FCB210C6C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60360" y="70920"/>
            <a:ext cx="936000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Настала тишина твоя, Победа!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003320" y="1511280"/>
            <a:ext cx="3676680" cy="5151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5184720" y="2232000"/>
            <a:ext cx="4103640" cy="31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тина Александра Лактионова «Письмо с фронта». Сюжет этой картины художнику подсказала сама жизнь - однажды он встретил в городе раненого солдата, который искал адрес, по которому сослуживец попросил его доставить письмо. Лактионов помог солдату и вместе с ним стал свидетелем событий, лёгших в основу полот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3E44071-51F7-4E36-BFA6-3718E17C0957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144360"/>
            <a:ext cx="10086840" cy="712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B2B617F-AF21-4268-AEE0-221BE8E5CD1A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7280" y="360000"/>
            <a:ext cx="93600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22 июня 1941 года ровно в 4 часа утра Фашистская Германия напала на Союз Советских Социалистических Республик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47640" y="1511280"/>
            <a:ext cx="3564000" cy="5259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5184720" y="2379600"/>
            <a:ext cx="4680000" cy="40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т самый длинный день в г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его безоблачной погод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м выдал общую бе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всех, на все четыре г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а такой вдавила сле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стольких наземь положил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двадцать лет и тридцать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ым не верится, что жив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к мертвым выправив билет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ё едет кто-нибудь из близк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ремя добавляет в спи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ще кого-то, кого-то не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. Симон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185400" y="6810480"/>
            <a:ext cx="606240" cy="60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1AF1285-8A96-4F52-BB83-62D8182BDE80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16000" y="1584360"/>
            <a:ext cx="6048360" cy="4921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6624720" y="2592360"/>
            <a:ext cx="3095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тина Валентина Папко «Даже не снилось. 22 июня 1941 г.». Художник показал войну, не изображая батальных сцен, смерти, крови, взрывов.  Он поставил счастье на пути надвигающегося гор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6489071-52EE-4DEB-AA2E-150007E086CC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60360" y="1511280"/>
            <a:ext cx="5111640" cy="5262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5904000" y="2376360"/>
            <a:ext cx="3743280" cy="40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тина Ильи Овчаренко «Лето 41 года». Художник стремился показать бесчеловечность войны, на примере простой семьи, когда в одночасье она безжалостно ворвалась в привычный жизненный уклад людей, принося много горя и потерь. Фигура солдата, покидающего родной дом, отражается в лопнувшем оконном стекле, символизируя уход солдата в вечнос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3F62B59-1B04-4D10-9671-D7D24B534B49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24000" y="-36360"/>
            <a:ext cx="93596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Минута молчания 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3498BBC-9220-4F22-90E2-70EBE85017AD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26 июня 1941 года первые эшелоны начали погрузку и отправку на фронт солдат. 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92000" y="1514520"/>
            <a:ext cx="8562960" cy="5254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354960" y="6796080"/>
            <a:ext cx="648000" cy="5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CF753E5-F8F9-4C9B-B278-B187DFFB29C2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3 июля 1941 года стали пребывать первые эшелоны с эвакуированными.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863640" y="1584360"/>
            <a:ext cx="827388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179280" y="6840360"/>
            <a:ext cx="538200" cy="5382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211A175-CF02-481E-A015-DB80028476C9}" type="slidenum">
              <a:rPr b="1" lang="ru-RU" sz="1800" spc="-1" strike="noStrike">
                <a:solidFill>
                  <a:srgbClr val="ffffff"/>
                </a:solidFill>
                <a:latin typeface="Source Sans Pro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60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</a:rPr>
              <a:t>Всё для фронта, всё для Победы!</a:t>
            </a:r>
            <a:endParaRPr b="1" lang="en-US" sz="2400" spc="-1" strike="noStrike">
              <a:solidFill>
                <a:srgbClr val="ffffff"/>
              </a:solidFill>
              <a:latin typeface="Source Sans Pro Black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376360" y="1511280"/>
            <a:ext cx="5975640" cy="5321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13T09:57:23Z</dcterms:created>
  <dc:creator/>
  <dc:description/>
  <dc:language>en-US</dc:language>
  <cp:lastModifiedBy>User</cp:lastModifiedBy>
  <dcterms:modified xsi:type="dcterms:W3CDTF">2020-08-31T12:50:18Z</dcterms:modified>
  <cp:revision>4</cp:revision>
  <dc:subject/>
  <dc:title>Alizarin</dc:title>
</cp:coreProperties>
</file>