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587240" y="1006560"/>
            <a:ext cx="4583160" cy="34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39424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1587600" y="1006560"/>
            <a:ext cx="459576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1185480" y="4788000"/>
            <a:ext cx="539604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5950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595000" cy="2513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0880" y="4853880"/>
            <a:ext cx="8595000" cy="2513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5950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4000" cy="2513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5120" y="2101680"/>
            <a:ext cx="4194000" cy="2513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0880" y="4853880"/>
            <a:ext cx="4194000" cy="2513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5120" y="4853880"/>
            <a:ext cx="4194000" cy="2513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5950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2767320" cy="2513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6800" y="2101680"/>
            <a:ext cx="2767320" cy="2513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3080" y="2101680"/>
            <a:ext cx="2767320" cy="2513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0880" y="4853880"/>
            <a:ext cx="2767320" cy="2513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6800" y="4853880"/>
            <a:ext cx="2767320" cy="2513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3080" y="4853880"/>
            <a:ext cx="2767320" cy="2513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5950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0880" y="2101680"/>
            <a:ext cx="8595000" cy="52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5950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595000" cy="52689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5950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4000" cy="52689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5120" y="2101680"/>
            <a:ext cx="4194000" cy="52689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5950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0880" y="620640"/>
            <a:ext cx="859500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5950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4000" cy="2513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5120" y="2101680"/>
            <a:ext cx="4194000" cy="52689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0880" y="4853880"/>
            <a:ext cx="4194000" cy="2513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5950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4000" cy="52689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5120" y="2101680"/>
            <a:ext cx="4194000" cy="2513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5120" y="4853880"/>
            <a:ext cx="4194000" cy="2513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5950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4000" cy="2513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5120" y="2101680"/>
            <a:ext cx="4194000" cy="2513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0880" y="4853880"/>
            <a:ext cx="8595000" cy="2513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5950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595000" cy="52689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741240" y="665280"/>
            <a:ext cx="8605800" cy="66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76360" y="179280"/>
            <a:ext cx="8767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68360" y="2484360"/>
            <a:ext cx="887580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Способствовать позитивному восприятию себя и  окружающи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2521080" y="993600"/>
            <a:ext cx="503856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рок №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ема. «Узнать себя и других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254160" y="779400"/>
            <a:ext cx="471456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леви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129280" y="179280"/>
            <a:ext cx="4051080" cy="31719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111240" y="3208320"/>
            <a:ext cx="68580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ижение Ролевых Игр (ДРИ), Ролевое движение, ролевики  — неформальная общность людей, играющих в различные ролевые игры, в первую очередь ролевые игры живого действия. Родственными ролевому являются движения исторических реконструкторов и толкиенистов. Ролевое движение выделяют и как хобби, и как субкультуру, для которой характерен свой жаргон, своя музыка (см. менестрели), своя литература (в основном фэнтези) и другие характерные элементы единой культур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82640" y="620640"/>
            <a:ext cx="76550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4360" cy="5107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754200" y="1994040"/>
            <a:ext cx="4179600" cy="51433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5524560" y="1998720"/>
            <a:ext cx="4194000" cy="52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343080" indent="-34164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о́ты — представители молодёжной субкультуры, зародившейся в конце 70-х годов XX-го века на волне пост-панка. Готическая субкультура достаточно разнообразна и неоднородна, однако для неё в той или иной степени характерны общие черты: специфический мрачный имидж, а также интерес к готической музыке, хоррор-литературе и фильмам, декадансу и мистике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79280" y="-206640"/>
            <a:ext cx="856908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эпер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184360" y="2555640"/>
            <a:ext cx="4164120" cy="4825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6778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нешний вид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77880" indent="-674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сят широкую, на несколько размеров больше одежду. Спортив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77880" indent="-674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юбимый вид спорта - баскетбо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77880" indent="-674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 украшений носят значки и серьги. Волосы коротко стриже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216000" y="2562120"/>
            <a:ext cx="464508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и множества других субкультурных форм, основанных на музыкальных стилях, в России широкий размах получил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эп (англ. rap - легкий удар, стук)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нера исполнения ("чтение"), внешний вид исполнителей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х действия идут в рэпе от уличной жизни подростков в негритянских кварталах Амери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287280" y="1258920"/>
            <a:ext cx="9506160" cy="11523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8920" y="242640"/>
            <a:ext cx="860724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ключени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По теории американского психолог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Эрика  Берн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существуют следующие жизненные позиции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. Я хороший — ты хороший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2. Я хороший — ты плохой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3. Я плохой — ты хороший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4. Я плохой- ты плохо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25520" y="4427280"/>
            <a:ext cx="7726320" cy="1638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674640" indent="-674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и мир, мир и я -одно цело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74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нятие себя - принят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аког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74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нообразного и прекрасног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ира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0360" y="720720"/>
            <a:ext cx="856764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 КРАСОТЕ ЧЕЛОВЕЧЕСКИХ ЛИ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36360" y="1976040"/>
            <a:ext cx="8558280" cy="49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Rounded MT Bold"/>
              </a:rPr>
              <a:t>Есть лица,подобные пышным портала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Rounded MT Bold"/>
              </a:rPr>
              <a:t>Где всюду великое чудится в мал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Rounded MT Bold"/>
              </a:rPr>
              <a:t>Иные холодные, мертвые лиц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Rounded MT Bold"/>
              </a:rPr>
              <a:t>Закрыты решетками, словно темниц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Rounded MT Bold"/>
              </a:rPr>
              <a:t>Другие — как башни, в которых дав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Rounded MT Bold"/>
              </a:rPr>
              <a:t>Никто не живет и не смотрит в ок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Rounded MT Bold"/>
              </a:rPr>
              <a:t>Но малую хижинку знал я когда-то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Rounded MT Bold"/>
              </a:rPr>
              <a:t>Была неказиста она, не богат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Rounded MT Bold"/>
              </a:rPr>
              <a:t>Зато из окошка ее на ме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Rounded MT Bold"/>
              </a:rPr>
              <a:t>Струилось дыханье весеннего дн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Rounded MT Bold"/>
              </a:rPr>
              <a:t>Поистине мир и велик и чудесен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Rounded MT Bold"/>
              </a:rPr>
              <a:t>Есть лица — подобья ликующих песе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Rounded MT Bold"/>
              </a:rPr>
              <a:t>Из этих, как солнце, сияющих но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Rounded MT Bold"/>
              </a:rPr>
              <a:t>Составлена песня небесных высо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Rounded MT Bold"/>
              </a:rPr>
              <a:t>Николай Заболоцк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0880" y="664920"/>
            <a:ext cx="859644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99640" y="2519280"/>
            <a:ext cx="807876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помнить! Какие бывают жизненные установки поведения люд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Стараться следовать установки №1 «Я хороший-ты хороший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741240" y="620640"/>
            <a:ext cx="860580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спользованные сторонние наработк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741240" y="620640"/>
            <a:ext cx="8605800" cy="67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асть картинок была взята с сай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http://ru.wikipedia.org/wiki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втор фотографии Ролевик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Andrew Butk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597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дачи уро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59788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39840" indent="-339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учающ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оставление своего психологического портре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вающ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отивация на изучение курса «Имиджеология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спитывающ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учиться принимать людей такими, какие они е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9360" y="922320"/>
            <a:ext cx="70009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Я хорош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ты хороший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7160" y="2842920"/>
            <a:ext cx="7603920" cy="2436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20840" indent="-316080">
              <a:lnSpc>
                <a:spcPct val="8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то ищет друзей, достоин того, чтобы их найт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-316080">
              <a:lnSpc>
                <a:spcPct val="8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 кого нет друзей, тот никогда их не искал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19360" indent="0">
              <a:lnSpc>
                <a:spcPct val="85000"/>
              </a:lnSpc>
              <a:spcAft>
                <a:spcPts val="1137"/>
              </a:spcAft>
              <a:buNone/>
              <a:tabLst>
                <a:tab algn="l" pos="0"/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Г. Э. Лессин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5480" y="279000"/>
            <a:ext cx="221472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ао Цзы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«Знающий других – благоразумен, побеждающий других – силен, знающий себя – всемогущий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2494080"/>
            <a:ext cx="3214800" cy="2714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ревнекитайский философ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-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еков до н. э., которому приписывается авторство классического даосского философского трактата «Дао Дэ Цзин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" descr="C:\Users\admin\Desktop\mzl.tupahffj.png"/>
          <p:cNvPicPr/>
          <p:nvPr/>
        </p:nvPicPr>
        <p:blipFill>
          <a:blip r:embed="rId1"/>
          <a:stretch/>
        </p:blipFill>
        <p:spPr>
          <a:xfrm>
            <a:off x="3941640" y="351000"/>
            <a:ext cx="563580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11000" y="626760"/>
            <a:ext cx="773748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нтуи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1360" y="1279440"/>
            <a:ext cx="3357720" cy="5786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674640" indent="-674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особность чувствовать уже имеющиеся логические цепочки связанной информации, касающиеся нужного вопроса, и таким образом моментально находить ответ на любой вопро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0" y="1279440"/>
            <a:ext cx="5951520" cy="55609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-179280"/>
            <a:ext cx="10080720" cy="7740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0880" y="664920"/>
            <a:ext cx="859644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люч к тест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59644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Отношение к себ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Отношение друзей ко мн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Отношение к работ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Отношение к завершению жизненного цикл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Отношение к семь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. Отношение к любв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64920"/>
            <a:ext cx="860580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и жизненные цен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6277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674640" indent="-674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Здоровь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74640" indent="-674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Крас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74640" indent="-674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Семь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74640" indent="-674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Карье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74640" indent="-674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Друзь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74640" indent="-674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. Любов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74640" indent="-674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7. Деньг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74640" indent="-674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8. 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74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74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3600360" y="2046240"/>
            <a:ext cx="1679760" cy="1540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5280120" y="2046240"/>
            <a:ext cx="1681200" cy="1540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6959520" y="2046240"/>
            <a:ext cx="1679760" cy="1540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4"/>
          <a:stretch/>
        </p:blipFill>
        <p:spPr>
          <a:xfrm>
            <a:off x="3600360" y="3587760"/>
            <a:ext cx="1679760" cy="1627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5"/>
          <a:stretch/>
        </p:blipFill>
        <p:spPr>
          <a:xfrm>
            <a:off x="6959520" y="5213520"/>
            <a:ext cx="1679760" cy="1626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6"/>
          <a:stretch/>
        </p:blipFill>
        <p:spPr>
          <a:xfrm>
            <a:off x="6959520" y="3587760"/>
            <a:ext cx="1679760" cy="1627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7"/>
          <a:stretch/>
        </p:blipFill>
        <p:spPr>
          <a:xfrm>
            <a:off x="3600360" y="5213520"/>
            <a:ext cx="1679760" cy="1626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"/>
          <p:cNvPicPr/>
          <p:nvPr/>
        </p:nvPicPr>
        <p:blipFill>
          <a:blip r:embed="rId8"/>
          <a:stretch/>
        </p:blipFill>
        <p:spPr>
          <a:xfrm>
            <a:off x="5280120" y="5213520"/>
            <a:ext cx="1681200" cy="16268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5111640" y="1708200"/>
            <a:ext cx="4308480" cy="51465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"/>
          <p:cNvSpPr/>
          <p:nvPr/>
        </p:nvSpPr>
        <p:spPr>
          <a:xfrm>
            <a:off x="741240" y="665280"/>
            <a:ext cx="8605800" cy="66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96880" y="620640"/>
            <a:ext cx="55004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убкульту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53840" y="1850760"/>
            <a:ext cx="421452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бкульту́ра (подкульту́ра, лат. sub — под, + культура) в социологии и культурологии — часть культуры общества, отличающаяся от преобладающей, а также социальные группы носителей этой культуры. Субкультура может отличаться от доминирующей культуры собственной системой ценностей, языком, манерой поведения, одеждой и другими аспект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9:17:32Z</dcterms:created>
  <dc:creator/>
  <dc:description/>
  <dc:language>en-US</dc:language>
  <cp:lastModifiedBy>admin</cp:lastModifiedBy>
  <dcterms:modified xsi:type="dcterms:W3CDTF">2018-02-15T13:28:52Z</dcterms:modified>
  <cp:revision>36</cp:revision>
  <dc:subject/>
  <dc:title>Солнечное сплетение</dc:title>
</cp:coreProperties>
</file>