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3405-04FA-44D6-8151-AE3AC626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4C9-9B62-4F8D-8EAC-D5E36D9E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7714-2FB2-48CD-A3FF-7EE88B43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02E-DD4E-4E09-ADAF-082E0D93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D5C-F46A-499C-AC62-8BE3D00A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6A9-5912-4E77-B5A7-CF758ACC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919F-E8EB-47A5-8DAC-50AB0B9D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AF2-EE05-4AA8-937D-52E7E964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949-3AC9-40B9-AB2A-1C5E4E13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417-737F-4B61-8248-736D0105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C57-11F8-4C4D-80B0-A4CA2E91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A57-C9E0-4A4B-8AEB-70308661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F7BC-0C6C-4B0D-9820-9A8FEE150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4000" y="4046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Живи в веках и славься край родимый, Аксуб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0" t="0" r="1784" b="0"/>
          <a:stretch/>
        </p:blipFill>
        <p:spPr>
          <a:xfrm>
            <a:off x="2432160" y="1614600"/>
            <a:ext cx="39402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40920" y="2276280"/>
            <a:ext cx="432108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Учитель физиче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культуры высшей квалификационной категории МБО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«Староильдеряков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СОШ» Аксубаев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муниципального района Республики Татарс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icture"/>
          <p:cNvPicPr/>
          <p:nvPr/>
        </p:nvPicPr>
        <p:blipFill>
          <a:blip r:embed="rId2"/>
          <a:stretch/>
        </p:blipFill>
        <p:spPr>
          <a:xfrm>
            <a:off x="5003640" y="907920"/>
            <a:ext cx="3600720" cy="51134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64" name="Rectangle 4"/>
          <p:cNvSpPr/>
          <p:nvPr/>
        </p:nvSpPr>
        <p:spPr>
          <a:xfrm>
            <a:off x="179280" y="28440"/>
            <a:ext cx="89647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Альметкин Владимир Василь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ИМЦ\Desktop\ГЛВ\DSC04349.JPG"/>
          <p:cNvPicPr/>
          <p:nvPr/>
        </p:nvPicPr>
        <p:blipFill>
          <a:blip r:embed="rId2"/>
          <a:stretch/>
        </p:blipFill>
        <p:spPr>
          <a:xfrm>
            <a:off x="971640" y="1349280"/>
            <a:ext cx="7272360" cy="54547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108000" y="2844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Наши земляки достойны нести огонь Универсиады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332000" y="0"/>
            <a:ext cx="657864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301680" y="1052640"/>
            <a:ext cx="8591400" cy="5545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Село Старое Ильдеряко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УЯВ в честь 300-летия дерев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658800" y="944640"/>
            <a:ext cx="772956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4654440" y="1197000"/>
            <a:ext cx="3662640" cy="5400720"/>
          </a:xfrm>
          <a:prstGeom prst="rect">
            <a:avLst/>
          </a:prstGeom>
          <a:ln w="15840">
            <a:solidFill>
              <a:srgbClr val="333399"/>
            </a:solidFill>
            <a:miter/>
          </a:ln>
        </p:spPr>
      </p:pic>
      <p:sp>
        <p:nvSpPr>
          <p:cNvPr id="50" name="Text Box 3"/>
          <p:cNvSpPr/>
          <p:nvPr/>
        </p:nvSpPr>
        <p:spPr>
          <a:xfrm>
            <a:off x="539640" y="560232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d2d8a"/>
                </a:solidFill>
                <a:latin typeface="Arial"/>
              </a:rPr>
              <a:t>Председатель колхоза имени Красных героев, первого колхоза- миллионера в рай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Альметкин Дмитрий Никола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Тимирясов Виталий Гайнул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79280" y="537048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d8a"/>
                </a:solidFill>
                <a:latin typeface="Arial"/>
              </a:rPr>
              <a:t>Ректор Института экономики, управления и права. Доктор экономических наук, профессор. Академик Международной кадровой академии (Киев), Академии менеджмента и рынка (Москва), Академии гуманитарных наук (Санкт-Петербург), Международной гуманитарной академии «Евраз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1368360" y="1125360"/>
            <a:ext cx="6156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http://www.aksubayevo.ru/images/stories/images/%D0%92%D0%B8%D1%82%D0%B0%D0%BB%D0%B8%D0%B9%20%D1%84%D0%BE%D1%82%D0%BE%2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71280" y="0"/>
            <a:ext cx="3924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Школьный теа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http://www.aksubayevo.ru/images/stories/images/%D0%92%D0%B8%D1%82%D0%BF%D0%BB%D0%B8%D0%B9%20%D1%84%D0%BE%D1%82%D0%BE%201.JPG"/>
          <p:cNvPicPr/>
          <p:nvPr/>
        </p:nvPicPr>
        <p:blipFill>
          <a:blip r:embed="rId2"/>
          <a:stretch/>
        </p:blipFill>
        <p:spPr>
          <a:xfrm>
            <a:off x="4586400" y="260280"/>
            <a:ext cx="4017960" cy="5977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88748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50920" y="260280"/>
            <a:ext cx="388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Студенческие г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Виталия Тимиряс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http://www.aksubayevo.ru/images/stories/images/%D0%92%D0%B8%D1%82%D0%B0%D0%BB%D0%B8%D0%B9%20%D1%84%D0%BE%D1%82%D0%BE%202.JPG"/>
          <p:cNvPicPr/>
          <p:nvPr/>
        </p:nvPicPr>
        <p:blipFill>
          <a:blip r:embed="rId2"/>
          <a:stretch/>
        </p:blipFill>
        <p:spPr>
          <a:xfrm>
            <a:off x="1154160" y="1413000"/>
            <a:ext cx="6946920" cy="4653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Виталий со своим другом Юр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0T11:53:59Z</dcterms:created>
  <dc:creator>Gorbunova</dc:creator>
  <dc:description/>
  <dc:language>en-US</dc:language>
  <cp:lastModifiedBy>Gorbunova</cp:lastModifiedBy>
  <dcterms:modified xsi:type="dcterms:W3CDTF">2013-12-24T05:07:57Z</dcterms:modified>
  <cp:revision>14</cp:revision>
  <dc:subject/>
  <dc:title>Слайд 1</dc:title>
</cp:coreProperties>
</file>