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A14-7BD7-4C6F-A6DD-11D9004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3C0-7C6A-4539-9D5F-17716AC8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665-0170-4429-9BCA-46102DC1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BA1-39AC-45E2-BDFB-F91625A7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EF2-CC47-4AF6-8A25-48EFA89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4F2-CD92-4EE8-B7E9-8239B9B6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7D3-E239-48F9-AD8E-4E4B072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DE6-90C8-42F4-9768-559DC65A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C51-B5EB-4539-A88C-0D4154A3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648-6550-4C37-B433-BD12D5F7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AC7-0CF8-4545-905F-F4BCD69E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5D6-8296-4A17-B1DD-27CA58C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00C-9B40-429A-839D-345757136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4000" y="40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Живи в веках и славься край родимый, Аксуб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0" r="1784" b="0"/>
          <a:stretch/>
        </p:blipFill>
        <p:spPr>
          <a:xfrm>
            <a:off x="2432160" y="1614600"/>
            <a:ext cx="39402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40920" y="2276280"/>
            <a:ext cx="43210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читель физ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культуры высшей квалификационной категории МБ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«Староильдеряк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ОШ» Аксуба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муниципального района Республики Татар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icture"/>
          <p:cNvPicPr/>
          <p:nvPr/>
        </p:nvPicPr>
        <p:blipFill>
          <a:blip r:embed="rId2"/>
          <a:stretch/>
        </p:blipFill>
        <p:spPr>
          <a:xfrm>
            <a:off x="5003640" y="907920"/>
            <a:ext cx="3600720" cy="5113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4" name="Rectangle 4"/>
          <p:cNvSpPr/>
          <p:nvPr/>
        </p:nvSpPr>
        <p:spPr>
          <a:xfrm>
            <a:off x="179280" y="28440"/>
            <a:ext cx="8964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льметкин Владимир Василь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ИМЦ\Desktop\ГЛВ\DSC04349.JPG"/>
          <p:cNvPicPr/>
          <p:nvPr/>
        </p:nvPicPr>
        <p:blipFill>
          <a:blip r:embed="rId2"/>
          <a:stretch/>
        </p:blipFill>
        <p:spPr>
          <a:xfrm>
            <a:off x="971640" y="1349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08000" y="284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Наши земляки достойны нести огонь Универсиады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32000" y="0"/>
            <a:ext cx="65786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01680" y="1052640"/>
            <a:ext cx="8591400" cy="5545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ело Старое Ильдеряк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УЯВ в честь 300-летия дерев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58800" y="944640"/>
            <a:ext cx="772956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654440" y="1197000"/>
            <a:ext cx="3662640" cy="5400720"/>
          </a:xfrm>
          <a:prstGeom prst="rect">
            <a:avLst/>
          </a:prstGeom>
          <a:ln w="15840">
            <a:solidFill>
              <a:srgbClr val="333399"/>
            </a:solidFill>
            <a:miter/>
          </a:ln>
        </p:spPr>
      </p:pic>
      <p:sp>
        <p:nvSpPr>
          <p:cNvPr id="50" name="Text Box 3"/>
          <p:cNvSpPr/>
          <p:nvPr/>
        </p:nvSpPr>
        <p:spPr>
          <a:xfrm>
            <a:off x="539640" y="560232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d2d8a"/>
                </a:solidFill>
                <a:latin typeface="Arial"/>
              </a:rPr>
              <a:t>Председатель колхоза имени Красных героев, первого колхоза- миллионера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Альметкин Дмитрий Никол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имирясов Виталий Гайну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9280" y="537048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Ректор Института экономики, управления и права. Доктор экономических наук, профессор. Академик Международной кадровой академии (Киев), Академии менеджмента и рынка (Москва), Академии гуманитарных наук (Санкт-Петербург), Международной гуманитарной академии «Евр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368360" y="1125360"/>
            <a:ext cx="6156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http://www.aksubayevo.ru/images/stories/images/%D0%92%D0%B8%D1%82%D0%B0%D0%BB%D0%B8%D0%B9%20%D1%84%D0%BE%D1%82%D0%BE%2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1280" y="0"/>
            <a:ext cx="392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Школьный теа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http://www.aksubayevo.ru/images/stories/images/%D0%92%D0%B8%D1%82%D0%BF%D0%BB%D0%B8%D0%B9%20%D1%84%D0%BE%D1%82%D0%BE%201.JPG"/>
          <p:cNvPicPr/>
          <p:nvPr/>
        </p:nvPicPr>
        <p:blipFill>
          <a:blip r:embed="rId2"/>
          <a:stretch/>
        </p:blipFill>
        <p:spPr>
          <a:xfrm>
            <a:off x="4586400" y="260280"/>
            <a:ext cx="401796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87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920" y="260280"/>
            <a:ext cx="388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Студенческие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италия Тимиря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http://www.aksubayevo.ru/images/stories/images/%D0%92%D0%B8%D1%82%D0%B0%D0%BB%D0%B8%D0%B9%20%D1%84%D0%BE%D1%82%D0%BE%202.JPG"/>
          <p:cNvPicPr/>
          <p:nvPr/>
        </p:nvPicPr>
        <p:blipFill>
          <a:blip r:embed="rId2"/>
          <a:stretch/>
        </p:blipFill>
        <p:spPr>
          <a:xfrm>
            <a:off x="1154160" y="1413000"/>
            <a:ext cx="6946920" cy="4653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Виталий со своим другом Юр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1:53:59Z</dcterms:created>
  <dc:creator>Gorbunova</dc:creator>
  <dc:description/>
  <dc:language>en-US</dc:language>
  <cp:lastModifiedBy>Gorbunova</cp:lastModifiedBy>
  <dcterms:modified xsi:type="dcterms:W3CDTF">2013-12-24T05:07:57Z</dcterms:modified>
  <cp:revision>14</cp:revision>
  <dc:subject/>
  <dc:title>Слайд 1</dc:title>
</cp:coreProperties>
</file>